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FB2-D624-4B08-8001-DA30AB6D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7B0-DE1B-4923-980F-EB0B233D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DB0-708A-4E6B-879F-5634D3A2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BA3-156D-48B1-84B2-3E680CC9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AED-0A2D-4D0E-9B0A-FCD1B838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555-020B-40EE-9F51-619816C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E55-34C9-4FFA-9551-9F4CDC09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C4D-CDA4-4C83-8DBA-77D6FE7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C04-41B1-49A2-9395-DEDA3BFF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2D0-2321-427C-B510-1AFB72F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BBC-8A05-455A-BDEE-EEEA6ED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FB3-A469-4D73-A476-25E2390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F3EE-7C0A-4153-A703-77BA7DE36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10666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казатели и методы анали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жордж Греневольд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, N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равнение демографического балан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етод, основанный на концепциях и определениях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новные подходы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грационный статус известен: прямые мет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1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ерекрестные таблицы характеристик миграционного статуса, 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грационный статус неизвестен: косвенные мет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Статистика естественного движения населения или метод разности, 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2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Межпереписной когортно-компонентный метод, 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891540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играционный статус неизвестен: косвенные мет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татистика естественного движения населения или метод разности. Прим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равнение демографического балан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исло родившихс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исло умерших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+(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ммигрант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игрант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Естественный прирост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истая ми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свенная оценк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ценка величины миграции выводится как разность между численностями населения по данным двух последующих  переписей и естественным приростом, имевшим место в межпереписной период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=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установленной или предполагаемой  разности : число родившихся – число умерш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5537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2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ведение оценки чистой миграции при условии, что численность населения известна на два момента времени и известны числа родившихся и умерших в промежутке между этими моментами време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7848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Чистая миграция в страны Евросоюза, 2000 г., на 1000 нас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229600" cy="560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2286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2. 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54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2. 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7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2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жпереписной когортно-компонентный метод и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обходимые данны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ло-возрастная структура по данным двух последующих перепис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переписные таблицы смертности по по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ценка межпереписной рождаемости (повозрастные коэффициенты рождаемости по полу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ли повозрастные коэффициенты рождаемости и соотношение полов при рождении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нц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прогнозировать численность возрастных групп (0-75 лет)  по данным первой переписи в году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не дату второй переписи, используя соответствующие межпереписные таблицы смертност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ля каждого из пятилетних интервалов прогноза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(t,x) × S(x, x+5)=P(t+5,x+5)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де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x=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возрастная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ценить число родившихся в пятилетнем интервале прогноза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 5-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число доживших  из числа родившихся в каждом пятилетнем интервале прогноза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вторить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1. )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2.)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для каждого пятилетнего интервала прогноза и вычесть прогнозируемое населения на момент второй перепис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из учтенного переписью населения для получения оценки чистой миграции в каждой возрастной группе и в цело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=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свенное или остаточное населени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-533520" y="906480"/>
          <a:ext cx="944892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06480"/>
                    <a:ext cx="944892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ис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иаграмма Лексис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ллюстрирующая принцип действия когортно-компонентного метода прогнозир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4581360"/>
            <a:ext cx="525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4437000"/>
            <a:ext cx="5329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оризонтальные оси – г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ертикальные оси  - возра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трелка показывает, как когорта передвигается из одного возраста в друг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апример, 1489 человек  были в возрастной группе 0-4 года в 1981 году, возраста 5-9 достигли только 1462. В течение этого периода  9 человек умерли и 2 составили чистую мигр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Число родившихся в 1981-86 гг. составило 1462 человека,      52 человека умерли  до достижения возраста 4 лет и  и 2 составили чистую миграцию, таким образом численность населения  в возрасте 0-4 года   в1986 г. составила 1412 че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-380880" y="0"/>
          <a:ext cx="9524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0"/>
                    <a:ext cx="9524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80880" y="457200"/>
            <a:ext cx="8229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Шаг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: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лучени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ыбор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ответствующей таблицы смер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3933720"/>
            <a:ext cx="36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Для использования в табл. 3, столбец 3, строки с 4 по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645000"/>
            <a:ext cx="3276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Для использования в табл. 2, последняя строка, столбец, последняя ячейка,( выделена фоном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аг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: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ценка числа родившихся и доживш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 конца прогнозируемого интерв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447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447920"/>
            <a:ext cx="16002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1432080"/>
            <a:ext cx="13716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4999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95640" y="1052640"/>
            <a:ext cx="93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981000"/>
            <a:ext cx="936720" cy="73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ск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-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981000"/>
            <a:ext cx="59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907920"/>
            <a:ext cx="100800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ск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-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907920"/>
            <a:ext cx="115236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репродуктивного возра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836640"/>
            <a:ext cx="10796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зрастные коэфф-ты рождае-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20000" y="1197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981000"/>
            <a:ext cx="1152360" cy="641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е число родивших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аг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3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лучение оценок повозрастных величин чистой миграци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принимая во внимание, что вторая перепись проводится через 5 лет после пер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48560" y="3063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48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сли перепись проводилась 10 лет наза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бавьте еще один прогнозный  интервал, т.е. повторите шаги 2 и 3 для определения численности прогнозируемого  населения 10 лет спустя. Используйте разные коэффициенты рождаемости и смертности,  если они подходя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тот подход может несколько пере – или недооценить описанные выше повозрастные числа чистой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ешени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ссчитать «обратного дожитие» доживших до второй перепис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 дате первой переписи, и из этого прогноза (обратного) вычислить оценку чистой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числить среднюю величину повозрастной чистой миграции из рассчитанной на будущее и обратной  оце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ля когортно-компонентного метода прогнозирования используйте следующее  программное обеспе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PEOP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FiVF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P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LIP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DemPro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PDPM_P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MortPak-L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7650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авнение демографического балан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исло родившихся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исло умерших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+(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мигрант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нт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тественный прирос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истая ми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2852640"/>
          <a:ext cx="74170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74170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1523880"/>
          <a:ext cx="8248680" cy="32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486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62120" y="838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765000"/>
            <a:ext cx="878544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эффициент (интенсивность) выбытия (эмиграции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исло лиц, переехавших из места Х, деленное на среднее число лиц, подвергшихся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эффициент (интенсивность) прибытия (иммиграции):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исло лиц, проживавших в месте Х, но прибывших из других мест, деленное на среднее число лиц, подвергшихся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Чистая миграция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Разность между числом иммигрантов (или прибывших) и числом эмигрантов (или выбывш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амечание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нет единого мнения относительно того, какие совокупности должны  быть в знаменателе в приведенных выше показателях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N, 1970, pp40-42.),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выбор зависит от задачи 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жизненный мигрант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лицо, на момент переписи проживающее вне места своего ро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160" y="181080"/>
            <a:ext cx="83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тод, основанный на концепциях и определе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8088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горта: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руппа индивидов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временно переживших какое-либо демографическое событие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огорты по рождению – родившиеся в одном и том же году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играционная когорта – лица, переехавшие из страны Х в одном и том же году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аблицы смертност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Таблица смертности суммирует повозрастные вероятности смертност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селения в конкретном году или конкретный (межпереписной) период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тдельные Таблицы смертности строятся для мужчин и женщин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лная Таблица смертности может быть выведена (рассчитана) из совокупности (ряда) повозрастных коэффициентов смертности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ве важных производных из Таблиц смертност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(1)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жидаемая продолжительность предстоящей жизни 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2)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возрастные коэффициенты дожи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эффициент дожития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дикатор вероятности дожития лиц в возрастной группе Х  до следующей возрастной группы (Х+5). Коэффициент дожития применяется в когортно-компонентном методе при построении прогнозов численности на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гортно-компонентный метод прогнозирования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тод оценки, построенный на том принципе, что численность и возрастная структура имеющегося населения может быть предсказана на основе возрастного состава в прошлом, если рождаемость, смертность и чистая (международная) миграция в промежуточный период извест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0280"/>
            <a:ext cx="9144000" cy="59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сновные подходы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грационный статус известен: прямой метод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(D)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1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ерекрестные Таблицы характеристик миграционного стат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Место обычного проживания (жительства) / Место рож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(МЖ / М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олько переезды пожизненных мигрантов, нет связи с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фактором врем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начительная недооценка миграций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межуточные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переезды не фиксируются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Место жительства на текущий момент / место жительства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1 или 5 лет назад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                                 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 центре внимания – потоки недавней миг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ООН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комендует – 5 лет назад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проблема памяти в случае с фиксированной датой,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тносящейся к прошло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Место жительства / Место предыдущего проживания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/ Продолжительность прожи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более точный  анализ миграционных когор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 анализ связи    миграции 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азвития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блема памя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429000"/>
            <a:ext cx="1828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есто (обычного) проживания на момент переписи  / место жительства за год до перепи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00280"/>
            <a:ext cx="97164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о жительства год назад (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197000"/>
            <a:ext cx="63723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инция постоянного жительства  на момент (в ночь) переписи в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79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  (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олжение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384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  (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олжение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633240"/>
            <a:ext cx="8686800" cy="558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  (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олжение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4:02:44Z</dcterms:created>
  <dc:creator>orpas</dc:creator>
  <dc:description/>
  <dc:language>en-US</dc:language>
  <cp:lastModifiedBy>user</cp:lastModifiedBy>
  <cp:lastPrinted>2005-02-04T11:41:02Z</cp:lastPrinted>
  <dcterms:modified xsi:type="dcterms:W3CDTF">2005-03-28T06:20:51Z</dcterms:modified>
  <cp:revision>80</cp:revision>
  <dc:subject/>
  <dc:title>No Slide Title</dc:title>
</cp:coreProperties>
</file>