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8E06-4586-4A2A-86D4-53BEDB2FD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AC39-03B4-4EE6-A3C3-14E150575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CCB2-F7B0-4CC9-8356-570A29933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10D6-9F52-41EB-9F13-E4B98C55D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FFFA-F13E-4F65-949F-7F3ADB33E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32A3-07D8-4443-BAFC-24296FE36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FEBA-A620-4E62-8962-C77E7649B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BC65-3EA3-48EC-B19A-30EC70276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C1C0-8549-4735-B023-8A39C3137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83B4-434D-47E9-AC7E-7FA7F7B5C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4B97-5DF8-4C03-9FC0-41A0007B0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7DDA-4B5D-44C1-B396-D19A7D7E9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4D23D-110A-41BE-BECE-45B5227008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95280" y="0"/>
            <a:ext cx="815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UNFPA/UNECE/NIDI Training programme on international migration, Geneva, 24-28/01/200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371600" y="380880"/>
            <a:ext cx="7772400" cy="0"/>
          </a:xfrm>
          <a:prstGeom prst="line">
            <a:avLst/>
          </a:prstGeom>
          <a:ln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0" y="0"/>
          <a:ext cx="1295280" cy="97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1295280" cy="9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0" y="1066680"/>
            <a:ext cx="9144000" cy="56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85640"/>
                <a:tab algn="l" pos="851040"/>
                <a:tab algn="l" pos="151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Analytical Measures and Metho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85640"/>
                <a:tab algn="l" pos="851040"/>
                <a:tab algn="l" pos="151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George Groenewold, NiD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85640"/>
                <a:tab algn="l" pos="851040"/>
                <a:tab algn="l" pos="151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85640"/>
                <a:tab algn="l" pos="851040"/>
                <a:tab algn="l" pos="151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85640"/>
                <a:tab algn="l" pos="851040"/>
                <a:tab algn="l" pos="151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1. 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Demographic Balance Equa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85640"/>
                <a:tab algn="l" pos="851040"/>
                <a:tab algn="l" pos="151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2.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Method  related concepts and defini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85640"/>
                <a:tab algn="l" pos="851040"/>
                <a:tab algn="l" pos="151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3.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Main approache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85640"/>
                <a:tab algn="l" pos="851040"/>
                <a:tab algn="l" pos="151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A. Migration status is known: direct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85640"/>
                <a:tab algn="l" pos="851040"/>
                <a:tab algn="l" pos="151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A.1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Cross-tabulation migration status characteristics and an 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85640"/>
                <a:tab algn="l" pos="851040"/>
                <a:tab algn="l" pos="151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B. Migration status is unknown: indirect method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85640"/>
                <a:tab algn="l" pos="851040"/>
                <a:tab algn="l" pos="151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B.1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Vital Statistics or Residual Method and an examp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85640"/>
                <a:tab algn="l" pos="851040"/>
                <a:tab algn="l" pos="151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B.2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Intercensal Cohort Component Method and an examp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70160" y="2443320"/>
            <a:ext cx="18396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8915400" cy="70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B. Migration status is unknown: indirect 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B.1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Vital Statistics or Residual Method and an example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emographic Balance Eq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(t+1)= P(t)+Births-Deaths+(Immigrants-Emigrants), or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(t+1)= P(t)+Natural Increase+Net Mig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o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Net Migration=P(t+1) - (P(t)+Natural Increa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ndirect estimation: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igration estimate derived as ‘residual’ from two subsequent census populations and intercensal natural increase (=recorded or estimated intercensal births-death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8229600" cy="55371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0" y="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04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Table 2.</a:t>
            </a: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Derivation of net migration estimates if population figures at two </a:t>
            </a: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points in time are known and numbers of births and deaths are </a:t>
            </a: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known between these points in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04920" y="914400"/>
            <a:ext cx="8229600" cy="56037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228600" y="22860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Table 2. 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28600" y="990720"/>
            <a:ext cx="8610480" cy="55404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228600" y="30492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Table 2. 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0"/>
            <a:ext cx="9144000" cy="69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8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B.2 Intercensal Cohort Component Method and an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Arial"/>
              <a:buChar char="•"/>
              <a:tabLst>
                <a:tab algn="l" pos="38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ata needs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38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- Age distributions by sex of two consecutive censu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38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- intercensal life-tables by sex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38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- Estimate of intercensal fertility (ASFR by sex, or ASFR and sex ratio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at bir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Arial"/>
              <a:buChar char="•"/>
              <a:tabLst>
                <a:tab algn="l" pos="38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princi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38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oject age groups (0-75 years) in first census, in year t, to the date of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e second census using appropriate intercensal life tables for each 5-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year projection interva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38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(t,x) × S(x, x+5)=P(t+5,x+5), where x=age-grou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38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stimate births in 5-year projction interval and project number of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urviving births in each 5-year projection interv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38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3.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peat (1. ) and (2.) for each five-year projection interval and substract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e projected population at the time of the second census from the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bserved census population to obtain age specific and total net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igration estimate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(=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indirect or residual estimation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-533520" y="906480"/>
          <a:ext cx="9448920" cy="5951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533520" y="906480"/>
                    <a:ext cx="9448920" cy="595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"/>
          <p:cNvSpPr/>
          <p:nvPr/>
        </p:nvSpPr>
        <p:spPr>
          <a:xfrm>
            <a:off x="0" y="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23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igure 1.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exis-diagram, illustrating the principle of Cohort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onent Proje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-380880" y="0"/>
          <a:ext cx="9524880" cy="685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80880" y="0"/>
                    <a:ext cx="952488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380880" y="457200"/>
            <a:ext cx="82296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tep 1: derivation/selection of an appropriate life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ep 2: Estimation of Births and births surviving projection interv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696080" y="14479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543800" y="1447920"/>
            <a:ext cx="1600200" cy="54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001000" y="1432080"/>
            <a:ext cx="1371600" cy="54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772400" y="1523880"/>
            <a:ext cx="1371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239240" cy="499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22860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ep 3: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erivation of age-specific net-migration estimates, assuming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at second census is five-years later than first cens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807696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60480"/>
            <a:ext cx="9144000" cy="77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Arial"/>
              <a:buChar char="•"/>
              <a:tabLst>
                <a:tab algn="l" pos="38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If census is 10 years apart, add another projection interval, I.e. repeat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steps 2 and 3 to determine projected population 10 years later. Use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different fertility and/or mortality rates if appropriate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Arial"/>
              <a:buChar char="•"/>
              <a:tabLst>
                <a:tab algn="l" pos="38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This approach may slightly over- or underestimate the above age-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specific net migration nu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38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Arial"/>
              <a:buChar char="•"/>
              <a:tabLst>
                <a:tab algn="l" pos="38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Solution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38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Reverse survive the survivors observed in the second census to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the date of the first census and derive estimate of net number of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migrants from that projec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38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Average the forward and reverse-survived estimate of age-specific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net mig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38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Arial"/>
              <a:buChar char="•"/>
              <a:tabLst>
                <a:tab algn="l" pos="38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For Cohort Component Projections, use software, e.g.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38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- PEOPLE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-FiVFi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38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- PAS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-LIP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38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- DemProj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- PDPM_PC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- MortPak-L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38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38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57200" y="2057400"/>
            <a:ext cx="8153280" cy="44546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28600" y="304920"/>
            <a:ext cx="86104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. The Demographic Balance Eq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(t+1)= P(t)+Births-Deaths+(Immigrants-Emigrants), or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(t+1)= P(t)+Natural Increase+Net Mig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533520" y="1523880"/>
          <a:ext cx="8248680" cy="3202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523880"/>
                    <a:ext cx="8248680" cy="320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762120" y="838080"/>
            <a:ext cx="449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Suggested literatu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914400"/>
            <a:ext cx="883908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ut-migration (emigration)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rat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number of persons that moved out of place X divided by the average number of persons that were exposed to mig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-migration (immigration) rate: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number of persons that live in place x, but originated from elsewhere, divided by the average number of persons that were exposed to mig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et migration: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t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he difference between the number of immigrants (or in-migrants) and the number of emigrants (or out-migrant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Note: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no concensus about which persons should be in the denominator i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the above measures (UN, 1970, pp40-42.), depends on research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question which one to choo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ifetime migrant: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s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omeone who at the time of the census lives away from his/her place of bir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-2880" y="181080"/>
            <a:ext cx="636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2. Method related concepts and defin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380880"/>
            <a:ext cx="914400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Cohort 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A cohort is a group of individuals experiencing the same demographic (vital) event. Birth cohort=persons born in the same year. Migration cohort=persons who emigrated from country X in the same ye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ife table.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A life-table summarizes the (age specific)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mortality experience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in a population in a particular year or particular (intercensal) period. Separate life tables are constructed for men and women. A full life-table can be derived from a set of Age Specific Mortality Rates (ASMR’s). Two important products of the life table are: (1) the life expectancy at birth and (2) age-specific survival ratio’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Survival Ratio.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Indicator for the probability of surviving of persons in a particular age-group X to the next higher age-group X+5. Survival ratio’s are used in cohort component projections of the pop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Cohort Component Projection Method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. Estimation method that builds on the principle that the size and age-structure of the current population can be predicted from an age distribution in the past if interperiod births, deaths and net numbers of (international) migrants are know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9144000" cy="69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385920"/>
                <a:tab algn="l" pos="770040"/>
                <a:tab algn="l" pos="1338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3. Main approaches: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385920"/>
                <a:tab algn="l" pos="770040"/>
                <a:tab algn="l" pos="1338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A. Migration status is known: direct method (D)</a:t>
            </a:r>
            <a:r>
              <a:rPr b="1" lang="en-GB" sz="2000" spc="-1" strike="noStrike" u="sng">
                <a:solidFill>
                  <a:srgbClr val="000066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85920"/>
                <a:tab algn="l" pos="770040"/>
                <a:tab algn="l" pos="1338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A.1 Cross-tabulation of migration status characteristic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66"/>
              </a:buClr>
              <a:buFont typeface="Arial"/>
              <a:buChar char="•"/>
              <a:tabLst>
                <a:tab algn="l" pos="385920"/>
                <a:tab algn="l" pos="770040"/>
                <a:tab algn="l" pos="1338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Place of Usual Residence (POR) by Place of Bir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385920"/>
                <a:tab algn="l" pos="770040"/>
                <a:tab algn="l" pos="1338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-life time migration moves only, not time-specif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385920"/>
                <a:tab algn="l" pos="770040"/>
                <a:tab algn="l" pos="1338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-severe underestimation  migration moves (intermediate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estinations not record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66"/>
              </a:buClr>
              <a:buFont typeface="Arial"/>
              <a:buChar char="•"/>
              <a:tabLst>
                <a:tab algn="l" pos="385920"/>
                <a:tab algn="l" pos="770040"/>
                <a:tab algn="l" pos="1338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POR by POR 1 or 5 years ago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385920"/>
                <a:tab algn="l" pos="770040"/>
                <a:tab algn="l" pos="1338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-focus on recent migration flow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385920"/>
                <a:tab algn="l" pos="770040"/>
                <a:tab algn="l" pos="1338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-UN recommends 5 years ag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385920"/>
                <a:tab algn="l" pos="770040"/>
                <a:tab algn="l" pos="1338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-recall problem with fixed reference d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66"/>
              </a:buClr>
              <a:buFont typeface="Arial"/>
              <a:buChar char="•"/>
              <a:tabLst>
                <a:tab algn="l" pos="385920"/>
                <a:tab algn="l" pos="770040"/>
                <a:tab algn="l" pos="1338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POR by Place of Previous Residence by Duration of Resid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385920"/>
                <a:tab algn="l" pos="770040"/>
                <a:tab algn="l" pos="1338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-refined migration cohort analysis, and migration and development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385920"/>
                <a:tab algn="l" pos="770040"/>
                <a:tab algn="l" pos="1338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- recall 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0" y="3505320"/>
            <a:ext cx="182880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1192320"/>
            <a:ext cx="9144000" cy="41148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0" y="22860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150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Table 1.</a:t>
            </a: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Place of (usual) residence at time of census by Place of </a:t>
            </a: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residence 1 year a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37958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0" y="22860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Table 1.  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1501920"/>
            <a:ext cx="9144000" cy="38480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0" y="22860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Table 1.  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28600" y="633240"/>
            <a:ext cx="8686800" cy="55897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28600" y="22860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Table 1.  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7T14:02:44Z</dcterms:created>
  <dc:creator>orpas</dc:creator>
  <dc:description/>
  <dc:language>en-US</dc:language>
  <cp:lastModifiedBy>George Groenewold</cp:lastModifiedBy>
  <cp:lastPrinted>2005-02-04T11:41:02Z</cp:lastPrinted>
  <dcterms:modified xsi:type="dcterms:W3CDTF">2005-02-04T13:22:15Z</dcterms:modified>
  <cp:revision>68</cp:revision>
  <dc:subject/>
  <dc:title>No Slide Title</dc:title>
</cp:coreProperties>
</file>