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A44-D741-4783-9BC4-80F540BF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2B7-C836-4DCD-9BBB-231AAFE5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909-20E6-4A23-9D65-39B1271F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FE7-EC9A-46F2-8739-A95CED05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7AA-A8FA-434F-AB07-3912D2AF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A6F-535D-4E82-9D36-D5D40D65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1B5-0521-4D3D-BD7F-EB188860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230-524F-457C-B428-FF898921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283-428B-4423-8698-540917CA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590-91C6-4E0D-9E14-A8E3C899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8D4-F21F-4A4C-9DBB-731BAE9F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9B3-DA93-4A34-B2D7-DF95EBF7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6800-4503-43F9-850F-7D8FCD259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0" y="1066680"/>
            <a:ext cx="9144000" cy="56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alytical Measures and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George Groenewold, N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1.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mographic Balance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ethod  related concepts and defin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ain approach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. Migration status is known: direct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.1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ross-tabulation migration status characteristics and an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. Migration status is unknown: indirect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.1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Vital Statistics or Residual Method and an ex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.2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Intercensal Cohort Component Method and an ex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891540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. Migration status is unknown: indirect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.1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Vital Statistics or Residual Method and an example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mographic Balanc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(t+1)= P(t)+Births-Deaths+(Immigrants-Emigrants), 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(t+1)= P(t)+Natural Increase+Net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 Migration=P(t+1) - (P(t)+Natural Incr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direct estimation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gration estimate derived as ‘residual’ from two subsequent census populations and intercensal natural increase (=recorded or estimated intercensal births-deat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537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able 2.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Derivation of net migration estimates if population figures at two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ints in time are known and numbers of births and deaths ar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known between these points i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229600" cy="5603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2286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able 2.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540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3049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able 2.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.2 Intercensal Cohort Component Method and a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a need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Age distributions by sex of two consecutive cens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intercensal life-tables by se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Estimate of intercensal fertility (ASFR by sex, or ASFR and sex rati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at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ject age groups (0-75 years) in first census, in year t, to the date of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second census using appropriate intercensal life tables for each 5-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ar projection interv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(t,x) × S(x, x+5)=P(t+5,x+5), where x=age-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timate births in 5-year projction interval and project number of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rviving births in each 5-year projection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eat (1. ) and (2.) for each five-year projection interval and substrac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projected population at the time of the second census from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served census population to obtain age specific and total n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gration estimat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ndirect or residual estima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-533520" y="906480"/>
          <a:ext cx="9448920" cy="59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06480"/>
                    <a:ext cx="9448920" cy="59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gure 1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xis-diagram, illustrating the principle of Cohor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onent Pro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-380880" y="0"/>
          <a:ext cx="9524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0"/>
                    <a:ext cx="9524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380880" y="457200"/>
            <a:ext cx="8229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1: derivation/selection of an appropriate lif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 2: Estimation of Births and births surviving projection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1447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43800" y="1447920"/>
            <a:ext cx="16002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1432080"/>
            <a:ext cx="13716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1523880"/>
            <a:ext cx="1371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 3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rivation of age-specific net-migration estimates, assum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 second census is five-years later than first cen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0480"/>
            <a:ext cx="9144000" cy="77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f census is 10 years apart, add another projection interval, I.e. repeat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eps 2 and 3 to determine projected population 10 years later. Us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fferent fertility and/or mortality rates if appropriat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is approach may slightly over- or underestimate the above age-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ecific net migration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olu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erse survive the survivors observed in the second census to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date of the first census and derive estimate of net number of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grants from that proj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erage the forward and reverse-survived estimate of age-specific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et 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Cohort Component Projections, use software, e.g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 PEOPL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FiVF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 PA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LIP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 DemProj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 PDPM_PC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 MortPak-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153280" cy="4454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304920"/>
            <a:ext cx="8610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The Demographic Balanc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(t+1)= P(t)+Births-Deaths+(Immigrants-Emigrants), 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(t+1)= P(t)+Natural Increase+Net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3520" y="1523880"/>
          <a:ext cx="8248680" cy="320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248680" cy="32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762120" y="8380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uggested lit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-migration (emigration)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a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number of persons that moved out of place X divided by the average number of persons that were exposed to 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-migration (immigration) rat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number of persons that live in place x, but originated from elsewhere, divided by the average number of persons that were exposed to 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 migration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e difference between the number of immigrants (or in-migrants) and the number of emigrants (or out-migra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Note: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no concensus about which persons should be in the denominator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he above measures (UN, 1970, pp40-42.), depends on researc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question which one to cho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fetime migrant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s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meone who at the time of the census lives away from his/her place of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2880" y="181080"/>
            <a:ext cx="63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2. Method related concepts and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8088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hort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 cohort is a group of individuals experiencing the same demographic (vital) event. Birth cohort=persons born in the same year. Migration cohort=persons who emigrated from country X in the same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fe table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 life-table summarizes the (age specific)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ortality experien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a population in a particular year or particular (intercensal) period. Separate life tables are constructed for men and women. A full life-table can be derived from a set of Age Specific Mortality Rates (ASMR’s). Two important products of the life table are: (1) the life expectancy at birth and (2) age-specific survival ratio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urvival Ratio.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ndicator for the probability of surviving of persons in a particular age-group X to the next higher age-group X+5. Survival ratio’s are used in cohort component projections of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hort Component Projection Method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 Estimation method that builds on the principle that the size and age-structure of the current population can be predicted from an age distribution in the past if interperiod births, deaths and net numbers of (international) migrants are kn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3. Main approaches: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. Migration status is known: direct method (D)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.1 Cross-tabulation of migration status character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lace of Usual Residence (POR) by Place of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life time migration moves only, not time-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severe underestimation  migration moves (intermediat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tinations not recor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OR by POR 1 or 5 years ago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focus on recent migration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UN recommends 5 years a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recall problem with fixed referenc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OR by Place of Previous Residence by Duration of Res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refined migration cohort analysis, and migration and developmen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- recall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505320"/>
            <a:ext cx="1828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19232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able 1.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lace of (usual) residence at time of census by Place of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residence 1 year 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795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able 1. 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501920"/>
            <a:ext cx="9144000" cy="3848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able 1. 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633240"/>
            <a:ext cx="8686800" cy="5589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able 1. 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4:02:44Z</dcterms:created>
  <dc:creator>orpas</dc:creator>
  <dc:description/>
  <dc:language>en-US</dc:language>
  <cp:lastModifiedBy>George Groenewold</cp:lastModifiedBy>
  <cp:lastPrinted>2005-02-04T11:41:02Z</cp:lastPrinted>
  <dcterms:modified xsi:type="dcterms:W3CDTF">2005-02-04T13:22:15Z</dcterms:modified>
  <cp:revision>68</cp:revision>
  <dc:subject/>
  <dc:title>No Slide Title</dc:title>
</cp:coreProperties>
</file>