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57B1-12E3-4A98-85AA-04A59A8F3CC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31AC-508C-491D-873C-D9CDBCC42B9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8A4B-6AC4-49B0-88C0-1BC4F3DDE85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D745-92D3-4258-8C5C-4071674CBC1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6A03-A907-4063-A902-59A316E02BE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6BB4-CDB6-4361-BE0E-ADB37063857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AE80-D044-42C9-85F2-9B0BB8BD690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C837-7BDE-416F-90E8-2C9E171048C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AB55-073C-44FF-9209-CFDFCB0A762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404C-830B-4E32-B464-C734BD7541C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E430-1487-4036-88D9-90E2C760EE5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7A19-19CC-404A-9F21-51A3164ADF7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74D9-95B4-438C-9E0E-7AEF20C1746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99A8-0E20-490A-BDFC-DED89BFCB2D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08C3-3EC1-4551-AE8A-FF35FC69001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6890-D0D6-45CD-9D74-AB64A5A57F0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FB4C-AA10-4D4E-98C3-3F3B85DE0F0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918D-E465-4D1B-804B-48F2F9C2873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4C92-00BE-4ED5-9261-A2F57E063B7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740B-272C-4485-B1C7-84171F63F14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37CF-0306-4858-AD61-FC3A3C302BF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8154-554E-4DD7-84E8-243425E6174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808D-5D2A-4088-A8E9-1BA1A80B08F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3D8B-4492-4A2D-8858-37760AE345B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9675-EBB0-48A1-B3E1-1BD222CCA5D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90AC-A621-43ED-B3DA-58709BB9BFE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1B5D-C6F5-460B-AFA5-EA70019081A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62E2-3F8F-4D31-9818-C2E041FA134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B2B0-26E3-4A08-8C58-5CF3D9E4385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D258-6DBC-4D25-B719-ACEE9370328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1F34-8FA0-49AC-9380-B5CFA9C5C36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61FF-0EE5-48B1-B87F-825CE0235F6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E010-76DC-4D94-8FD5-2A1E5F6817E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2209680"/>
            <a:ext cx="70866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Последствия миграции для стран выхода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Жанет Скурл,</a:t>
            </a: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 NIDI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9907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РЕДА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26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января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аседание 2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оследствия миграции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899640" y="2209680"/>
            <a:ext cx="8015400" cy="40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енежные переводы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’ 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збирательны по природе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ранснациональная деятельность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эффект на местном уровне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Перемещение квалификации и знаний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циальное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/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политическое влияние мигрантов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Выпускной клапан» 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в некоторой степени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при недостатке рабочих мест и связанным с этим общественным беспокойством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9907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Положительные последствия 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(</a:t>
            </a: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трудовой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) </a:t>
            </a: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миграции для развития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Утечка умов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отеря человеческого капитала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ключая высококвалифицированных специалистов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отери инвестиций в образование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оциальные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разрыв семейных связей,  разрушение семейной жизни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Экспорт рабочей силы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чувствителен к экономическим колебаниям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нфляционное влияние на местные экономики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Рост неравенств на местах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озникновение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«традиции  миграции»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8380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Отрицательные последствия 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 (</a:t>
            </a: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трудовой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) </a:t>
            </a: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миграции для развития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826920" y="837720"/>
            <a:ext cx="806616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войственные причины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 --&gt;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войственные инструменты политики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окращение протекционистской политики в области торговл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тимулирование </a:t>
            </a:r>
            <a:r>
              <a:rPr b="0" i="1" lang="ru-RU" sz="2200" spc="-1" strike="noStrike">
                <a:solidFill>
                  <a:srgbClr val="ffff99"/>
                </a:solidFill>
                <a:latin typeface="Arial"/>
              </a:rPr>
              <a:t>или 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держивание эмиграции 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денежные переводы, утечка умов,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наращивание потенциала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рограммы возвратной миграци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миграция занятости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;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заключение (размещение) контрактов на выполнение работы за рубежом.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оздание рабочих мест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хорошее управление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облюдение прав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человека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принятие во внимание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отенциально порождающий миграцию  эффект 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рограмм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развития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 т.ч.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Процессы социального раскола и демократизации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 т.ч.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ием беженцев на локальном / региональном уровнях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6934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Последствия для стран происхождения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отеря человеческого капитал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енежные перевод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Последствия для стран прибытия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авление на ресурсы / местную экономику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обретение человеческого капитал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онкуренция, проблемы интеграци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762120"/>
            <a:ext cx="85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Миграция беженцев и лиц, ищущих убежище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арианты политики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88"/>
              </a:spcBef>
              <a:spcAft>
                <a:spcPts val="488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Превентивная политика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тимулирование хорошего управления, соблюдения прав человека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оцесс демократизации может стимулировать миграцию (выбытие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отрудничество в области развития часто было сосредоточено на странах с хорошим управлением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гуманитарная помощь нацелена на страны с кризисной ситуацией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99072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Миграция беженцев и лиц, ищущих убежище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арианты политики</a:t>
            </a:r>
            <a:r>
              <a:rPr b="0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рием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/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защита на территории региона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 (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временно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‘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3 надежных решения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’: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репатриация, интеграция на местах,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ереселение в третью страну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 настоящее время предпочтительна репатриация,  однако, интеграция на местах имеет тенденцию быть фактической практикой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ограммы развития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/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ем в соседних странах может привлечь еще больше (дополнительных)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игрантов / беженце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13712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66"/>
                </a:solidFill>
                <a:latin typeface="Arial"/>
              </a:rPr>
              <a:t>Денежные переводы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66"/>
                </a:solidFill>
                <a:latin typeface="Arial"/>
              </a:rPr>
              <a:t>Инвестиции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 частности: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ддержка инициатив местного развития с помощью мигрантских организаций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66"/>
                </a:solidFill>
                <a:latin typeface="Arial"/>
              </a:rPr>
              <a:t>Перемещение знаний и опыта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 частности: привлечение мигрантов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 участию в программах развит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66"/>
                </a:solidFill>
                <a:latin typeface="Arial"/>
              </a:rPr>
              <a:t>Политическая мобилизация, лоббирование</a:t>
            </a:r>
            <a:r>
              <a:rPr b="0" lang="en-GB" sz="2600" spc="-1" strike="noStrike">
                <a:solidFill>
                  <a:srgbClr val="ffff66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игрантские организации в диаспоре в качестве «эмиссаров»  развития</a:t>
            </a:r>
            <a:r>
              <a:rPr b="0" lang="nl-NL" sz="22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685800"/>
            <a:ext cx="79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Диаспора: роль мигрантских сообществ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спользование переводов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асходы на ежедневное потреблени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уплата долгов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асходы на жиль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образовани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медицинские расход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требительские товары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оизводственная деятельность, инвести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финансирование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онфликтов, сопряженных с насилие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ностранная валюта  чрезвычайно важна для баланса платежей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днако, в то же время она усиливает инфляцию и  зависимость от импорта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914400"/>
            <a:ext cx="45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Денежные переводы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00000" y="141300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Аспекты политики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траны эмиграции заинтересованы в продолжающейся  материальной зависимости /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обязательствах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мигрантов: 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олитика возвращения и репатриации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а также политика ужесточения правил приема ослабляют основу для переводов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Использование переводов не обязательно соответствуют целям Программы помощи государственному развитию (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Official development assistance -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ODA)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Функционирование транснациональных сообществ  может находиться в противоречии  с политикой интеграции в странах иммиграци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765000"/>
            <a:ext cx="66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Денежные переводы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лияние возвращения на развитие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квалификация, способности (компетенция)</a:t>
            </a: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фаза жизни мигранта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социальная, экономическая и институциональная поддержка </a:t>
            </a: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/ </a:t>
            </a: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контекст в стране возвращения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беженцы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политический климат для урегулирования ситуаци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ациональные власти, как правило, проявляют ограниченный интерес к стимулированию возвращения собственных граждан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это подрывает продолжение поступления переводов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4"/>
              </a:spcBef>
              <a:spcAft>
                <a:spcPts val="388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усиливает давление на местные рынки труда</a:t>
            </a: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олитика возвращения чаще всего инициируется странами иммиграции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762120"/>
            <a:ext cx="58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Возвратная миграция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Демографические последствия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Рост населения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Несмотря на значительное отрицательное сальдо миграции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большинство стран, отдающих мигрантов, характеризуются демографическим ростом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Пример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Ближний Восток, Северная Африка, страны Залива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(MENA-20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00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316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иллионо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25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492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иллион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50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638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иллионо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Управление или сокращение потоков миграции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рудовой мигра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играции в поисках убежищ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опутствующей миграци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брачная миграция и воссоединение семь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орговля людьми и контрабанда людей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/ ‘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елегальная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’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миграц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тимулирование временной миграции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озвращени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тимулирование  интеграции «постоянных» мигрантов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0666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Цель миграционной политики / управления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239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ак примирить конфликтующие интересы 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траны иммиграции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страны эмиграции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мигранты-индивиды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рограмма помощи государственному развитию (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DA)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ротив политики приема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ля политики существует множество вариантов и возможностей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но миграцией трудно «управлять», поскольку она формирует часть долгосрочного процесса развития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ледовательно,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 процессе разработки (определения) политики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акже важнейшим  является взгляд на долгосрочную перспективу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157400"/>
            <a:ext cx="55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илеммы политики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1600200"/>
            <a:ext cx="7086600" cy="24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Последствия миграции для стран миграционного притока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400" y="1523520"/>
            <a:ext cx="6324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Типы последствий</a:t>
            </a:r>
            <a:r>
              <a:rPr b="0" i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Демографические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Экономические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Социальные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Демографические последствия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Рост населения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Чистая миграция в значительной степени способствует росту населения во многих странах прибытия.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Она отодвигает тот    момент, когда население Европы и Японии начнет сокращаться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15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Потоки чистой миграции в странах Европейского Союза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  2000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г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15400" cy="5410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40000" y="1125360"/>
            <a:ext cx="93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Старение населения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играция способствует замедлению процесса старения в принимающих странах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Однако она не предотвращает старения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ммигранты тоже стареют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численность иммигрантов слишком мал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8153280" cy="58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ценарии ООН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(2000)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, основанные на прогнозах численности населения 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1998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года для 8 стран с низкой рождаемостью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Франция, германия, Италия, Япония, Респ. Корея, Российская Федерация, Соединенное Королевство и США) и двух регионов (страны Европейского Союза и Европа), показывают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1998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редний вариант прогноза)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везде начнется сокращение численности населения до 2050 года, за исключением США,  и повсеместно старение будет происходить быстро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и отсутствии миграции это произойдет еще быстре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ля поддержания неизменной численности населения, численности трудовых ресурсов или возрастной структуры, потребуется очень большой объем чистой иммиграции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143000" y="600120"/>
          <a:ext cx="7924680" cy="625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00120"/>
                    <a:ext cx="7924680" cy="62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187280" y="692280"/>
            <a:ext cx="7272360" cy="6426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Сценарии ООН по замещающей миграции. Среднегодовые объемы чистой миграции (1995-2050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76183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емографическая ситуация в Восточной Европе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на Балканах, в Турции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и Центральной Азии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ВЕЦА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-20)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ходна с ситуацией в  25 странах Евросоюза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ля стран ВЕЦА в целом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начало сокращения населения ожидается  к 2025 году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особенно в большинстве Балканских стран, в РФ и Украине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Демографические последствия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5640" y="1676520"/>
            <a:ext cx="772308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Сокращение численности населения</a:t>
            </a: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Некоторые из стран Восточной Европы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по меньшей мере в ближайшей перспективе , столкнутся одновременно и с  демографическим спадом, и с отрицательной чистой миграцией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усиливающей негативное влияние старения и сокращение численности населения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Экономические последствия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Экономика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--&gt;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играция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Потенциальные мигранты привлечены экономическим и перспективами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играция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--&gt;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экономика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Ведет ли миграция к замещению (вытеснению) местных работников на рынке труда и к более низким зарплатам?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Какими будут последствия для общественной финансовой системы?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Источник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: UN, World Economic and Social Survey, 2004; Ederveen 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., 2004)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Влияние иммиграции на рынок труда: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сследования показывают, что это влияние варьирует в зависимости от страны, группы иммигрантов и уровня образования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Миграция повышает уровень предложение труда и экономический результат 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«иммиграционный прирост»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ак результат возросшей конкуренции, зарплаты сократились, но влияние этого обстоятельства весьма умеренное.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меется мало подтверждений тому, что иммиграция будет влиять на уровень безработицы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Влияние иммиграции на национальные финансы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52480"/>
            <a:ext cx="87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Может ли миграция смягчить финансовые последствия старения?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 среднем, при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дсчете по времени жизни,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игранты вносят вклад больший, нежели на них расходуется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средств,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асходы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 период их юности несла страна происхождения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о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а это влияют различия в уровне безработицы – влияние положительное в Испании, отрицательное в Нидерландах,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 большинстве исследований отмечается положительное влияние миграции на национальные финан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роблемы политики</a:t>
            </a: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Улучшение экономической интеграции мигрантов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сокращение риска безработицы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Факторы, оказывающие влияние на безработицу среди иммигрантов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 т.ч.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образование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знание иностранных языков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организация государства всеобщего благосостояния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дискриминация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94920" y="1371600"/>
            <a:ext cx="617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Миграция и развитие</a:t>
            </a:r>
            <a:r>
              <a:rPr b="0" i="1" lang="en-GB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играция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азвитие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азвитие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играция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16000" y="1371600"/>
            <a:ext cx="757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тагнация экономического роста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Aft>
                <a:spcPts val="488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Бедность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Aft>
                <a:spcPts val="488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Быстрый рост населения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Безработица и неполная занятость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Неравномерное распределение богатства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Давление  на сельскохозяйственные и прочие ресурсы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Глобализация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Плохое управление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 /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нарушение прав человека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Конфликты с применением насилия и дефицит безопасности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Традиция миграции (в отдающих странах)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7621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Причины миграции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: </a:t>
            </a: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многообразные и сложные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отивы миграции индивидов часто представляют собой комплекс мотивов добровольного и вынужденного характера, которые невозможно отделить от влияния  структурных условий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роме того, процесс принятия решения о миграции осуществляется с участием и самого индивида, и членов ее/его семьи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ногомерный процесс, посредством которого достигаются:      более сбалансированное распределение богатства / процветания,  лучшие возможности для обозримого будущего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окращение бедност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 снижение уровня неопределенности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следствия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Усиливает  индивидуальные возможности миграци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о: является причиной того, что меньшее число людей захочет или будет вынуждено мигрировать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9144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Что такое развитие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?</a:t>
            </a:r>
            <a:r>
              <a:rPr b="1" lang="nl-NL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Ранние стадии развития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возможности мигрировать доступны немногим (велики материальные и нематериальные затраты)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редние стадии развития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рост ожиданий, но, по-прежнему недостаточные возможности для их реализации в своей стране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усиление масштабов миграции, т.к. все большее число людей могут позволить себе затраты на нее.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Поздние стадии развития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 ростом возможностей построения жизнеспособного будущего в своей стране потребность в миграции сокращается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Процесс развития и миграция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740800" cy="55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Утечка умов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широко изучалась в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1960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-1970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-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и вновь привлекает внимание сегодня в качестве проблемы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 частност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огласно результатам исследования, проведенного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OECD : 20-30%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сех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рачей-терапевтов в США, Канаде и  Соединенном Королевстве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олучили образование за рубежом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Развивающиеся страны поставляют около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56%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сех врачей-мигрантов, а получают лишь менее 11 %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Утечка умов из России означает значительное субсидирование бюджетов наиболее развитых стран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Малаха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2002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Приток умов</a:t>
            </a:r>
            <a:r>
              <a:rPr b="0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: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жидание возможностей, которые дает миграция, может стимулировать формирование человеческого капитала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Поскольку лишь немногие мигрируют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человеческий капитал и экономический рост страны в целом могут выиграть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Трудовая миграция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:</a:t>
            </a: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user</cp:lastModifiedBy>
  <cp:lastPrinted>2004-02-25T07:11:58Z</cp:lastPrinted>
  <dcterms:modified xsi:type="dcterms:W3CDTF">2005-04-27T11:31:24Z</dcterms:modified>
  <cp:revision>349</cp:revision>
  <dc:subject>BuZa werkconferentie 25-02-2004</dc:subject>
  <dc:title>OS en migratie</dc:title>
</cp:coreProperties>
</file>