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47720"/>
            <a:ext cx="491976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3C93-3141-4EED-B234-BD086E639A7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881B-B971-4F6A-AF78-B26241175B0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F2F8-47BC-4493-8BFE-04D5A9964B3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131F-2714-4AE2-A95F-05A3FB02C6A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B0C6-FA97-4E29-AC06-2617BCCF7A4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B35A-B28E-499B-9180-42BD4DF8710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EB85-AF50-44CC-8FD0-BAAE73FC6ED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ED8D-7073-4A7F-9A9B-45E4DBAAFBF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4087-B96E-4F4F-9259-B8A41C3A38B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7BDF-6D99-4B6E-970E-9CF65B1C371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B22E-FC5B-439D-84D4-E97688E1732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2173-E4DF-4A71-BA60-D460911F343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0F0D-EA8E-4593-AE6E-EB7267B60E5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C39B-6D14-4B6A-B2FD-12809178FC1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FA43-F077-44DE-BA9D-D4E7D830B38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55BB-C9C7-4739-8DD4-E347DB8FBCA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1900-5BBA-4A81-B984-FD3CAAB29CF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962B-A8C3-485A-BE15-2949248D517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A634-C91C-4303-BF29-9F758F14129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5DED-E252-4761-AE5D-D2D81A39DC4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259B-E294-4208-965F-373A04A0AF2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F5B6-077E-4705-899D-8170647743F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39A1-00E9-4237-87DB-777F4F63E9D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B413-EF90-4E32-8AA3-6C8A79551F7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B699-7D62-405F-8443-5D673E4B679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5183-2C7B-4F3B-AAD6-B8D2D27284D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C352-7C5D-413D-A230-1E0DA4850E7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FED2-679C-4430-8823-6DFE62C32F4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33AD-9365-4967-9E6B-F02AD1F39C7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5327-CE86-4346-9BDF-34D99492BF2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AFF8-BA67-4C5E-AE83-44770A3919E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9F9F-915C-41B7-BB14-F2EBA6917B0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BE12-A9C5-452E-B19A-3D20E06F542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533520"/>
            <a:ext cx="769644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" name="nidilogt1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109836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19320" y="15228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66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2209680"/>
            <a:ext cx="70866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Consequences of migration for countries of out-migration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Jeannette Schoorl, NIDI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9907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EDNESDAY January 26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ssion 2: Consequences of migratio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837720" y="22096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Remittances’ (but selective in nature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Transnational activities (local effects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Transfer of skills and knowledg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Social / political influence of migrant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scape valve (to some extent) for lack of employment opportunities and associated social unres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9907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Positive consequences of (labour) migration for development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Brain drain (loss of human capital, incl. highly skilled; loss of investment in education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Social: disruption of family lif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xport of labour: sensitive to economic fluctuation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flationary effects on local economi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crease of local inequaliti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mergence of a ‘culture of migration’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8380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Negative consequences of (labour) migration for development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Dual causes --&gt; dual policy instruments: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reducing protectionist trade policie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stimulating </a:t>
            </a:r>
            <a:r>
              <a:rPr b="0" i="1" lang="en-GB" sz="2600" spc="-1" strike="noStrike">
                <a:solidFill>
                  <a:srgbClr val="ffff99"/>
                </a:solidFill>
                <a:latin typeface="Arial"/>
              </a:rPr>
              <a:t>or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 curbing emigration (remittances; brain drain; capacity building)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return migration programme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migration of employment; out-sourcing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employment creation; good governance; human rights: taking into account the potentially migration generating effects of development (projects).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E.g. social disruption &amp; democratisation process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e.g. local / regional reception of refuge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6934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Consequences for country of origin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loss of human capita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mittanc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Consequences for country of destination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pressures on resources / local econom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gain of human capita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mpetition, problems of integra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7621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Migration of refugees and asylum seeker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Policy options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spcAft>
                <a:spcPts val="561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preventive policies (stimulation of good governance; human rights)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Processes of democratisation may stimulate out-migra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Development co-operation often focused on countries with good governance; humanitarian aid aimed at countries in crisi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Migration of refugees and asylum seeker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Policy options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reception / protection within the region  (temporary)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the ‘3 durable solutions’: repatriation, local integration, resettlement in a third country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nowadays repatriation is the favoured aim, but local integration tends to be the actual practice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Development projects / reception in neighbouring countries may attract additional migrants / refuge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120" y="13712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66"/>
                </a:solidFill>
                <a:latin typeface="Arial"/>
              </a:rPr>
              <a:t>Remittances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66"/>
                </a:solidFill>
                <a:latin typeface="Arial"/>
              </a:rPr>
              <a:t>Investments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e.g. support of initiatives for local development by migrant organisatio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66"/>
                </a:solidFill>
                <a:latin typeface="Arial"/>
              </a:rPr>
              <a:t>Transfer of knowledge and experience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e.g. involvement of migrants in development projec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66"/>
                </a:solidFill>
                <a:latin typeface="Arial"/>
              </a:rPr>
              <a:t>Political mobilisation, lobbying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igrant organisations in the diaspora as ‘ambassadors’ for development</a:t>
            </a:r>
            <a:r>
              <a:rPr b="0" lang="nl-NL" sz="26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6858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Diaspora: the role of migrant communiti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Use of remittances: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daily cost of living, debt payments, housing, education, medical cos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nsumer goods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productive activities, investmen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financing of violent conflic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Foreign exchange of great importance for the balance of payments, but it also increases inflation and import dependency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9144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Remittanc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Policy aspects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Emigration countries have an interest in the continued involvement/commitment of migrants: return and repatriation policies, and restrictive admission policies weaken the basis for remittance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20720" indent="-277200">
              <a:spcBef>
                <a:spcPts val="488"/>
              </a:spcBef>
              <a:spcAft>
                <a:spcPts val="488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The uses of remittances are not necessarily in line with the goals of ODA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20720" indent="-277200">
              <a:spcBef>
                <a:spcPts val="488"/>
              </a:spcBef>
              <a:spcAft>
                <a:spcPts val="488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Functioning of transnational communities can be at odds with integration policies in immigration countries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9907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66"/>
                </a:solidFill>
                <a:latin typeface="Arial"/>
              </a:rPr>
              <a:t>Remittanc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90720" y="12949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ffect of return on development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skills, capacities, stage of life of migrant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social, economical and institutional support / context in country of return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refugees: political climate of reconcili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National authorities tend to have limited interest for stimulating return of own citizens: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88"/>
              </a:spcBef>
              <a:spcAft>
                <a:spcPts val="488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undermines the continuation of remittance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spcAft>
                <a:spcPts val="488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increases pressures on local labour markets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return policies are mostly initiated by the immigration countri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7621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Return migration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Demographic consequenc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Population growth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Despite high net out-migration, most countries of out-emigration are characterised by demographic growth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xample: Middle East, North Africa, Gulf (MENA-20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000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316 mill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025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492 mill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050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638 mill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Managing or limiting migration flows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labour migra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asylum migra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follow-up migration (marriage migration and family reunification)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trafficking and smuggling / ‘illegal’ migra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Stimulating temporary migration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tur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Stimulating integration of ‘permanent’ migrant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Purpose of migration policy/managemen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239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How to reconcile conflicting interests  (immigration countries - emigration countries - individual migrants; ODA versus admission policies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Many different options and opportunities for policies, but migration is hard to ‘manage’ as it forms part of long-term development processes: in policy making too therefore long-term thinking is crucial</a:t>
            </a: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1157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Policy dilemma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9320" y="1600200"/>
            <a:ext cx="7086600" cy="24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Consequences of migration for countries of in-migration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400" y="1523520"/>
            <a:ext cx="63244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Type of consequences: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mographic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conomic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ocia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Demographic consequenc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Population growth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Net migration contributes considerably to population growth in many countries of destination. It delays the moment that populations in Europe and Japan will start to decline.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Net migration flows to European Union in 2000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91540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Population ageing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Migration helps to slow down the process of ageing in receiving countries. But it does not prevent ageing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immigrants age too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the number of migrants is too smal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UN scenarios (2000) based on the 1998 population projections for 8 low fertility countries (France, Germany, Italy, Japan, Rep. Korea, Russian Federation, United Kingdom &amp; USA) and 2 regions (EU and Europe) show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1998 projections (medium): all would start to decline before 2050, except USA, and all would age rapidl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In the absence of migration this would happen sooner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To maintain population size, labour force size, or age structures, very high net immigration would be require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143000" y="600120"/>
          <a:ext cx="7924680" cy="625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00120"/>
                    <a:ext cx="7924680" cy="62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Demographic situation in Eastern Europe, the Balkans, Turkey and Central Asia (EECA-20) is similar to the EU-25. For EECA as a whole, population decline is expected to set in by 2025, esp. most Balkan countries, RF and Ukraine.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Demographic consequenc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Population decrease: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Some countries in Eastern Europe, at least in the short run, face both demographic decline and net out-migration, worsening the effect of ageing and population decline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66"/>
                </a:solidFill>
                <a:uFillTx/>
                <a:latin typeface="Arial"/>
              </a:rPr>
              <a:t>Economic consequence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conomy --&gt; mig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Potential migrants are attracted by economic prospect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igration --&gt; economy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Does migration lead to displacement of native employees on the labour market and lower wages?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What are the consequences for public finances?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References: UN, World Economic and Social Survey, 2004; Ederveen </a:t>
            </a: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., 2004)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Effects of immigration on the labour marke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Studies show effects vary by country, immigrant group and educational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12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Migration increases labour supply and economic output (“immigration surplus”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12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As a result of increased competition, wages have declined, but the impact is modes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12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Little evidence that immigration would have an effect on unemployment level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Effects of immigration on public financ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Can migration help soften the financial consequences of ageing?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On average, calculated over a lifetime, migrants contribute more than they cost (the costs during their youth having been borne by the country of origin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but: unemployment differences affect this - positive in Spain, negative in Netherland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ost studies find a positive impact of immigration on public financ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Policy challenge: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improving the economic integration of migrants: reducing unemployment risks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factors influencing unemployment among immigrants, a.o.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education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language skill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the organisation of the welfare state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discrimination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94920" y="1371600"/>
            <a:ext cx="617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Migration and development</a:t>
            </a:r>
            <a:r>
              <a:rPr b="0" i="1" lang="en-GB" sz="28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igration </a:t>
            </a:r>
            <a:r>
              <a:rPr b="0" lang="en-GB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developmen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development </a:t>
            </a:r>
            <a:r>
              <a:rPr b="0" lang="en-GB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mig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tagnating economic growth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Poverty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apid population growth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Unemployment and underemploymen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Unbalanced distribution of wealth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Pressure on agricultural and other resourc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Globalis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Bad governance / human rights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Violent conflict &amp; lack of security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igration culture’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7621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Causes of migration: manifold and complex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The motives of individual migrants often are a mix of voluntary and forced aspects, that cannot be separated from structural conditions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oreover, migration decision making involves both the individual and his/her family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A multidimensional process connected by which a more balanced distribution of wealth / prosperity, and better opportunities for a viable future (poverty reduction), and for reduction of insecurity are achieved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nsequences: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increases individual opportunities to migrate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but brings about that fewer people will want to or need to migrat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9144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What is development?</a:t>
            </a:r>
            <a:r>
              <a:rPr b="1" lang="nl-NL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Early development: migration opportunities available to few (high material and immaterial costs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iddle development: expectations increase, but still insufficient opportunities to effectuate them in the home country; migration increases as more people can afford the costs 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Further development: with increasing opportunities to build a viable future at home, the need for migration decreas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990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Development processes and migration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837720" y="1294920"/>
            <a:ext cx="81536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Brain drain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 widely studied in 1960s-1970s and re-emerging as an issu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e.g., OECD study: 20-30% of all physicians in USA/Canada/UK are foreign-trained. Developing countries supply ca. 56% of all migrating physicians and receive less than 11%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Brain-drain from Russia implies a substantial taxpayer subsidy to MDCs (Malakha, 2002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Brain gain: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the anticipation of migration opportunities may stimulate human capital formation. As only a minority eventually migrates, the country’s human capital and economic growth overall may benefit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685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Labour migration:</a:t>
            </a: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7:19:21Z</dcterms:created>
  <dc:creator>Jeannette Schoorl</dc:creator>
  <dc:description/>
  <dc:language>en-US</dc:language>
  <cp:lastModifiedBy>Oyunjargal</cp:lastModifiedBy>
  <cp:lastPrinted>2004-02-25T07:11:58Z</cp:lastPrinted>
  <dcterms:modified xsi:type="dcterms:W3CDTF">2005-05-09T12:37:36Z</dcterms:modified>
  <cp:revision>318</cp:revision>
  <dc:subject>BuZa werkconferentie 25-02-2004</dc:subject>
  <dc:title>OS en migratie</dc:title>
</cp:coreProperties>
</file>