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B617-3DF3-4BBC-A3D7-0961A6701CC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EA94-0298-404C-A72A-1C491D4FA9D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1299-D156-48CB-8823-C7DBC6F20A8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A4F2-71DA-42EE-A640-B68142136E0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D87F-E936-4DB3-96AB-C5BF321BEB1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33F9-D73A-4A38-999D-3675F75371C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BA0A-DB66-4E68-B8E7-D07A481EB72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876F-27E5-425A-AA70-4DC11F4E540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44F9-7CDC-4527-9946-C46E5052FE0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5A01-9B37-4393-9B18-34F2DFD57D6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ED4E-0C26-4DE8-8ADA-487A5A4E1D9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0BB4-DAA3-4124-9C40-B0F2A3113CA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CC65-61AD-4D79-881A-2778522C628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DAC2-BBA0-476D-B0EA-0FCC2F30296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A878-B8D6-40DA-8BFE-0C0DB255147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C98D-C359-43F4-9CF2-5FD61137152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043D-F9C4-44D9-98B9-CD81E255EBA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B46A-D8D3-4C79-91CA-580A6B4B29F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33EB-B4F3-4F98-8F02-12CD83BBA8E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4A8B-4FF6-4B89-BC4D-B418689A7C5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2BB1-9875-4C97-A320-6F360C975BD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C852-AD24-49BE-BA2C-4380CE0DD89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4302-59CB-45AF-996B-E48BF45E9CF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BEC9-6429-410E-A6D6-806758129EA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B4AC-3D84-4122-8FC0-C9802486B66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D27F-0E4A-44B2-922B-A88546C831A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5D6E-5D4E-4B1A-8DC4-EDF6132F881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8EEE-2C11-4551-BEB7-693AFF8F219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8167-73A3-4A03-B87E-E63DE386CE6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B82F-A23E-4C14-80C3-D1D0D904268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8E2C-7589-4688-A58D-15971B49D30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1A54-99AB-47C0-9530-CB0D10AB746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6754-B212-4243-AC1A-005A60B9E13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nidilogt1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2209680"/>
            <a:ext cx="70866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Consequences of migration for countries of out-migration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Jeannette Schoorl, NIDI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9907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EDNESDAY January 26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ssion 2: Consequences of migr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837720" y="22096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Remittances’ (but selective in nature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Transnational activities (local effects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Transfer of skills and knowledg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Social / political influence of migrant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scape valve (to some extent) for lack of employment opportunities and associated social unres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9907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Positive consequences of (labour) migration for development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Brain drain (loss of human capital, incl. highly skilled; loss of investment in education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Social: disruption of family lif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xport of labour: sensitive to economic fluctuation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flationary effects on local economi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crease of local inequaliti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mergence of a ‘culture of migration’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8380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Negative consequences of (labour) migration for development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Dual causes --&gt; dual policy instruments: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ducing protectionist trade policie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stimulating </a:t>
            </a:r>
            <a:r>
              <a:rPr b="0" i="1" lang="en-GB" sz="2600" spc="-1" strike="noStrike">
                <a:solidFill>
                  <a:srgbClr val="ffff99"/>
                </a:solidFill>
                <a:latin typeface="Arial"/>
              </a:rPr>
              <a:t>or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 curbing emigration (remittances; brain drain; capacity building)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turn migration programme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migration of employment; out-sourcing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employment creation; good governance; human rights: taking into account the potentially migration generating effects of development (projects).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E.g. social disruption &amp; democratisation process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e.g. local / regional reception of refuge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6934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onsequences for country of origin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loss of human capita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mittanc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onsequences for country of destination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pressures on resources / local econom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gain of human capita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mpetition, problems of integr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7621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Migration of refugees and asylum seeke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Policy options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spcAft>
                <a:spcPts val="561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preventive policies (stimulation of good governance; human rights)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Processes of democratisation may stimulate out-migr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evelopment co-operation often focused on countries with good governance; humanitarian aid aimed at countries in crisi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990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Migration of refugees and asylum seeke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Policy options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reception / protection within the region  (temporary)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the ‘3 durable solutions’: repatriation, local integration, resettlement in a third country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nowadays repatriation is the favoured aim, but local integration tends to be the actual practice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evelopment projects / reception in neighbouring countries may attract additional migrants / refuge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13712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66"/>
                </a:solidFill>
                <a:latin typeface="Arial"/>
              </a:rPr>
              <a:t>Remittances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66"/>
                </a:solidFill>
                <a:latin typeface="Arial"/>
              </a:rPr>
              <a:t>Investments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.g. support of initiatives for local development by migrant organisat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66"/>
                </a:solidFill>
                <a:latin typeface="Arial"/>
              </a:rPr>
              <a:t>Transfer of knowledge and experience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.g. involvement of migrants in development projec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66"/>
                </a:solidFill>
                <a:latin typeface="Arial"/>
              </a:rPr>
              <a:t>Political mobilisation, lobbying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igrant organisations in the diaspora as ‘ambassadors’ for development</a:t>
            </a:r>
            <a:r>
              <a:rPr b="0" lang="nl-NL" sz="26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6858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Diaspora: the role of migrant communiti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Use of remittances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aily cost of living, debt payments, housing, education, medical cos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nsumer goods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productive activities, investme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inancing of violent conflic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oreign exchange of great importance for the balance of payments, but it also increases inflation and import dependency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9144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Remittanc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Policy aspects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Emigration countries have an interest in the continued involvement/commitment of migrants: return and repatriation policies, and restrictive admission policies weaken the basis for remittance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20720" indent="-277200">
              <a:spcBef>
                <a:spcPts val="488"/>
              </a:spcBef>
              <a:spcAft>
                <a:spcPts val="488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The uses of remittances are not necessarily in line with the goals of ODA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20720" indent="-277200">
              <a:spcBef>
                <a:spcPts val="488"/>
              </a:spcBef>
              <a:spcAft>
                <a:spcPts val="488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Functioning of transnational communities can be at odds with integration policies in immigration countries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9907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66"/>
                </a:solidFill>
                <a:latin typeface="Arial"/>
              </a:rPr>
              <a:t>Remittanc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90720" y="1294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ffect of return on development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skills, capacities, stage of life of migrant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social, economical and institutional support / context in country of return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refugees: political climate of reconcili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National authorities tend to have limited interest for stimulating return of own citizens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88"/>
              </a:spcBef>
              <a:spcAft>
                <a:spcPts val="488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undermines the continuation of remittance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spcAft>
                <a:spcPts val="488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increases pressures on local labour markets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return policies are mostly initiated by the immigration countri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7621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Return migratio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Demographic consequenc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Population growth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Despite high net out-migration, most countries of out-emigration are characterised by demographic growth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xample: Middle East, North Africa, Gulf (MENA-20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00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316 mill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25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492 mill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050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638 mill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Managing or limiting migration flows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labour migr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sylum migr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ollow-up migration (marriage migration and family reunification)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trafficking and smuggling / ‘illegal’ migr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Stimulating temporary migration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tur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Stimulating integration of ‘permanent’ migrant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Purpose of migration policy/managemen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239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How to reconcile conflicting interests  (immigration countries - emigration countries - individual migrants; ODA versus admission policies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Many different options and opportunities for policies, but migration is hard to ‘manage’ as it forms part of long-term development processes: in policy making too therefore long-term thinking is crucial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1157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Policy dilemma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9320" y="1600200"/>
            <a:ext cx="7086600" cy="24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Consequences of migration for countries of in-migration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400" y="1523520"/>
            <a:ext cx="6324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Type of consequences: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mographic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conomic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cia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Demographic consequenc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Population growth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Net migration contributes considerably to population growth in many countries of destination. It delays the moment that populations in Europe and Japan will start to decline.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Net migration flows to European Union in 2000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1540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Population ageing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Migration helps to slow down the process of ageing in receiving countries. But it does not prevent ageing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immigrants age too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the number of migrants is too smal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UN scenarios (2000) based on the 1998 population projections for 8 low fertility countries (France, Germany, Italy, Japan, Rep. Korea, Russian Federation, United Kingdom &amp; USA) and 2 regions (EU and Europe) show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1998 projections (medium): all would start to decline before 2050, except USA, and all would age rapidl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In the absence of migration this would happen sooner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To maintain population size, labour force size, or age structures, very high net immigration would be requir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143000" y="600120"/>
          <a:ext cx="7924680" cy="625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00120"/>
                    <a:ext cx="7924680" cy="62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Demographic situation in Eastern Europe, the Balkans, Turkey and Central Asia (EECA-20) is similar to the EU-25. For EECA as a whole, population decline is expected to set in by 2025, esp. most Balkan countries, RF and Ukraine.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Demographic consequenc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Population decrease: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Some countries in Eastern Europe, at least in the short run, face both demographic decline and net out-migration, worsening the effect of ageing and population decline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66"/>
                </a:solidFill>
                <a:uFillTx/>
                <a:latin typeface="Arial"/>
              </a:rPr>
              <a:t>Economic consequence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conomy --&gt; mig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Potential migrants are attracted by economic prospect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igration --&gt; economy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Does migration lead to displacement of native employees on the labour market and lower wages?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What are the consequences for public finances?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References: UN, World Economic and Social Survey, 2004; Ederveen 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., 2004)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Effects of immigration on the labour marke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Studies show effects vary by country, immigrant group and educational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Migration increases labour supply and economic output (“immigration surplus”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As a result of increased competition, wages have declined, but the impact is modes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Little evidence that immigration would have an effect on unemployment level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Effects of immigration on public financ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Can migration help soften the financial consequences of ageing?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On average, calculated over a lifetime, migrants contribute more than they cost (the costs during their youth having been borne by the country of origin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but: unemployment differences affect this - positive in Spain, negative in Netherland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ost studies find a positive impact of immigration on public financ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Policy challenge: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improving the economic integration of migrants: reducing unemployment risk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actors influencing unemployment among immigrants, a.o.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educatio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language skill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the organisation of the welfare state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iscriminatio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94920" y="1371600"/>
            <a:ext cx="617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Migration and development</a:t>
            </a:r>
            <a:r>
              <a:rPr b="0" i="1" lang="en-GB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igration </a:t>
            </a:r>
            <a:r>
              <a:rPr b="0" lang="en-GB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developmen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evelopment </a:t>
            </a:r>
            <a:r>
              <a:rPr b="0" lang="en-GB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mig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tagnating economic growth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Poverty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apid population growth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Unemployment and underemploymen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Unbalanced distribution of wealth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Pressure on agricultural and other resourc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Globalis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Bad governance / human rights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Violent conflict &amp; lack of security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igration culture’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7621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Causes of migration: manifold and complex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The motives of individual migrants often are a mix of voluntary and forced aspects, that cannot be separated from structural conditions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oreover, migration decision making involves both the individual and his/her family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 multidimensional process connected by which a more balanced distribution of wealth / prosperity, and better opportunities for a viable future (poverty reduction), and for reduction of insecurity are achieved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nsequences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ncreases individual opportunities to migrate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but brings about that fewer people will want to or need to migrat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9144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What is development?</a:t>
            </a:r>
            <a:r>
              <a:rPr b="1" lang="nl-NL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arly development: migration opportunities available to few (high material and immaterial costs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iddle development: expectations increase, but still insufficient opportunities to effectuate them in the home country; migration increases as more people can afford the costs 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urther development: with increasing opportunities to build a viable future at home, the need for migration decreas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Development processes and migration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37720" y="12949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Brain drain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: widely studied in 1960s-1970s and re-emerging as an issu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e.g., OECD study: 20-30% of all physicians in USA/Canada/UK are foreign-trained. Developing countries supply ca. 56% of all migrating physicians and receive less than 11%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Brain-drain from Russia implies a substantial taxpayer subsidy to MDCs (Malakha, 2002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Brain gain: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the anticipation of migration opportunities may stimulate human capital formation. As only a minority eventually migrates, the country’s human capital and economic growth overall may benefit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685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Labour migration:</a:t>
            </a: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Oyunjargal</cp:lastModifiedBy>
  <cp:lastPrinted>2004-02-25T07:11:58Z</cp:lastPrinted>
  <dcterms:modified xsi:type="dcterms:W3CDTF">2005-05-09T12:37:36Z</dcterms:modified>
  <cp:revision>318</cp:revision>
  <dc:subject>BuZa werkconferentie 25-02-2004</dc:subject>
  <dc:title>OS en migratie</dc:title>
</cp:coreProperties>
</file>