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7D01-1E18-43DB-A4C3-DD2FD4585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5B34-0EED-4B58-8735-302DF26CE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115-267E-4A53-A006-29A309E3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C28-F944-4D8E-9F65-4D842B1D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08C-FEF0-442F-B22F-9519D406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743-812D-4B41-A0C3-E3412587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468-ABCA-4416-BBC4-3F99C969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B1A-E678-42C0-A400-1CCAA09C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FD1-91A9-4A67-8F90-BC3B47BB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7B4-F843-4669-BFB0-230DE8CC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569-18DB-4CA8-BF16-0937EFCD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160-7F3B-47F1-AA75-3481A011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B7B-C4D9-436D-BA43-CFD97300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49F-8703-42B3-97EC-C311FAD6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219320"/>
            <a:ext cx="838440" cy="487656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8B2A-C63E-4E0F-A119-72E73E130B3B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228600"/>
            <a:ext cx="6061320" cy="0"/>
          </a:xfrm>
          <a:prstGeom prst="line">
            <a:avLst/>
          </a:prstGeom>
          <a:ln w="25560">
            <a:solidFill>
              <a:srgbClr val="9ac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229600" y="0"/>
          <a:ext cx="7034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0"/>
                    <a:ext cx="7034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152280" y="0"/>
            <a:ext cx="741600" cy="5396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09720" y="230040"/>
            <a:ext cx="7294320" cy="1800"/>
          </a:xfrm>
          <a:custGeom>
            <a:avLst/>
            <a:gdLst/>
            <a:ahLst/>
            <a:rect l="l" t="t" r="r" b="b"/>
            <a:pathLst>
              <a:path w="4595" h="1">
                <a:moveTo>
                  <a:pt x="0" y="0"/>
                </a:moveTo>
                <a:lnTo>
                  <a:pt x="4595" y="0"/>
                </a:lnTo>
              </a:path>
            </a:pathLst>
          </a:custGeom>
          <a:noFill/>
          <a:ln w="255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81000"/>
            <a:ext cx="89647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еории миграции и их применение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жордж Греневольд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идерландский институт междисциплинарных демографических исследований (NiDi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A.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Основные теории международной миграци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т возникновения - к постоянному продолжению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акторы макро/ микро уровн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B.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Теоретически обоснованное эмпирическое исследование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ект NiDi/Евростата по нескольким странам Африки и Европы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762120" indent="-38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0"/>
          <a:ext cx="121932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1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пределение ключевых понятий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тандартизация определений для облегчения сравнительного анализа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пример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341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омохозяйство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ица, проживающие вместе, совместно использующие средства к существованию и предметы домашнего обихода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 также те, кто в настоящее время проживает в ином месте, но чьи основные обязательства связаны с данным домохозяйством, возвращение в которое, или воссоединение с которым ожидается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28464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играц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ыбытие из одного места для того, чтобы переехать и проживать в другом месте в течение, по меньшей мере, одного года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овые (недавние) мигрантские домохозяйств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мохозяйства, имеющие в своем составе по меньшей мере одного члена, который выбыл в течение последних десяти лет и, либо возвратился после отсутствия в течение как минимум одного года, либо в настоящее время проживает за границей и выбыл по меньшей мере три месяца назад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Домохозяйство может быть классифицировано как «текущее» (фактическое) мигрантское домохозяйство, «возвратное» домохозяйство, или домохозяйство, ко которому применимы оба определени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60280"/>
            <a:ext cx="52196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хват, масштаб и глубина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граниченность затрат на обеспечение полноты охвата, масштаба и глубины исследования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играционная система, состоящая из стран Северной и Западной Африки, Юго-Восточного Средиземноморья  и стран Европейского Союза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раны происхождения/ прибытия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    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собые регионы внутри стран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игранты по всем направлениям прибытия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не-мигранты (в странах происхождения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ве группы иммигрантов из стран происхождения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бытия)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ачественное исследование отсутствовало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1143000"/>
          <a:ext cx="76960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7696080" cy="5105520"/>
                  </a:xfrm>
                  <a:prstGeom prst="rect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286000" y="3581280"/>
            <a:ext cx="609480" cy="12956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800600"/>
            <a:ext cx="914400" cy="8380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724280"/>
            <a:ext cx="1143000" cy="6098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032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4197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2971800"/>
            <a:ext cx="838080" cy="1676520"/>
          </a:xfrm>
          <a:custGeom>
            <a:avLst/>
            <a:gdLst/>
            <a:ahLst/>
            <a:rect l="l" t="t" r="r" b="b"/>
            <a:pathLst>
              <a:path w="539" h="1014">
                <a:moveTo>
                  <a:pt x="2" y="918"/>
                </a:moveTo>
                <a:cubicBezTo>
                  <a:pt x="11" y="772"/>
                  <a:pt x="15" y="629"/>
                  <a:pt x="98" y="506"/>
                </a:cubicBezTo>
                <a:cubicBezTo>
                  <a:pt x="121" y="436"/>
                  <a:pt x="154" y="365"/>
                  <a:pt x="194" y="304"/>
                </a:cubicBezTo>
                <a:cubicBezTo>
                  <a:pt x="208" y="261"/>
                  <a:pt x="228" y="230"/>
                  <a:pt x="242" y="189"/>
                </a:cubicBezTo>
                <a:cubicBezTo>
                  <a:pt x="262" y="128"/>
                  <a:pt x="271" y="71"/>
                  <a:pt x="319" y="26"/>
                </a:cubicBezTo>
                <a:cubicBezTo>
                  <a:pt x="522" y="37"/>
                  <a:pt x="466" y="0"/>
                  <a:pt x="539" y="112"/>
                </a:cubicBezTo>
                <a:cubicBezTo>
                  <a:pt x="536" y="160"/>
                  <a:pt x="535" y="208"/>
                  <a:pt x="530" y="256"/>
                </a:cubicBezTo>
                <a:cubicBezTo>
                  <a:pt x="524" y="310"/>
                  <a:pt x="473" y="326"/>
                  <a:pt x="443" y="362"/>
                </a:cubicBezTo>
                <a:cubicBezTo>
                  <a:pt x="416" y="395"/>
                  <a:pt x="391" y="432"/>
                  <a:pt x="367" y="467"/>
                </a:cubicBezTo>
                <a:cubicBezTo>
                  <a:pt x="336" y="513"/>
                  <a:pt x="327" y="563"/>
                  <a:pt x="290" y="602"/>
                </a:cubicBezTo>
                <a:cubicBezTo>
                  <a:pt x="280" y="631"/>
                  <a:pt x="262" y="655"/>
                  <a:pt x="242" y="678"/>
                </a:cubicBezTo>
                <a:cubicBezTo>
                  <a:pt x="230" y="692"/>
                  <a:pt x="203" y="717"/>
                  <a:pt x="203" y="717"/>
                </a:cubicBezTo>
                <a:cubicBezTo>
                  <a:pt x="193" y="750"/>
                  <a:pt x="180" y="769"/>
                  <a:pt x="155" y="794"/>
                </a:cubicBezTo>
                <a:cubicBezTo>
                  <a:pt x="138" y="845"/>
                  <a:pt x="118" y="893"/>
                  <a:pt x="88" y="938"/>
                </a:cubicBezTo>
                <a:cubicBezTo>
                  <a:pt x="78" y="969"/>
                  <a:pt x="60" y="983"/>
                  <a:pt x="50" y="1014"/>
                </a:cubicBezTo>
                <a:cubicBezTo>
                  <a:pt x="0" y="998"/>
                  <a:pt x="11" y="967"/>
                  <a:pt x="2" y="918"/>
                </a:cubicBezTo>
                <a:close/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4724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Aksaray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838080" y="685800"/>
          <a:ext cx="74678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46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048120" y="4648320"/>
            <a:ext cx="99036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666880"/>
            <a:ext cx="1219320" cy="7621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124080"/>
            <a:ext cx="914400" cy="838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1676520"/>
            <a:ext cx="838080" cy="6094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1676520"/>
            <a:ext cx="914400" cy="6094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1600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Larache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752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1371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963880"/>
            <a:ext cx="228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3032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3352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952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920000" cy="5790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743200"/>
            <a:ext cx="1295280" cy="8380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Swis721 BT"/>
              </a:rPr>
              <a:t>RM/M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52320" y="2666880"/>
            <a:ext cx="38124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895480"/>
            <a:ext cx="1143000" cy="5335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25146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Swis721 BT"/>
              </a:rPr>
              <a:t>RM/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3276360"/>
            <a:ext cx="38124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19520" y="3429000"/>
            <a:ext cx="60948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3809880"/>
            <a:ext cx="53316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95680"/>
            <a:ext cx="45720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724280"/>
            <a:ext cx="68580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5029200"/>
            <a:ext cx="6094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800600"/>
            <a:ext cx="38124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5410080"/>
            <a:ext cx="533520" cy="3812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4572000"/>
            <a:ext cx="3808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5181480"/>
            <a:ext cx="45720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5257800"/>
            <a:ext cx="533520" cy="3049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5181480"/>
            <a:ext cx="76212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4038480"/>
            <a:ext cx="45720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3200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M/L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4267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M/M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M/L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4876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M/M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629400" cy="628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19720" y="3048120"/>
            <a:ext cx="114300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914400"/>
            <a:ext cx="1295280" cy="7621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543800" cy="6086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666880" y="4572000"/>
            <a:ext cx="45720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5105520"/>
            <a:ext cx="609840" cy="53316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724280"/>
            <a:ext cx="45720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105520"/>
            <a:ext cx="45720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4343400"/>
            <a:ext cx="6094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4038480"/>
            <a:ext cx="53352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2438280"/>
            <a:ext cx="457200" cy="6098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2057400"/>
            <a:ext cx="53352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2057400"/>
            <a:ext cx="60948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1828800"/>
            <a:ext cx="533520" cy="4572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2743200"/>
            <a:ext cx="609480" cy="53352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9753480" cy="72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75348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0"/>
            <a:ext cx="97164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трана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0"/>
            <a:ext cx="1800000" cy="94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Уровень статистической репрезентатив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ности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0"/>
            <a:ext cx="1008360" cy="94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Отобранные домохозяйства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08360" y="0"/>
            <a:ext cx="107964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Целевая выборка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0"/>
            <a:ext cx="1584360" cy="733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Успешно опрошенные домохозяйства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27640" y="0"/>
            <a:ext cx="3060720" cy="733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Распределение общего числа успешно опрошенных домохозяйств по статусу мигранта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акие данные собирать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76280"/>
            <a:ext cx="914400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Община, регион и государство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анные социально-экономического и демографического контекст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Домохозяйство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(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напр. экономический глава домохозяйства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писок членов домохозяйства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збирательно полученная информация обо ВСЕХ членах домохозяйства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нформация об условиях жизни и характеристиках домохозяйства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екущие и относящиеся к прошлому экономические условия домохозяйства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енежные переводы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Индивид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(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т.е.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выбранный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член домохозяйства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ьное и демографическое взаимодействие и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нтеграция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Экономическая активность и трудовой статус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играционная история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!)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став домохозяйства в стране происхождения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Экономическое положение перед последней миграцией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отивы миграции (миграций) за рубеж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нформация о последнем / текущем месте вселения (прибытия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играционные сети и поддержка (помощь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изненный опыт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месте прибытия и намерения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тносительно (будущей) эмиграции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A.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Основные теории международной миграци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A1. 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Теории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99"/>
                </a:solidFill>
                <a:latin typeface="Arial"/>
              </a:rPr>
              <a:t>возникновения</a:t>
            </a: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миграции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.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Неоклассическая экономическая теория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Lewis,1954; Todaro 197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В центре внимания  только  факторы макро-уровня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географические различия в возрастном составе, занятости и возможностях инвестиций вызывают миграцию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Выталкивающие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и 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притягивающие факторы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 :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в т.ч.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факторы в месте происхождения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например, бедность, безработица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выталкивают людей из этих мест в места с привлекательными характеристиками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такими, как  высокий уровень жизни или возможности трудоустройства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Только индивид принимает решение эмигрировать или нет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в центре внимания максимизация дохода и повышение квалификации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Затраты на миграцию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только осознанные финансовые и психологические затраты определяют, состоится эмиграция или нет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2.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Новая экономика теории миграции (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New Economics of Migration Theory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NELM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(Stark, 1981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Рост значения  факторов макро-уровня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в т.ч. непостоянство/ крах местных (сельскохозяйственных) рынков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Дефицит возможностей страхования рисков, связанных со средствами к существованию, и доступности кредита. Денежные переводы эмигрантов выступают в роли страховки для немигрирующих членов домохозяйства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Эмиграция индивида является результатом совместного решения членов домохозяйства. Эмиграция положительно влияет на разнообразие источников дохода  и различия  параметров риска, связанного с доходом.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Денежные переводы – стабильный источник дохода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60280"/>
            <a:ext cx="9144000" cy="62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акой анализ проводить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равнительные исследования детерминант и последствий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ждународной миграции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сестороннее изучение страны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уровневый анализ (влияние факторов макро / микро уровня на миграцию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вместное исследовани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ица, отвечающие за разработку политики, и ученые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ифференциалы между мигрантским и  не-мигрантскими домохозяйствами в  отдающих и принимающих странах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пециальные тематические исследования, представляющие интерес для лиц, ответственных за политику, и сообщества  исследователей миграци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такие, например,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ак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етерминанты денежных переводов и их влияние на эмиграционные настроения.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рганизация репрезентативных выборочных обследований, охватывающих международных мигрантов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29257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онец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4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3. 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ория двойного рынка труда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 (Piore, 1979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олько факторы макро-уровн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основная причина эмиграции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- структурные потребности современных экономик в регионах прибыти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рупном городе, зарубежной стране)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центре внимания – притягивающие факторы в регионе прибыти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т.ч. структурное сокращение занятости на низшем уровне профессиональной иерархии, в непристижных и мало оплачиваемых видах труда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Различия в уровне заработной платы отражают социальную стратификацию (расслоение)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целью людей является продвижение  вверх -  от рабочих мест, находящихся на низшем уровне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оторые впоследствии должны быть  заняты мигрантами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пускаются из вида  мотивы  и решения, принятые на на индивидуальном уровне и уровне домохозяйства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4.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ория мировых систем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 (Wallerstein, 1974,Massey, 1989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олько факторы макро-уровн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новной причиной миграции выступает Экономическая и Политическая Глобализаци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лобализация вызывает социальные изменения и влияет на традиционные взаимоотношения между работодателем и работником  и внедряет современные средства производства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еханизацию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, выталкивая неквалифицированных работников с рабочих мест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пускаются из вида решения, принимаемые на микро-уровне (индивидуальном) и уровне домохозяйства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центре внимания  макро-экономические глобальные процессы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т.ч. проникновение  фирм из богатых стран на рынки  стран бедных и их влияние на местные нормы, ценности, стремления и ожидания, ведущие к усилению эмиграционных настроений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7621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2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ории постоянной миграци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Факторы, вызывающие миграцию, могут отличаться от тех, которые делают миграцию  постоянной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5.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ория социальной сети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 (Hugo, 1981; Massey 1990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центре внимани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факторы микро-уровн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вязи между мигрантами и их друзьями / семьями, оставшимися дома, инициируют новые миграционные перемещени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Подобные социальные сети снижают риски и затраты вновь прибывших и ведут к распространению таких сетей в местах происхождения и прибытия  и к увеличению потенциальных потоков миграции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Перспектива в динамике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реда, в которой принимается решение, изменяется во времени,  снижая «пороги» для следующих мигрантов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центре внимания - процесс принятия решения на уровне индивида/домохозяйства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также размер, структура, качественные характеристики социальных сетей.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6.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Институциональная теори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центре внимания процессы макро-уровн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стоянство («увековечивание») миграции является результатом  неформальных и нелегальных миграционных схем и организаций, имеющих дело с нелегальными мигрантами (без документов)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пример, эксплуатация со стороны одной организации (контрабанда людей) является бизнесом для других организаци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Charitas)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пускается из вида процесс принятия решения на уровне индивида/домохозяйства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4213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7.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ория кумулятивной обусловленности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 (Myrdal, 1957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В центре внимания социально-экономические процессы на макро-уровне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;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каждое событие миграции вызывает изменение социального  контекста, в котором принимаются  решения о последующих миграциях, делая новые миграции более вероятными. Шесть основных социально-экономических факторов в регионах происхождения подвергаются влиянию, приводя к новым миграционным потокам:  распределение дохода и земли, региональное распределение человеческого капитала, организация сельского хозяйства, культура миграции, социальное значение труда и отдельных видов занятости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Мало внимания уделяется процессу принятия решения на уровне индивида или домохозяйства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8.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ория миграционной системы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(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Kritz and Zlotnik, 1992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Сфокусирована одновременно на факторах микро- и макро-уровня: представляет собой попытку объединить перечисленные выше теории микро- и макро уровней. Ключевой проблемой является определение и исследование  стабильных миграционных потоков между местами происхождения (выхода) и вселения для объяснения  возникновения  и постоянного присутствия миграции.  «Международная миграционная система» состоит из определенной совокупности основных принимающих регионов в странах прибытия и совокупности основных отдающих мигрантов регионов в странах происхождения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Задача  состоит в определении, изучении  и соотнесении процессов миграции в отдающих и принимающих регионах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Учитывается процесс принятия решения на уровне индивида и домохозяйства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609480"/>
            <a:ext cx="822960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Times New Roman"/>
              </a:rPr>
              <a:t>B. 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Теоретически обоснованное эмпирическое исследование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сследование детерминант и последствий международной миграции в некоторых странах Африки и Европы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IDI/EUROSTAT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96-1997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9080" indent="0"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едыстория исслед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величение объемов и сложности потоков международной миграции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зрастающий интерес на уровне политики к  причинам и последствиям международной миграции в странах происхождения и вселе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лучшить понимание прямых и косвенных причин и механизмов международной миграции в страны Европейского Союза с точки зрения сопоставимой в международном аспекте перспективы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24080"/>
            <a:ext cx="380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579600" indent="-522360"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дачи исследования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725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75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5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7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14400" indent="0">
              <a:buNone/>
              <a:tabLst>
                <a:tab algn="l" pos="0"/>
                <a:tab algn="l" pos="933480"/>
                <a:tab algn="l" pos="1089000"/>
                <a:tab algn="l" pos="1244520"/>
                <a:tab algn="l" pos="1400040"/>
                <a:tab algn="l" pos="1555920"/>
                <a:tab algn="l" pos="1711440"/>
                <a:tab algn="l" pos="1866960"/>
                <a:tab algn="l" pos="2022480"/>
                <a:tab algn="l" pos="2178000"/>
                <a:tab algn="l" pos="2333520"/>
                <a:tab algn="l" pos="2489040"/>
                <a:tab algn="l" pos="2644920"/>
                <a:tab algn="l" pos="2800440"/>
                <a:tab algn="l" pos="2955960"/>
                <a:tab algn="l" pos="3111480"/>
                <a:tab algn="l" pos="3267000"/>
                <a:tab algn="l" pos="3422520"/>
                <a:tab algn="l" pos="3578400"/>
                <a:tab algn="l" pos="3733920"/>
                <a:tab algn="l" pos="388944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рганизация исследования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тические рамк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ия миграционной системы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Kritz and Zlotnik, 1992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ия социальной сет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Hugo, 1981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ия кумулятивной обусловленност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Myrdal, 1957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-1576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тическая перспектива это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уководство для определения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ткуда или от кого получать данны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лючевых понятий и представлений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хвата и репрезентативности данных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ие данные собирать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ой анализ проводить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" dur="1" fill="hold"/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3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куда или от кого получать данные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зные уровни пространственного обобщения (укрупнения) и разные временные интервалы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рана, провинция, город/община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висит от контекста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мохозяйство и индивиды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ьно-экономические,  демографические и связанные с миграцией поведенческие характеристики)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идеальном случае  -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онгитюдинальные (продольные) данные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 протяжении жизни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о этот метод слишком затратный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Таким образом, в странах , принадлежащих к одной миграционной системе, проводятся (за один раунд)</a:t>
            </a:r>
            <a:r>
              <a:rPr b="1" lang="ru-RU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следования, охватывающие разные группы и слои населения, с ретроспективными вопросам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идеальном случае желательно собирать / анализировать данные по подходящим для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равнения группам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мохозяйства в странах происхождения, которые (домохозяйства) не мигрировали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мохозяйства в странах прибытия, которые мигрировали в полном составе и прибыли из одной и той же страны происхождения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ндивидуальные мигранты в странах вселения, которые (мигранты) прибыли из одной страны происхождения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мохозяйства, остающиеся в стране происхождения, в которых кто-либо эмигрировал в рассматриваемую страну прибытия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5T22:47:56Z</dcterms:created>
  <dc:creator>Rob van der Erf</dc:creator>
  <dc:description/>
  <dc:language>en-US</dc:language>
  <cp:lastModifiedBy>Экономический факультет</cp:lastModifiedBy>
  <cp:lastPrinted>2003-11-19T22:36:43Z</cp:lastPrinted>
  <dcterms:modified xsi:type="dcterms:W3CDTF">2005-04-26T05:35:11Z</dcterms:modified>
  <cp:revision>254</cp:revision>
  <dc:subject/>
  <dc:title>No Slide Title</dc:title>
</cp:coreProperties>
</file>