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8E2B-85F6-44E3-94FD-982F14C47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9EC6-7140-4832-BA58-7F4807537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791-3B67-49EB-B8AA-3D45B6D8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4C8-0F9E-4BDF-BBFB-BCE4F55F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9A9-98DE-4AB2-99C4-F5FCB782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354-4D4C-4076-BF0C-E9067F1A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EB3-36CB-4BFD-97C8-7BE8138E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EB5-B98A-4E6C-BD7A-927C4E51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381-43D5-4CF2-812B-BDE472E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A9E-20BC-4E9C-9534-D2B57B9D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603-44EA-43DE-9114-55E18958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16C-AEE5-4A5B-A6D2-1BF656A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744-1C02-4D33-B729-06D4874E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414-FCEA-443E-8DA5-FF97C7C8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219320"/>
            <a:ext cx="838440" cy="487656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6D61-3797-4694-98FB-492A29C73F5F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228600"/>
            <a:ext cx="6061320" cy="0"/>
          </a:xfrm>
          <a:prstGeom prst="line">
            <a:avLst/>
          </a:prstGeom>
          <a:ln w="25560">
            <a:solidFill>
              <a:srgbClr val="9ac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229600" y="0"/>
          <a:ext cx="7034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0"/>
                    <a:ext cx="70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152280" y="0"/>
            <a:ext cx="741600" cy="539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9720" y="230040"/>
            <a:ext cx="7294320" cy="1800"/>
          </a:xfrm>
          <a:custGeom>
            <a:avLst/>
            <a:gdLst/>
            <a:ahLst/>
            <a:rect l="l" t="t" r="r" b="b"/>
            <a:pathLst>
              <a:path w="4595" h="1">
                <a:moveTo>
                  <a:pt x="0" y="0"/>
                </a:moveTo>
                <a:lnTo>
                  <a:pt x="4595" y="0"/>
                </a:lnTo>
              </a:path>
            </a:pathLst>
          </a:custGeom>
          <a:noFill/>
          <a:ln w="255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47920"/>
            <a:ext cx="92422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Migration Theories and their Applic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George Groenewold, NiDi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A. Main Theories on International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Initiation viz.. perpetu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Macro/micro level facto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B. Theory-based empirical resear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 NIDI/EUROSTAT study in selected African and Europea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121932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. Definition of key concept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andardization of definitions to facilitate comparative analysis, such as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5248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Househo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ersons living together with communal arrangements on subsistence and other necessities of lif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lus those who are presently residing elsewhere but whose principal commitments and obligations are to that household with expectation of return or joi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move from one place in order to go and live in another place for a continuous period of at least one yea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8006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Recent migrant househo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household with at least one member who left within the past ten years and either returned after a period of at least one year, or is currently living abroad and left at least three months ago.The household may be classified as current or return or a combination of the two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54864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. Coverage, scope and dept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sts limit to coverage, scope, dept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gration system consisting of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untries in North and West Africa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uth-East Mediterranean and EU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rigin/receiving countries:  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- Specific regions within countr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- Migrants to all destinations an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n-migrants (origin countrie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- Two immigrant groups from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rigin countries (receiving countries)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- Though no qualitative resear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1143000"/>
          <a:ext cx="7696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696080" cy="5105520"/>
                  </a:xfrm>
                  <a:prstGeom prst="rect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286000" y="3581280"/>
            <a:ext cx="609480" cy="12956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800600"/>
            <a:ext cx="9144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724280"/>
            <a:ext cx="1143000" cy="6098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032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419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2971800"/>
            <a:ext cx="838080" cy="1676520"/>
          </a:xfrm>
          <a:custGeom>
            <a:avLst/>
            <a:gdLst/>
            <a:ahLst/>
            <a:rect l="l" t="t" r="r" b="b"/>
            <a:pathLst>
              <a:path w="539" h="1014">
                <a:moveTo>
                  <a:pt x="2" y="918"/>
                </a:moveTo>
                <a:cubicBezTo>
                  <a:pt x="11" y="772"/>
                  <a:pt x="15" y="629"/>
                  <a:pt x="98" y="506"/>
                </a:cubicBezTo>
                <a:cubicBezTo>
                  <a:pt x="121" y="436"/>
                  <a:pt x="154" y="365"/>
                  <a:pt x="194" y="304"/>
                </a:cubicBezTo>
                <a:cubicBezTo>
                  <a:pt x="208" y="261"/>
                  <a:pt x="228" y="230"/>
                  <a:pt x="242" y="189"/>
                </a:cubicBezTo>
                <a:cubicBezTo>
                  <a:pt x="262" y="128"/>
                  <a:pt x="271" y="71"/>
                  <a:pt x="319" y="26"/>
                </a:cubicBezTo>
                <a:cubicBezTo>
                  <a:pt x="522" y="37"/>
                  <a:pt x="466" y="0"/>
                  <a:pt x="539" y="112"/>
                </a:cubicBezTo>
                <a:cubicBezTo>
                  <a:pt x="536" y="160"/>
                  <a:pt x="535" y="208"/>
                  <a:pt x="530" y="256"/>
                </a:cubicBezTo>
                <a:cubicBezTo>
                  <a:pt x="524" y="310"/>
                  <a:pt x="473" y="326"/>
                  <a:pt x="443" y="362"/>
                </a:cubicBezTo>
                <a:cubicBezTo>
                  <a:pt x="416" y="395"/>
                  <a:pt x="391" y="432"/>
                  <a:pt x="367" y="467"/>
                </a:cubicBezTo>
                <a:cubicBezTo>
                  <a:pt x="336" y="513"/>
                  <a:pt x="327" y="563"/>
                  <a:pt x="290" y="602"/>
                </a:cubicBezTo>
                <a:cubicBezTo>
                  <a:pt x="280" y="631"/>
                  <a:pt x="262" y="655"/>
                  <a:pt x="242" y="678"/>
                </a:cubicBezTo>
                <a:cubicBezTo>
                  <a:pt x="230" y="692"/>
                  <a:pt x="203" y="717"/>
                  <a:pt x="203" y="717"/>
                </a:cubicBezTo>
                <a:cubicBezTo>
                  <a:pt x="193" y="750"/>
                  <a:pt x="180" y="769"/>
                  <a:pt x="155" y="794"/>
                </a:cubicBezTo>
                <a:cubicBezTo>
                  <a:pt x="138" y="845"/>
                  <a:pt x="118" y="893"/>
                  <a:pt x="88" y="938"/>
                </a:cubicBezTo>
                <a:cubicBezTo>
                  <a:pt x="78" y="969"/>
                  <a:pt x="60" y="983"/>
                  <a:pt x="50" y="1014"/>
                </a:cubicBezTo>
                <a:cubicBezTo>
                  <a:pt x="0" y="998"/>
                  <a:pt x="11" y="967"/>
                  <a:pt x="2" y="918"/>
                </a:cubicBez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4724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Aksaray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38080" y="685800"/>
          <a:ext cx="74678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048120" y="4648320"/>
            <a:ext cx="99036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666880"/>
            <a:ext cx="1219320" cy="762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124080"/>
            <a:ext cx="914400" cy="838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1676520"/>
            <a:ext cx="83808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676520"/>
            <a:ext cx="91440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1600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Larache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1371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963880"/>
            <a:ext cx="228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032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3352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952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Senega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920000" cy="5790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743200"/>
            <a:ext cx="1295280" cy="8380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wis721 BT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52320" y="2666880"/>
            <a:ext cx="38124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895480"/>
            <a:ext cx="1143000" cy="5335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25146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wis721 BT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3276360"/>
            <a:ext cx="38124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Ghana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19520" y="34290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809880"/>
            <a:ext cx="53316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9568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724280"/>
            <a:ext cx="68580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029200"/>
            <a:ext cx="6094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800600"/>
            <a:ext cx="38124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5410080"/>
            <a:ext cx="53352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4572000"/>
            <a:ext cx="3808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18148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5257800"/>
            <a:ext cx="533520" cy="3049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181480"/>
            <a:ext cx="7621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03848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taly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629400" cy="628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19720" y="3048120"/>
            <a:ext cx="114300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914400"/>
            <a:ext cx="1295280" cy="762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Spain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608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66880" y="457200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5105520"/>
            <a:ext cx="609840" cy="53316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72428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0552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343400"/>
            <a:ext cx="6094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038480"/>
            <a:ext cx="53352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2438280"/>
            <a:ext cx="457200" cy="6098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057400"/>
            <a:ext cx="5335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20574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1828800"/>
            <a:ext cx="5335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7432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-304920" y="0"/>
          <a:ext cx="9753840" cy="72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0"/>
                    <a:ext cx="975384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. What data to collec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33520"/>
            <a:ext cx="914400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Community, region and n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socioeconomic and demographic context dat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Household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(e.g. economic head of household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Household roster (selected information on ALL household members)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Information about living conditions and housing character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Current and past economic conditions of the househo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Remittanc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Individual (i.e.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eligible household member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Social, demographic and social interaction and integ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Economic activity, work statu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Migration history (!)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Household composition in country of origi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Economic situation before the last mig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Motives for move(s) abroa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Information about the last/current destin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Migration networks and assist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Experiences at destination and iIntentions for (future) emig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7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A. Main Theories on International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1. Theories on 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itiatio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1. Neoclassical economic theory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Lewis,1954; Todaro 1976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macro level factors only: geographical difference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ge,employment and capital investment opportunities cause migration.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ush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nd pull factor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i.e. factor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n place of origin (e.g. poverty, unemployment)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ush people out of that place to places with attractive features, e.g. high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living standard or job opportunitie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individual decides whether or not to emigrate: focus on maximizatio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 income and skills development. Cost of migration: only  perceiv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ancial and psychological costs determine whether emigration takes plac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 not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2. New Economics of Migration Theory (NELM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(Stark, 1981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ansion of macro level factors: i.e. volatility/failures of local (agricultural)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rkets. Lack of livelihood risk insurance and access to credit. Remittances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igrants as risk insurance for non-migrating household member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igration of individual is result of household decision-making. Emigratio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ributes to diversification of income sources and difference in income risk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iles. Remittances steady source of income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28600"/>
            <a:ext cx="9144000" cy="67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. Which analyses to carry ou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parative studies on determinants and consequenc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f international mig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-depth country studi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ulti-level analysis (macro/micro level effects on migration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llaborative research (policy makers and researcher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fferentials non-migrant/migrant households in send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receiving countri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pecific thematic studies of interest to policy makers an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ty of migration researchers, such as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    Determinants of remittances and effect on emigration  inten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    Design of representative samples for surveys cover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national migrant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2925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3.   Dual labor market theory (Piore, 1979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cro level factors only: main cause of emigration is structural labor needs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dern economies in destination areas (city, foreign country). Focus on pull-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ctors in destination areas: i.e structural shortage of labor at bottom-e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ccupational hierarchy/low status/low income jobs. Wage-level differenc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lect social stratification, objective of people is upward mobility away from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ttom-end jobs, to be filled by immigrant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glect individual and household level motives and decision making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4.  World Systems Theory (Wallerstein, 1974, Massey, 1989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cro level factors only: main cause of emigration is Economic and Politic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lobalization. Globalization brings about social change and alters tradition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loyer/labor relations and introduces modern means of productio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chanization) pushing unskilled laborers out of job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glect micro-level individual and household decision making, focus on macro-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conomic global processes, e.g. market penetration of firms from rich countri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o poor countries affecting local norms, values, desires, aspirations leading to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ased emigration intention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2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7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2. Theories on the perpetuation of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ctors that initiate migration can be different from those that perpetuate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gr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5.  Social Network theory (Hugo, 1981; Massey 1990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micro level factors: links between migrants and their friends/family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ck-home initiate new migration movements. Such social networks lowe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sks/costs of newcomers and lead to expansion of such networks in plac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igin and destination and to more potential migration flows. Dynamic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pective: decision-making environment changes over time, lowering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esholds for subsequent migrant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ention for individual/household-level decision making process, and for size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osition, quality characteristics of social networks.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6.  Institutional Theor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macro-level processes: perpetuation is result of effect of informal a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llegal migration circuits and organisations dealing with (undocumented)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grants. E.g. exploitation by one organization (migrant smuggling) is busines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 other organizations (Charitas)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glect individual and household level decision making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657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7.  Cumulative Causation Theory (Myrdal, 1957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macro-level socioeconomic processes; each act of migration result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alteration of the social context in which subsequent migration decisions a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ken, making new movements more likely. Six main socioeconomic factor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igin areas are affected leading to new migration flows: distribution of inco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 land, regional distribution of human capital, organization of agriculture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lture of migration, and the social meaning of work and particular job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ttle attention for the individual or household level decisionmaking proces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8.  Migration System Theory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Kritz and Zlotnik, 1992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both macro and micro level factors: attempt to integrate some of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vious macro and micro level theories. Key issue is identification a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ination of stable migration flows between places of origin a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tinations to explain initiation and perpetuation of migration. 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‘International migration system’ consist of a particular set of core receiving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ons in countries of destination and a set of core sending region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untries of origin. Task is to identify, examine and relate migration process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sending and receiving area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kes account of individual and household level decision making processe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609480"/>
            <a:ext cx="822960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imes New Roman"/>
              </a:rPr>
              <a:t>B.  Theory-based empirical research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IDI/EUROSTAT study on determinants and consequences of international migration in selected African and European Countries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96-1997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9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ackground of the stu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creasing international migration flows in magnitude and complexit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wing attention at the policy level for causes and consequences of international migration in countries of origin and destin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 improve the understanding of the direct and indirect causes and mechanisms of international migration to the European Union, from an internationally comparative perspectiv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240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579600" indent="-522360"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search Objective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14400" indent="0">
              <a:buNone/>
              <a:tabLst>
                <a:tab algn="l" pos="0"/>
                <a:tab algn="l" pos="933480"/>
                <a:tab algn="l" pos="1089000"/>
                <a:tab algn="l" pos="1244520"/>
                <a:tab algn="l" pos="1400040"/>
                <a:tab algn="l" pos="1555920"/>
                <a:tab algn="l" pos="1711440"/>
                <a:tab algn="l" pos="1866960"/>
                <a:tab algn="l" pos="2022480"/>
                <a:tab algn="l" pos="2178000"/>
                <a:tab algn="l" pos="2333520"/>
                <a:tab algn="l" pos="2489040"/>
                <a:tab algn="l" pos="2644920"/>
                <a:tab algn="l" pos="2800440"/>
                <a:tab algn="l" pos="2955960"/>
                <a:tab algn="l" pos="3111480"/>
                <a:tab algn="l" pos="3267000"/>
                <a:tab algn="l" pos="3422520"/>
                <a:tab algn="l" pos="3578400"/>
                <a:tab algn="l" pos="3733920"/>
                <a:tab algn="l" pos="388944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search design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oretical framework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Migration System Theory (Kritz and Zlotnik, 1992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Social Network Theory (Hugo, 1981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Cumulative Causation Theory (Myrdal, 1957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oretical perspective is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guide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. From what or whom to collect data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. Definition of key concept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. Coverage and representativity of dat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. What data to colle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. Which analyses to carry ou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. From what or whom to collect dat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Different levels of spatial aggregation and different time periods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Country, province, town/community (context)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Household and individuals (socio-economic, demographic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and migration-related behavioural characteristics)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Ideally, 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ngitudinal data (life-course  perspective), but too costly.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Therefore, single-round cross-sectional surveys with retrospective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questions in countries belonging to same migration system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deally, collect/analyse data on appropriate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comparison groups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Households in origin countries that have not migrated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Households in destination countries that migrated as  entir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households and come from the same origin count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Individual migrants in a destination country that come from the sam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origin country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Households remaining in the origin country from which someon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emigrated to that destination count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22:47:56Z</dcterms:created>
  <dc:creator>Rob van der Erf</dc:creator>
  <dc:description/>
  <dc:language>en-US</dc:language>
  <cp:lastModifiedBy>George Groenewold</cp:lastModifiedBy>
  <cp:lastPrinted>2003-11-19T22:36:43Z</cp:lastPrinted>
  <dcterms:modified xsi:type="dcterms:W3CDTF">2005-02-02T13:58:20Z</dcterms:modified>
  <cp:revision>229</cp:revision>
  <dc:subject/>
  <dc:title>No Slide Title</dc:title>
</cp:coreProperties>
</file>