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6E7B-D7D9-4961-94F3-DF79D8668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F674-431E-453B-A84B-71CAC1F65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82F5-0615-46C7-A848-D351F00A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AAC7-8B94-42D9-AF40-832E285A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9D41-28D1-4501-9B2B-CCDBBC87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668B-6D31-46EB-A417-C17BCE39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2D42-0116-4AE8-ACA2-4DF47767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E56D-4C76-41F9-85E5-9B5C73D8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DB12-BA59-4229-88F8-C84CEBD9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C738-FFA2-462D-9879-F6CDB37C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840B-0AE9-4ABC-94DE-49DF3175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2CB2-FDC4-4948-9F91-C55B7A77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AE49-AE44-4DED-BBD9-119AD75D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D2A7-6FF9-488B-B7E6-DD96E8ED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219320"/>
            <a:ext cx="838440" cy="4876560"/>
          </a:xfrm>
          <a:prstGeom prst="rect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1C30-DAAC-4F5F-A9C0-6E09A568CC0F}" type="slidenum">
              <a:rPr b="0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228600"/>
            <a:ext cx="6061320" cy="0"/>
          </a:xfrm>
          <a:prstGeom prst="line">
            <a:avLst/>
          </a:prstGeom>
          <a:ln w="25560">
            <a:solidFill>
              <a:srgbClr val="9ac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8229600" y="0"/>
          <a:ext cx="703440" cy="50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29600" y="0"/>
                    <a:ext cx="7034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" name="" descr=""/>
          <p:cNvPicPr/>
          <p:nvPr/>
        </p:nvPicPr>
        <p:blipFill>
          <a:blip r:embed="rId4">
            <a:lum contrast="-18000"/>
          </a:blip>
          <a:stretch/>
        </p:blipFill>
        <p:spPr>
          <a:xfrm>
            <a:off x="152280" y="0"/>
            <a:ext cx="741600" cy="5396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09720" y="230040"/>
            <a:ext cx="7294320" cy="1800"/>
          </a:xfrm>
          <a:custGeom>
            <a:avLst/>
            <a:gdLst/>
            <a:ahLst/>
            <a:rect l="l" t="t" r="r" b="b"/>
            <a:pathLst>
              <a:path w="4595" h="1">
                <a:moveTo>
                  <a:pt x="0" y="0"/>
                </a:moveTo>
                <a:lnTo>
                  <a:pt x="4595" y="0"/>
                </a:lnTo>
              </a:path>
            </a:pathLst>
          </a:custGeom>
          <a:noFill/>
          <a:ln w="255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47920"/>
            <a:ext cx="924228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Migration Theories and their Applicatio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George Groenewold, NiDi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99"/>
                </a:solidFill>
                <a:uFillTx/>
                <a:latin typeface="Arial"/>
              </a:rPr>
              <a:t>A. Main Theories on International Migr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- Initiation viz.. perpetu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- Macro/micro level factor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99"/>
                </a:solidFill>
                <a:uFillTx/>
                <a:latin typeface="Arial"/>
              </a:rPr>
              <a:t>B. Theory-based empirical research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-  NIDI/EUROSTAT study in selected African and Europea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ountri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762120" indent="-381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0"/>
            <a:ext cx="815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UNFPA/UNECE/NIDI Training programme on international migration, Geneva, 24-28/01/2005 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0880"/>
            <a:ext cx="777240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0"/>
          <a:ext cx="1219320" cy="91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193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. Definition of key concepts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tandardization of definitions to facilitate comparative analysis, such as: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752480"/>
            <a:ext cx="914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Household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ersons living together with communal arrangements on subsistence and other necessities of lif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lus those who are presently residing elsewhere but whose principal commitments and obligations are to that household with expectation of return or joi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Migr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move from one place in order to go and live in another place for a continuous period of at least one yea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80060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Recent migrant household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household with at least one member who left within the past ten years and either returned after a period of at least one year, or is currently living abroad and left at least three months ago.The household may be classified as current or return or a combination of the two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257800" y="0"/>
            <a:ext cx="38862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548640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. Coverage, scope and depth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sts limit to coverage, scope, depth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igration system consisting of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ountries in North and West Africa,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outh-East Mediterranean and EU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ountri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rigin/receiving countries:     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- Specific regions within countri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- Migrants to all destinations and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non-migrants (origin countries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- Two immigrant groups from 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rigin countries (receiving countries)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- Though no qualitative research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1143000"/>
          <a:ext cx="769608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43000"/>
                    <a:ext cx="7696080" cy="5105520"/>
                  </a:xfrm>
                  <a:prstGeom prst="rect">
                    <a:avLst/>
                  </a:prstGeom>
                  <a:ln w="28440">
                    <a:solidFill>
                      <a:srgbClr val="0000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2286000" y="3581280"/>
            <a:ext cx="609480" cy="129564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4800600"/>
            <a:ext cx="914400" cy="83808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4724280"/>
            <a:ext cx="1143000" cy="60984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3886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M/M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29000" y="3032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M/L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67280" y="44197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M/L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4419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M/M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28195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2971800"/>
            <a:ext cx="838080" cy="1676520"/>
          </a:xfrm>
          <a:custGeom>
            <a:avLst/>
            <a:gdLst/>
            <a:ahLst/>
            <a:rect l="l" t="t" r="r" b="b"/>
            <a:pathLst>
              <a:path w="539" h="1014">
                <a:moveTo>
                  <a:pt x="2" y="918"/>
                </a:moveTo>
                <a:cubicBezTo>
                  <a:pt x="11" y="772"/>
                  <a:pt x="15" y="629"/>
                  <a:pt x="98" y="506"/>
                </a:cubicBezTo>
                <a:cubicBezTo>
                  <a:pt x="121" y="436"/>
                  <a:pt x="154" y="365"/>
                  <a:pt x="194" y="304"/>
                </a:cubicBezTo>
                <a:cubicBezTo>
                  <a:pt x="208" y="261"/>
                  <a:pt x="228" y="230"/>
                  <a:pt x="242" y="189"/>
                </a:cubicBezTo>
                <a:cubicBezTo>
                  <a:pt x="262" y="128"/>
                  <a:pt x="271" y="71"/>
                  <a:pt x="319" y="26"/>
                </a:cubicBezTo>
                <a:cubicBezTo>
                  <a:pt x="522" y="37"/>
                  <a:pt x="466" y="0"/>
                  <a:pt x="539" y="112"/>
                </a:cubicBezTo>
                <a:cubicBezTo>
                  <a:pt x="536" y="160"/>
                  <a:pt x="535" y="208"/>
                  <a:pt x="530" y="256"/>
                </a:cubicBezTo>
                <a:cubicBezTo>
                  <a:pt x="524" y="310"/>
                  <a:pt x="473" y="326"/>
                  <a:pt x="443" y="362"/>
                </a:cubicBezTo>
                <a:cubicBezTo>
                  <a:pt x="416" y="395"/>
                  <a:pt x="391" y="432"/>
                  <a:pt x="367" y="467"/>
                </a:cubicBezTo>
                <a:cubicBezTo>
                  <a:pt x="336" y="513"/>
                  <a:pt x="327" y="563"/>
                  <a:pt x="290" y="602"/>
                </a:cubicBezTo>
                <a:cubicBezTo>
                  <a:pt x="280" y="631"/>
                  <a:pt x="262" y="655"/>
                  <a:pt x="242" y="678"/>
                </a:cubicBezTo>
                <a:cubicBezTo>
                  <a:pt x="230" y="692"/>
                  <a:pt x="203" y="717"/>
                  <a:pt x="203" y="717"/>
                </a:cubicBezTo>
                <a:cubicBezTo>
                  <a:pt x="193" y="750"/>
                  <a:pt x="180" y="769"/>
                  <a:pt x="155" y="794"/>
                </a:cubicBezTo>
                <a:cubicBezTo>
                  <a:pt x="138" y="845"/>
                  <a:pt x="118" y="893"/>
                  <a:pt x="88" y="938"/>
                </a:cubicBezTo>
                <a:cubicBezTo>
                  <a:pt x="78" y="969"/>
                  <a:pt x="60" y="983"/>
                  <a:pt x="50" y="1014"/>
                </a:cubicBezTo>
                <a:cubicBezTo>
                  <a:pt x="0" y="998"/>
                  <a:pt x="11" y="967"/>
                  <a:pt x="2" y="918"/>
                </a:cubicBezTo>
                <a:close/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47242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s721 BT"/>
              </a:rPr>
              <a:t>Aksaray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4648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838080" y="685800"/>
          <a:ext cx="74678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685800"/>
                    <a:ext cx="74678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3048120" y="4648320"/>
            <a:ext cx="990360" cy="68580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666880"/>
            <a:ext cx="1219320" cy="76212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3124080"/>
            <a:ext cx="914400" cy="83844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05720" y="1676520"/>
            <a:ext cx="838080" cy="60948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1676520"/>
            <a:ext cx="914400" cy="60948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16002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s721 BT"/>
              </a:rPr>
              <a:t>Larache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17524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M/M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13716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M/M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6200" y="2963880"/>
            <a:ext cx="228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3032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M/M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3352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M/L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49528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M/L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Senega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920000" cy="5790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219320" y="2743200"/>
            <a:ext cx="1295280" cy="83808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Swis721 BT"/>
              </a:rPr>
              <a:t>RM/M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352320" y="2666880"/>
            <a:ext cx="381240" cy="4572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2895480"/>
            <a:ext cx="1143000" cy="53352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251460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Swis721 BT"/>
              </a:rPr>
              <a:t>RM/L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295280" y="3276360"/>
            <a:ext cx="381240" cy="5331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Ghana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7086600" cy="5791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819520" y="3429000"/>
            <a:ext cx="609480" cy="53352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3809880"/>
            <a:ext cx="533160" cy="38124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95680"/>
            <a:ext cx="457200" cy="4572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4724280"/>
            <a:ext cx="685800" cy="38124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5029200"/>
            <a:ext cx="609480" cy="4572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4800600"/>
            <a:ext cx="381240" cy="53352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5410080"/>
            <a:ext cx="533520" cy="38124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4572000"/>
            <a:ext cx="380880" cy="4572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5181480"/>
            <a:ext cx="457200" cy="4572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43600" y="5257800"/>
            <a:ext cx="533520" cy="30492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5181480"/>
            <a:ext cx="762120" cy="4572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00400" y="4038480"/>
            <a:ext cx="457200" cy="53352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3200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RM/LD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42670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RM/MD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4495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EM/LD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680" y="4876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EM/MD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taly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6629400" cy="6281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419720" y="3048120"/>
            <a:ext cx="1143000" cy="68580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914400"/>
            <a:ext cx="1295280" cy="76212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Spain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543800" cy="6086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666880" y="4572000"/>
            <a:ext cx="457200" cy="53352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52680" y="5105520"/>
            <a:ext cx="609840" cy="53316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4724280"/>
            <a:ext cx="457200" cy="53352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5105520"/>
            <a:ext cx="457200" cy="4572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4343400"/>
            <a:ext cx="609480" cy="4572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4038480"/>
            <a:ext cx="533520" cy="53352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3429000"/>
            <a:ext cx="838080" cy="4572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2438280"/>
            <a:ext cx="457200" cy="60984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5880" y="2057400"/>
            <a:ext cx="533520" cy="4572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2057400"/>
            <a:ext cx="609480" cy="53352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15200" y="1828800"/>
            <a:ext cx="533520" cy="4572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33920" y="2743200"/>
            <a:ext cx="609480" cy="53352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-304920" y="0"/>
          <a:ext cx="9753840" cy="72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0"/>
                    <a:ext cx="9753840" cy="72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. What data to collect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533520"/>
            <a:ext cx="9144000" cy="62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2400" spc="-1" strike="noStrike" u="sng">
                <a:solidFill>
                  <a:srgbClr val="000099"/>
                </a:solidFill>
                <a:uFillTx/>
                <a:latin typeface="Arial"/>
              </a:rPr>
              <a:t>Community, region and n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-socioeconomic and demographic context data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2400" spc="-1" strike="noStrike" u="sng">
                <a:solidFill>
                  <a:srgbClr val="000099"/>
                </a:solidFill>
                <a:uFillTx/>
                <a:latin typeface="Arial"/>
              </a:rPr>
              <a:t>Household </a:t>
            </a:r>
            <a:r>
              <a:rPr b="1" lang="en-GB" sz="2000" spc="-1" strike="noStrike" u="sng">
                <a:solidFill>
                  <a:srgbClr val="000099"/>
                </a:solidFill>
                <a:uFillTx/>
                <a:latin typeface="Arial"/>
              </a:rPr>
              <a:t>(e.g. economic head of household)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- Household roster (selected information on ALL household members)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- Information about living conditions and housing characteristic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- Current and past economic conditions of the househol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- Remittance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2400" spc="-1" strike="noStrike" u="sng">
                <a:solidFill>
                  <a:srgbClr val="000099"/>
                </a:solidFill>
                <a:uFillTx/>
                <a:latin typeface="Arial"/>
              </a:rPr>
              <a:t>Individual (i.e. </a:t>
            </a:r>
            <a:r>
              <a:rPr b="1" lang="en-GB" sz="2000" spc="-1" strike="noStrike" u="sng">
                <a:solidFill>
                  <a:srgbClr val="000099"/>
                </a:solidFill>
                <a:uFillTx/>
                <a:latin typeface="Arial"/>
              </a:rPr>
              <a:t>eligible household member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- Social, demographic and social interaction and integra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- Economic activity, work statu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- Migration history (!)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- Household composition in country of origin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- Economic situation before the last migra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- Motives for move(s) abroa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- Information about the last/current destina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- Migration networks and assistanc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- Experiences at destination and iIntentions for (future) emigra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7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2400" spc="-1" strike="noStrike" u="sng">
                <a:solidFill>
                  <a:srgbClr val="000099"/>
                </a:solidFill>
                <a:uFillTx/>
                <a:latin typeface="Arial"/>
              </a:rPr>
              <a:t>A. Main Theories on International Migr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1. Theories on the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initiation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f Migr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1. Neoclassical economic theory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(Lewis,1954; Todaro 1976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ocus on macro level factors only: geographical differences in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ge,employment and capital investment opportunities cause migration.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Push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and pull factor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 i.e. factor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in place of origin (e.g. poverty, unemployment)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push people out of that place to places with attractive features, e.g. high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living standard or job opportunities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ly individual decides whether or not to emigrate: focus on maximization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f income and skills development. Cost of migration: only  perceived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nancial and psychological costs determine whether emigration takes plac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r not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2. New Economics of Migration Theory (NELM)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(Stark, 1981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pansion of macro level factors: i.e. volatility/failures of local (agricultural)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rkets. Lack of livelihood risk insurance and access to credit. Remittances of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migrants as risk insurance for non-migrating household members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migration of individual is result of household decision-making. Emigration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tributes to diversification of income sources and difference in income risk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files. Remittances steady source of income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228600"/>
            <a:ext cx="9144000" cy="67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. Which analyses to carry out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mparative studies on determinants and consequence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f international migra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-depth country studie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ulti-level analysis (macro/micro level effects on migration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llaborative research (policy makers and researchers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fferentials non-migrant/migrant households in sendin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nd receiving countrie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pecific thematic studies of interest to policy makers an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mmunity of migration researchers, such as: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    Determinants of remittances and effect on emigration  intention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    Design of representative samples for surveys coverin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ternational migrant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33520" y="29257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3.   Dual labor market theory (Piore, 1979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cro level factors only: main cause of emigration is structural labor needs of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odern economies in destination areas (city, foreign country). Focus on pull-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actors in destination areas: i.e structural shortage of labor at bottom-end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ccupational hierarchy/low status/low income jobs. Wage-level difference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flect social stratification, objective of people is upward mobility away from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ottom-end jobs, to be filled by immigrants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glect individual and household level motives and decision making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4.  World Systems Theory (Wallerstein, 1974, Massey, 1989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cro level factors only: main cause of emigration is Economic and Political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lobalization. Globalization brings about social change and alters traditional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mployer/labor relations and introduces modern means of production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mechanization) pushing unskilled laborers out of jobs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glect micro-level individual and household decision making, focus on macro-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conomic global processes, e.g. market penetration of firms from rich countrie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o poor countries affecting local norms, values, desires, aspirations leading to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creased emigration intentions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7621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7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2. Theories on the perpetuation of migr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actors that initiate migration can be different from those that perpetuate        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igr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5.  Social Network theory (Hugo, 1981; Massey 1990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ocus on micro level factors: links between migrants and their friends/family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ack-home initiate new migration movements. Such social networks lower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isks/costs of newcomers and lead to expansion of such networks in place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rigin and destination and to more potential migration flows. Dynamic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erspective: decision-making environment changes over time, lowering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resholds for subsequent migrants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ttention for individual/household-level decision making process, and for size,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osition, quality characteristics of social networks. 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6.  Institutional Theory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ocus on macro-level processes: perpetuation is result of effect of informal and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llegal migration circuits and organisations dealing with (undocumented)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igrants. E.g. exploitation by one organization (migrant smuggling) is busines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or other organizations (Charitas)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glect individual and household level decision making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6578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7.  Cumulative Causation Theory (Myrdal, 1957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ocus on macro-level socioeconomic processes; each act of migration result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 alteration of the social context in which subsequent migration decisions ar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aken, making new movements more likely. Six main socioeconomic factors in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rigin areas are affected leading to new migration flows: distribution of incom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d land, regional distribution of human capital, organization of agriculture,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ulture of migration, and the social meaning of work and particular jobs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ttle attention for the individual or household level decisionmaking process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8.  Migration System Theory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Kritz and Zlotnik, 1992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ocus on both macro and micro level factors: attempt to integrate some of th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evious macro and micro level theories. Key issue is identification and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amination of stable migration flows between places of origin and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stinations to explain initiation and perpetuation of migration. An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‘International migration system’ consist of a particular set of core receiving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ons in countries of destination and a set of core sending regions in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untries of origin. Task is to identify, examine and relate migration processe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 sending and receiving areas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akes account of individual and household level decision making processes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609480"/>
            <a:ext cx="8229600" cy="42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99"/>
                </a:solidFill>
                <a:uFillTx/>
                <a:latin typeface="Times New Roman"/>
              </a:rPr>
              <a:t>B.  Theory-based empirical research</a:t>
            </a:r>
            <a:br>
              <a:rPr sz="2800"/>
            </a:b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NIDI/EUROSTAT study on determinants and consequences of international migration in selected African and European Countries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996-1997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89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ackground of the stud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creasing international migration flows in magnitude and complexity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rowing attention at the policy level for causes and consequences of international migration in countries of origin and destin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96252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o improve the understanding of the direct and indirect causes and mechanisms of international migration to the European Union, from an internationally comparative perspectiv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124080"/>
            <a:ext cx="3809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579600" indent="-522360">
              <a:lnSpc>
                <a:spcPct val="100000"/>
              </a:lnSpc>
              <a:tabLst>
                <a:tab algn="l" pos="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search Objective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914400" indent="0">
              <a:buNone/>
              <a:tabLst>
                <a:tab algn="l" pos="0"/>
                <a:tab algn="l" pos="933480"/>
                <a:tab algn="l" pos="1089000"/>
                <a:tab algn="l" pos="1244520"/>
                <a:tab algn="l" pos="1400040"/>
                <a:tab algn="l" pos="1555920"/>
                <a:tab algn="l" pos="1711440"/>
                <a:tab algn="l" pos="1866960"/>
                <a:tab algn="l" pos="2022480"/>
                <a:tab algn="l" pos="2178000"/>
                <a:tab algn="l" pos="2333520"/>
                <a:tab algn="l" pos="2489040"/>
                <a:tab algn="l" pos="2644920"/>
                <a:tab algn="l" pos="2800440"/>
                <a:tab algn="l" pos="2955960"/>
                <a:tab algn="l" pos="3111480"/>
                <a:tab algn="l" pos="3267000"/>
                <a:tab algn="l" pos="3422520"/>
                <a:tab algn="l" pos="3578400"/>
                <a:tab algn="l" pos="3733920"/>
                <a:tab algn="l" pos="388944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search design</a:t>
            </a:r>
            <a:br>
              <a:rPr sz="2800"/>
            </a:b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2000"/>
          </a:bodyPr>
          <a:p>
            <a:pPr marL="144000" indent="-1440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oretical framework: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144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144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Migration System Theory (Kritz and Zlotnik, 1992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144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Social Network Theory (Hugo, 1981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144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Cumulative Causation Theory (Myrdal, 1957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144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144000" indent="-1440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oretical perspective is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guide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o: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144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. From what or whom to collect data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144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. Definition of key concepts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144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. Coverage and representativity of data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144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. What data to collec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144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. Which analyses to carry ou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3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. From what or whom to collect data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Different levels of spatial aggregation and different time periods: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- Country, province, town/community (context)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- Household and individuals (socio-economic, demographic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 and migration-related behavioural characteristics)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- Ideally, l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ngitudinal data (life-course  perspective), but too costly.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Therefore, single-round cross-sectional surveys with retrospective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questions in countries belonging to same migration system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Ideally, collect/analyse data on appropriate </a:t>
            </a:r>
            <a:r>
              <a:rPr b="1" i="1" lang="en-GB" sz="2000" spc="-1" strike="noStrike">
                <a:solidFill>
                  <a:srgbClr val="000099"/>
                </a:solidFill>
                <a:latin typeface="Arial"/>
              </a:rPr>
              <a:t>comparison groups: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- Households in origin countries that have not migrated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- Households in destination countries that migrated as  entire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 households and come from the same origin countr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- Individual migrants in a destination country that come from the same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 origin country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- Households remaining in the origin country from which someone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 emigrated to that destination countr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5T22:47:56Z</dcterms:created>
  <dc:creator>Rob van der Erf</dc:creator>
  <dc:description/>
  <dc:language>en-US</dc:language>
  <cp:lastModifiedBy>George Groenewold</cp:lastModifiedBy>
  <cp:lastPrinted>2003-11-19T22:36:43Z</cp:lastPrinted>
  <dcterms:modified xsi:type="dcterms:W3CDTF">2005-02-02T13:58:20Z</dcterms:modified>
  <cp:revision>229</cp:revision>
  <dc:subject/>
  <dc:title>No Slide Title</dc:title>
</cp:coreProperties>
</file>