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DA3-E95D-4690-BF65-8FAFBF16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5C9-8DF2-45E1-A38D-11ED2C21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AA6-175A-4947-B90D-8E4A4B37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7FF-0FF0-4CB1-ACAB-D4F84355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E17-36E5-427F-A3E9-46F4A2E4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84A-8DA1-4143-B8E5-A7D74EDE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CD86-F8FB-4B7B-ABED-D2C1DB0C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8FE-A450-4042-BA32-5488ABBB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63C6-A49D-4874-8DE3-95381DFE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2A75-FDA8-4CA8-B8E3-04701388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256-1E4B-46C0-8A8D-27D709F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55D-59AA-42B0-8847-7FFCA33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CF40-1D9B-47E2-8FA2-1BF7F17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C075-3CFD-49F1-9685-C53706F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822A-4E70-4BAD-BA4E-E14F0AE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076-C406-4846-88CD-0D9F6783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5CC-8ECB-4467-9E33-B892492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6F1-6982-48AA-B6C6-C16B2DDB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F4E-13ED-40D3-BE2A-819BD3F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627-BA4A-4AF9-9055-3C60BBC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B4F-E0FC-4130-AD51-B07ED5D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424-C726-4905-8018-CA59F5B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B89-3A11-4443-A7DB-180111B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917-3625-4B44-82CB-4CF5832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E39-27E3-4390-9FDE-60672447985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8F6-7645-4519-A9E6-D3080C4D9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55B8-03E1-4867-ACF8-2B8BF5D2EE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0D7-4528-48A8-BF35-97F09CBB5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742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ограмма повышения квалификации по проблемам международной миграци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ована Европейской экономической комиссией и Фондом народонаселения  ООН при  сотрудничеств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Нидерландским Институтом междисциплинарных демографических исследований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D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Женева, Швейцар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-28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Январ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CF40-03A3-4AD4-8264-539177968F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является беженце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(195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манитар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живающие в течение длительного времен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rejecte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щущие убежищ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ичие, доступ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ленность беженце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ис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у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ол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ревшие дан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динение регистров (связывание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ис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еврем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годная статисти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1-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правляе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ийные перемещения против регулируемой ми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Опыт/пробл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9EE-F16A-4C7C-8481-E6C7440C62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Пример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оценка численности беженцев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данных о беженца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наличии реги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лет признания лиц, ищущих убежища, (всех статусов , на всех уровнях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т прибытий перемещенных лиц, беженце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применим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а численности предполагаемых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 faci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беженце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B2B-BCFD-4FDD-9B74-63CB272CF1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азовые данны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м.заголовок)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L)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вая инстанц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а таблица для каждого уровн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T)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авительство, Верховный Комиссариат ОО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лучаи/лиц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е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[‘51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в. Гуманит. стату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клоне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рытые по иным причина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жидающие решения по гражданству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ючая лиц без гражданства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 %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нщи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ормулы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го принято решений =  решений о признании +  решений о призн. беженцем по  гуманитарным причинам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тклоненных +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рытых по иным причин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на начало период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– число на конец предыдущего пери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ожидающих на конец период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исло на начало периода +  число обращений – число принятых решен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эффициент признания беженце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Признано :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[признано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гуманитарных + отклоненных  ]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щий коэффициент признани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: [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 + гуманитар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зна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уманитарные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тклоненны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]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менение пропорций  в случаях с ожидающими реш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Стандарты – лица, ищущие убежища</a:t>
            </a:r>
            <a:br>
              <a:rPr sz="4000"/>
            </a:b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UNHCR Annual Statistical Report--Table V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9A0-8F2A-4835-932D-0DED20CFC2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ичие и доступ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ытые по иным основаниям учитываются отдельно от отклон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щен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мотре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нщ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щения по меся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еврем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жегодная статист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-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месячны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квартальные обращен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2/3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постав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видно необоснованны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редством предварительного отбора или без нег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уманитарный стату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дельный вид статуса или отклоненн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Опыт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/</a:t>
            </a: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облем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895-9C6E-4733-B20C-D4FEE3C231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Специальные вопрос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вязь убежище-мигра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комендации ООН по международной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атистике мигр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миграция  (структура)  по целям прибы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существующих национальных источ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ложение беженце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Цели развития тысячеле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3F8-74D6-4498-97C6-19BD9891A9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Иммиграция  (структура)  по целям прибытия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т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госрочные виды на жительство, выданные  по категория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бывши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, учеба, воссоединение сем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оединение семей дифференцируется по первичной категории прибывших  (убежище, работа, учеба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исленность мигра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истр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пись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A05-5CC1-47AA-BD90-F23C7D0CC9E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Лучшая практик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I—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Швеция</a:t>
            </a:r>
            <a:br>
              <a:rPr sz="4000"/>
            </a:br>
            <a:r>
              <a:rPr b="0" lang="ru-RU" sz="1600" spc="-1" strike="noStrike">
                <a:solidFill>
                  <a:srgbClr val="cbcbcb"/>
                </a:solidFill>
                <a:latin typeface="Times New Roman"/>
              </a:rPr>
              <a:t>(Выданные виды на жительство ы 1990-2003 гг., ) </a:t>
            </a: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6520" cy="4665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F76-1CE7-4363-9EF1-F3EDAE9D2E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Лучшая практика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II -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мб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ь иммиграции в переписи населения и домохозяйств  2000 г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нансировалась УВКБ ОО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Если Вы иностранец, какова причина въезда в эту страну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б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соединение сем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б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бежищ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139-1C15-4F3E-ACBF-72DA020EFD7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оложение  беженцев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HCR Standards and Indicators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-Millennium Development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 наблюдени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у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равоохран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итарные услов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о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лищные усло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чни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544-A9D0-473B-9027-297160C2FC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Заключительная часть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источник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енность и потоки беженц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язь с документирование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тус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ис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е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утри-перемещенное лиц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ел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щущие убежищ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язь с  документирование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тус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жение лиц, ищущих убежище и беженце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тивные запис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ис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443-F8A5-46DA-8AA5-280345E948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3280" y="260280"/>
            <a:ext cx="8280360" cy="21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Статистика по беженцам, лицам, ищущим убежище,  и перемещенным лицам</a:t>
            </a:r>
            <a:br>
              <a:rPr sz="3200"/>
            </a:b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на примере стран, входящих в регион Европейской экономической комиссии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195280" y="3499920"/>
            <a:ext cx="655308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 Хов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ый статист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ховный Комиссариат ООН по делам бежен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н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8B3C-2845-4407-A644-FDA6F9F19B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Заключительная часть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беженцы и международные мигранты – общие черты и различия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ект расчета численности нас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цы являются международными мигрантами, т.к. они пересекают международную границ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няют место житель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ект международного пра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ъез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возвращение ил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n-refoule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енцев  – международное право /обязательство государ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ъезд (допуск) международных мигрантов является прерогативой госуда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граничение важно, поскольку отношение  к мигрантам значительно отличает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A53-D24B-4412-8779-A7F7509F8F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И наконец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 чего следует ожидать от УВКБ ООН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тистический ежегодни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1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год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вартальные тенденци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3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а в го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жемесячные данные о числе обращений за предоставлением убежища  в 35 развитых странах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жемесячно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жеквартально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-hoc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четы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ециальные запрос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няются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держка сбора данных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, документаци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КБ ООН представительства в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www.unhcr.ch (statistic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-mail hotline + distribution list (stats@unhcr .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29B-BA02-4550-AB7B-A430D6EC1491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лан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да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ридические основ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ВКБ ОО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сштаб деятельнос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ифры и проблем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мещенные лиц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еженцы, внутри- перемещенные лиц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явления о предоставлении убежища и определение статуса беженц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ециальные вопро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666-608D-4799-89B0-652A0A931F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ндат Верховного Комиссара по делам беженцев - общие положения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жен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ООН по статусу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7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токол о статусе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ца без гражданств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женцы и лица, не являющиеся беженцам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54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по лицам без гражда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6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по  сокращению отсутствия гражда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нутри-перемещенные лиц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D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рос от  Совета безопасно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ьного  Секретар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ведомственный подх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FF4-388B-439A-86C4-E0A984A423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ндат Верховного Комиссара по делам беженцев - статистика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1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венция ООН относительно Статуса Беженце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писывающие государства предпринимают меры для обеспечения Службы Верховного Комиссара  в соответствующей форме  требуемой информацией 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татистическим данны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состояния беженцев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” (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татья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35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отрудничество национальных властей с Объединенными нация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о Службе Верховного Комиссара ООН  по делам беженце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ховный комиссар должен обеспечивать защитой беженцев, находящихся   в компетенции его Службы, путем  получения от правительств информации относительно численности и условий жизни беженцев на территории их государств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…)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II.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ункции Верховного Комиссар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73C-2A4C-4214-A448-0BD43B6277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сштабы вынужденных перемещений – факты и цифр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9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лионов перемещенных лиц в мир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,000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селения мир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.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беженцев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UNHC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1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Палестинских беженцев в Ближневосточном регион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NRW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нутри-перемещенных лиц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UN/OCH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лионов лиц в компетенции Верховного Комиссара, конец 2003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.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беженце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0,000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ищущих убежищ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решенные случа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2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нутри-перемещенных лиц (только в компетенции Верховного Комиссара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лионов возвратных мигрантов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еженцев и внутри-перемещенных лиц, которые  вернулись домой в 2003 г.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0,000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 с разным статусом (без гражданства, не являющиеся беженцами,  вынужденные мигранты и т.д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205-DEB8-472B-B673-21BE6C0B87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Масштабы вынужденных перемещений 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проблем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32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бровольно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нужденное перемещ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ихийно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ответствующие проблемы со сбором да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ще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сутствуют (лица без гражданст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и страны или международ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фликт или преследова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родные бедстви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ассовые потоки индиви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щение, возвращение (после конфлик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центре внима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аны происхождения, транзита и прибы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госрочные и краткосроч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гион Европейской экономической комиссии очень неоднороден, включает все приведенные выше сцена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254640"/>
            <a:ext cx="59544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6A0-B4CB-49C4-8ADC-85A8AFD0D8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7756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Стандарты- беженцы (внутри-</a:t>
            </a:r>
            <a:br>
              <a:rPr sz="2800"/>
            </a:b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перемещенные лица)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(UNHCR Annual Statistical Report--Table II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ло мигрантов, проживающих в стране, и пото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исленность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селения (беженцев) на начал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ец период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Увеличение (прирост)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вязанный с юридическими, демографическими и административными причинам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 требующие доказательств (prima faci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ризнанные группой, в  индивидуальном порядк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венция о гуманитарном статус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еления, рождения и т.д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окращение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вязанное с с юридическими, демографическими и административными причинами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ровольная репатриация, переселение, прекращение (статуса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урализация, смертность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ификац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т.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9C4-F144-4C8D-A0B2-CC040F67E9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Стандарты- беженцы (внутри-перемещенные лица)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(UNHCR Annual Statistical Report--Tables III and IV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, возраст, расположение (лагеря, города, и .т.д.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ий стату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5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венция, гуманитарный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признани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ри отсутствии доказательст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о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бл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I, III and I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6093000"/>
            <a:ext cx="595440" cy="60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unhcr.ch (statistic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9EA-4F54-400B-AB6B-CF4CDEF44C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3:11:05Z</dcterms:created>
  <dc:creator>Bela Hovy, Statistics</dc:creator>
  <dc:description/>
  <dc:language>en-US</dc:language>
  <cp:lastModifiedBy>user</cp:lastModifiedBy>
  <cp:lastPrinted>2003-05-18T07:56:04Z</cp:lastPrinted>
  <dcterms:modified xsi:type="dcterms:W3CDTF">2005-03-28T06:13:52Z</dcterms:modified>
  <cp:revision>311</cp:revision>
  <dc:subject/>
  <dc:title>Refugee, asylum-seeker and forced displacement statistics</dc:title>
</cp:coreProperties>
</file>