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F24D-2312-4C8C-A557-4EA264ECC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D97D-4B22-4F35-9B38-24FBFB0C8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7CF3-EA2D-42F3-B3F0-AA2DBABAB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BA6C-958B-4BA0-ABD8-B60259D89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78EC3-EB85-4988-BA5B-0C506062A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32C0C-C2BB-4C41-9EB8-6F3BE6419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859EF-E570-4B9B-8721-AB9AA7677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9558B-4DB2-4E3D-A8E2-FD89BBFFA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D51CF-188E-4A8C-BD71-A4E2F2313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20C4C-7FA5-42A2-B99A-A84883BEC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0AA35-F2B9-486F-8A2D-EBF7D9815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57C7-EADF-4AC8-BDF6-3A0EDAB68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605F0-6AF5-4BA7-940B-75D2445DF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9477A-C136-4831-AF23-B0CA1F1D6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E58D8-0E7C-44EE-B820-6668A67AC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7B7F9-B774-4213-9912-D7E653FA6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A7CBE-A895-4B0C-98F2-5D48DFA69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65FE-CFC9-4F3F-B4C9-04EDE0294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4A0F-7E6D-4DAD-955B-A6E18EC24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B53E-8D4A-48FC-8DFB-EFD745B30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8711-6D46-4415-8DE7-948D11763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4144-2C6E-4166-99CC-A87349593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C6B4-0913-4636-B5C7-C62C5D273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7B12-0707-4454-888C-B0C7E5133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EF59D-C39C-49B0-82BB-AE0F6271E7BA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4632E-5FDD-432D-AE43-FD595180B8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F69D1-5001-4E04-8981-60830952F144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6C79B-D65C-49EC-AC5D-A032516807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26560" y="620640"/>
            <a:ext cx="7774200" cy="17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bcbcb"/>
                </a:solidFill>
                <a:latin typeface="Times New Roman"/>
              </a:rPr>
              <a:t>Программа повышения квалификации по проблемам международной миграции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2050920" y="3789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рганизована Европейской экономической комиссией и Фондом народонаселения  ООН при  сотрудничестве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 Нидерландским Институтом междисциплинарных демографических исследований (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IDI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Женева, Швейцария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24-28 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Января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200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79280" y="6093000"/>
            <a:ext cx="595440" cy="603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http://www.unhcr.ch (statistics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CC136-E399-4979-86C8-193EAB63FF9F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Определ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то является беженцем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 (1951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онв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/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уманитарные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;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оживающие в течение длительного времени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; rejected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щущие убежище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аличие, доступность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источни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Численность беженцев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окращение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характеристики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егистр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тсутствует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еполный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старевшие данные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,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бъединение регистров (связывание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ерепись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воевременн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Ежегодная статистик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акс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1-2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ес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Управляем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тихийные перемещения против регулируемой миграц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914400" y="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bcbcb"/>
                </a:solidFill>
                <a:latin typeface="Times New Roman"/>
              </a:rPr>
              <a:t>Опыт/проблем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79280" y="6093000"/>
            <a:ext cx="595440" cy="603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unhcr.ch (statistics)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7F7C-C300-4527-8865-E024AE9000A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bcbcb"/>
                </a:solidFill>
                <a:latin typeface="Times New Roman"/>
              </a:rPr>
              <a:t>Пример</a:t>
            </a:r>
            <a:r>
              <a:rPr b="1" lang="en-US" sz="3200" spc="-1" strike="noStrike">
                <a:solidFill>
                  <a:srgbClr val="cbcbcb"/>
                </a:solidFill>
                <a:latin typeface="Times New Roman"/>
              </a:rPr>
              <a:t> – </a:t>
            </a:r>
            <a:r>
              <a:rPr b="1" lang="ru-RU" sz="3200" spc="-1" strike="noStrike">
                <a:solidFill>
                  <a:srgbClr val="cbcbcb"/>
                </a:solidFill>
                <a:latin typeface="Times New Roman"/>
              </a:rPr>
              <a:t>оценка численности беженцев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ри отсутствии данных о беженцах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/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ри наличии регистр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0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лет признания лиц, ищущих убежища, (всех статусов , на всех уровнях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0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лет прибытий перемещенных лиц, беженцев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если применимо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ценка численности предполагаемых (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ima facie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) беженцев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79280" y="6093000"/>
            <a:ext cx="595440" cy="603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unhcr.ch (statistics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F37A-D1E9-4AAE-92E4-B901EE7DF6D4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755640" y="162828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Базовые данные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см.заголовок)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Уровень 1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(L):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первая инстанция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обращения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обзор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одна таблица для каждого уровня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Тип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(T):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Правительство, Верховный Комиссариат ООН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Случаи/лица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Данные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Обращения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решения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признанные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[‘51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Конв. Гуманит. статус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],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отклоненные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закрытые по иным причинам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ожидающие решения по гражданству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включая лиц без гражданства)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,  %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женщин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Формулы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таблица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Всего принято решений =  решений о признании +  решений о призн. беженцем по  гуманитарным причинам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+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отклоненных +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закрытых по иным причинам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Число ожидающих на начало периода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=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Число ожидающих – число на конец предыдущего периода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Число ожидающих на конец периода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число на начало периода +  число обращений – число принятых решений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Коэффициент признания беженцем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 Признано :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[признано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гуманитарных + отклоненных  ]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Общий коэффициент признания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: [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признанные + гуманитарные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]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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[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признанные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гуманитарные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отклоненные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j]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Изменение пропорций  в случаях с ожидающими решения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826920" y="188640"/>
            <a:ext cx="7772400" cy="164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bcbcb"/>
                </a:solidFill>
                <a:latin typeface="Times New Roman"/>
              </a:rPr>
              <a:t>Стандарты – лица, ищущие убежища</a:t>
            </a:r>
            <a:br>
              <a:rPr sz="4000"/>
            </a:br>
            <a:r>
              <a:rPr b="0" lang="en-US" sz="2000" spc="-1" strike="noStrike">
                <a:solidFill>
                  <a:srgbClr val="cbcbcb"/>
                </a:solidFill>
                <a:latin typeface="Times New Roman"/>
              </a:rPr>
              <a:t>(UNHCR Annual Statistical Report--Table V)</a:t>
            </a:r>
            <a:endParaRPr b="0" lang="en-US" sz="20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79280" y="6093000"/>
            <a:ext cx="595440" cy="603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unhcr.ch (statistics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BB3B-8F12-45C3-9D79-4120E953DF8A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755280" y="1700280"/>
            <a:ext cx="7777080" cy="439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аличие и доступност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Закрытые по иным основаниям учитываются отдельно от отклоненных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бращения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рассмотрено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%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женщин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бращения по месяцам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воевременност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Ежегодная статистика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акс.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1-2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ес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омесячные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оквартальные обращения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акс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 2/3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едел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опоставимост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чевидно необоснованные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осредством предварительного отбора или без него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Гуманитарный статус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тдельный вид статуса или отклоненн.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990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bcbcb"/>
                </a:solidFill>
                <a:latin typeface="Times New Roman"/>
              </a:rPr>
              <a:t>Опыт</a:t>
            </a: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/</a:t>
            </a:r>
            <a:r>
              <a:rPr b="1" lang="ru-RU" sz="4000" spc="-1" strike="noStrike">
                <a:solidFill>
                  <a:srgbClr val="cbcbcb"/>
                </a:solidFill>
                <a:latin typeface="Times New Roman"/>
              </a:rPr>
              <a:t>проблемы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79280" y="6093000"/>
            <a:ext cx="595440" cy="603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unhcr.ch (statistics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739A-B645-4A9D-80B7-B1CD2B9CBA3B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bcbcb"/>
                </a:solidFill>
                <a:latin typeface="Times New Roman"/>
              </a:rPr>
              <a:t>Специальные вопросы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-22860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Связь убежище-миграци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Рекомендации ООН по международной  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статистике миграци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Иммиграция  (структура)  по целям прибыти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Использование существующих национальных источников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Положение беженцев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Цели развития тысячелети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79280" y="6093000"/>
            <a:ext cx="595440" cy="603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unhcr.ch (statistics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B7AC-1EC0-4255-B27C-175093EB0410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23640" y="68544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bcbcb"/>
                </a:solidFill>
                <a:latin typeface="Times New Roman"/>
              </a:rPr>
              <a:t>Иммиграция  (структура)  по целям прибытия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оток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олгосрочные виды на жительство, выданные  по категориям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ибывших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бежище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абота, учеба, воссоединение семей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.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оссоединение семей дифференцируется по первичной категории прибывших  (убежище, работа, учеба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Численность мигранто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егистр населен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ерепись населен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79280" y="6093000"/>
            <a:ext cx="595440" cy="603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unhcr.ch (statistics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668E-1AB9-426F-85FB-E1AC14D5A682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bcbcb"/>
                </a:solidFill>
                <a:latin typeface="Times New Roman"/>
              </a:rPr>
              <a:t>Лучшая практика</a:t>
            </a: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 I—</a:t>
            </a:r>
            <a:r>
              <a:rPr b="0" lang="ru-RU" sz="4000" spc="-1" strike="noStrike">
                <a:solidFill>
                  <a:srgbClr val="cbcbcb"/>
                </a:solidFill>
                <a:latin typeface="Times New Roman"/>
              </a:rPr>
              <a:t>Швеция</a:t>
            </a:r>
            <a:br>
              <a:rPr sz="4000"/>
            </a:br>
            <a:r>
              <a:rPr b="0" lang="ru-RU" sz="1600" spc="-1" strike="noStrike">
                <a:solidFill>
                  <a:srgbClr val="cbcbcb"/>
                </a:solidFill>
                <a:latin typeface="Times New Roman"/>
              </a:rPr>
              <a:t>(Выданные виды на жительство ы 1990-2003 гг., ) </a:t>
            </a:r>
            <a:endParaRPr b="0" lang="en-US" sz="16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116000" y="1700280"/>
            <a:ext cx="6986520" cy="46656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179280" y="6093000"/>
            <a:ext cx="595440" cy="603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unhcr.ch (statistics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C230-6063-4105-B8DB-E562D088DF62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bcbcb"/>
                </a:solidFill>
                <a:latin typeface="Times New Roman"/>
              </a:rPr>
              <a:t>Лучшая практика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 II - </a:t>
            </a:r>
            <a:r>
              <a:rPr b="0" lang="ru-RU" sz="4400" spc="-1" strike="noStrike">
                <a:solidFill>
                  <a:srgbClr val="cbcbcb"/>
                </a:solidFill>
                <a:latin typeface="Times New Roman"/>
              </a:rPr>
              <a:t>Замбия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Цель иммиграции в переписи населения и домохозяйств  2000 г.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финансировалась УВКБ ООН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Если Вы иностранец, какова причина въезда в эту страну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абот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Учеб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Убежищ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оссоединение семь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абот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Учеб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Убежищ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79280" y="6093000"/>
            <a:ext cx="595440" cy="603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unhcr.ch (statistics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9EDE-E2DB-4782-AFCA-2AFD4962EA38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bcbcb"/>
                </a:solidFill>
                <a:latin typeface="Times New Roman"/>
              </a:rPr>
              <a:t>Положение  беженцев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сточники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HCR Standards and Indicators Repor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-Millennium Development Goa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едмет наблюдения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ава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оступ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ложение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Здравоохранение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итание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бразование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ода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анитарные условия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ров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жилищные услови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сточник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бследовани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79280" y="6093000"/>
            <a:ext cx="595440" cy="603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unhcr.ch (statistics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3F74-70D1-43AA-BF24-A5C41AA6856F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19280" y="62028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bcbcb"/>
                </a:solidFill>
                <a:latin typeface="Times New Roman"/>
              </a:rPr>
              <a:t>Заключительная часть</a:t>
            </a: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: </a:t>
            </a:r>
            <a:r>
              <a:rPr b="1" lang="ru-RU" sz="4000" spc="-1" strike="noStrike">
                <a:solidFill>
                  <a:srgbClr val="cbcbcb"/>
                </a:solidFill>
                <a:latin typeface="Times New Roman"/>
              </a:rPr>
              <a:t>источники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24000" y="1915920"/>
            <a:ext cx="8640720" cy="453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Численность и потоки беженце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Регистр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регистрация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вязь с документированием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татусом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ерепись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беженец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нутри-перемещенное лицо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аселение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щущие убежищ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Регистр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регистрация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вязь с  документированием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татусом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ложение лиц, ищущих убежище и беженцев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Административные запис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бследовани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ерепис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79280" y="6093000"/>
            <a:ext cx="595440" cy="603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unhcr.ch (statistics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9350-1611-4D43-A6F2-1EAAC4351801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63280" y="260280"/>
            <a:ext cx="8280360" cy="215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bcbcb"/>
                </a:solidFill>
                <a:latin typeface="Times New Roman"/>
              </a:rPr>
              <a:t>Статистика по беженцам, лицам, ищущим убежище,  и перемещенным лицам</a:t>
            </a:r>
            <a:br>
              <a:rPr sz="3200"/>
            </a:br>
            <a:r>
              <a:rPr b="1" lang="ru-RU" sz="3200" spc="-1" strike="noStrike">
                <a:solidFill>
                  <a:srgbClr val="cbcbcb"/>
                </a:solidFill>
                <a:latin typeface="Times New Roman"/>
              </a:rPr>
              <a:t>на примере стран, входящих в регион Европейской экономической комиссии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2195280" y="3499920"/>
            <a:ext cx="6553080" cy="252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ела Хови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Главный статисти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ерховный Комиссариат ООН по делам беженце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Женев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79280" y="6093000"/>
            <a:ext cx="595440" cy="603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http://www.unhcr.ch (statistics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AFBB4-02D0-4DEB-B1F0-91CD61ABFBBF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621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bcbcb"/>
                </a:solidFill>
                <a:latin typeface="Times New Roman"/>
              </a:rPr>
              <a:t>Заключительная часть</a:t>
            </a:r>
            <a:r>
              <a:rPr b="1" lang="en-US" sz="3600" spc="-1" strike="noStrike">
                <a:solidFill>
                  <a:srgbClr val="cbcbcb"/>
                </a:solidFill>
                <a:latin typeface="Times New Roman"/>
              </a:rPr>
              <a:t>: </a:t>
            </a:r>
            <a:r>
              <a:rPr b="1" lang="ru-RU" sz="3600" spc="-1" strike="noStrike">
                <a:solidFill>
                  <a:srgbClr val="cbcbcb"/>
                </a:solidFill>
                <a:latin typeface="Times New Roman"/>
              </a:rPr>
              <a:t>беженцы и международные мигранты – общие черты и различия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2420640"/>
            <a:ext cx="7772400" cy="390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Аспект расчета численности населени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Беженцы являются международными мигрантами, т.к. они пересекают международную границу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еняют место жительств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Аспект международного прав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ъезд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евозвращение или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non-refoulement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беженцев  – международное право /обязательство государств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ъезд (допуск) международных мигрантов является прерогативой государств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Заключение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разграничение важно, поскольку отношение  к мигрантам значительно отличается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179280" y="6093000"/>
            <a:ext cx="595440" cy="603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unhcr.ch (statistics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333E-32AC-4F72-A141-A0ED1F0FD75F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640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bcbcb"/>
                </a:solidFill>
                <a:latin typeface="Times New Roman"/>
              </a:rPr>
              <a:t>И наконец</a:t>
            </a:r>
            <a:r>
              <a:rPr b="1" lang="en-US" sz="3200" spc="-1" strike="noStrike">
                <a:solidFill>
                  <a:srgbClr val="cbcbcb"/>
                </a:solidFill>
                <a:latin typeface="Times New Roman"/>
              </a:rPr>
              <a:t>: </a:t>
            </a:r>
            <a:r>
              <a:rPr b="1" lang="ru-RU" sz="3200" spc="-1" strike="noStrike">
                <a:solidFill>
                  <a:srgbClr val="cbcbcb"/>
                </a:solidFill>
                <a:latin typeface="Times New Roman"/>
              </a:rPr>
              <a:t> чего следует ожидать от УВКБ ООН</a:t>
            </a:r>
            <a:r>
              <a:rPr b="1" lang="en-US" sz="3200" spc="-1" strike="noStrike">
                <a:solidFill>
                  <a:srgbClr val="cbcbcb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Статистический ежегодник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(1 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раз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в год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оквартальные тенденции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(3 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раза в год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Ежемесячные данные о числе обращений за предоставлением убежища  в 35 развитых странах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ежемесячно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ежеквартально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d-hoc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отчеты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;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специальные запросы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меняются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оддержка сбора данных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регистрация, документация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УВКБ ООН представительства в странах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http://www.unhcr.ch (statistic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e-mail hotline + distribution list (stats@unhcr .ch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79280" y="6093000"/>
            <a:ext cx="595440" cy="603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unhcr.ch (statistics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FD51-FCE0-4436-BCAA-BDBD7F4672C9}" type="slidenum">
              <a:t>21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351640" cy="115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bcbcb"/>
                </a:solidFill>
                <a:latin typeface="Times New Roman"/>
              </a:rPr>
              <a:t>План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813744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Мандат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юридические основы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УВКБ ООН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статистика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Масштаб деятельности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цифры и проблемы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еремещенные лица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беженцы, внутри- перемещенные лица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Заявления о предоставлении убежища и определение статуса беженца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Специальные вопрос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79280" y="6093000"/>
            <a:ext cx="595440" cy="603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unhcr.ch (statistics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1EC4-5E68-4121-8F08-AB050791026F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bcbcb"/>
                </a:solidFill>
                <a:latin typeface="Times New Roman"/>
              </a:rPr>
              <a:t>       </a:t>
            </a:r>
            <a:r>
              <a:rPr b="1" lang="ru-RU" sz="3200" spc="-1" strike="noStrike">
                <a:solidFill>
                  <a:srgbClr val="cbcbcb"/>
                </a:solidFill>
                <a:latin typeface="Times New Roman"/>
              </a:rPr>
              <a:t>Мандат Верховного Комиссара по делам беженцев - общие положения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24000" y="1557000"/>
            <a:ext cx="8424720" cy="48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Беженц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1951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Конвенция ООН по статусу беженцев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1967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ротокол о статусе беженцев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Лица без гражданства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беженцы и лица, не являющиеся беженцами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1954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Конвенция по лицам без гражданств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1961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Конвенция по  сокращению отсутствия гражданств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нутри-перемещенные лица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IDP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Запрос от  Совета безопасности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/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Генерального  Секретар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Межведомственный подход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79280" y="6093000"/>
            <a:ext cx="595440" cy="603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unhcr.ch (statistics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7D14-0083-4D3A-A89E-3EC3470ADADD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bcbcb"/>
                </a:solidFill>
                <a:latin typeface="Times New Roman"/>
              </a:rPr>
              <a:t>Мандат Верховного Комиссара по делам беженцев - статистика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632720" cy="424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951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Конвенция ООН относительно Статуса Беженцев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“…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дписывающие государства предпринимают меры для обеспечения Службы Верховного Комиссара  в соответствующей форме  требуемой информацией и </a:t>
            </a: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статистическим данными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тносительно состояния беженцев,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” (</a:t>
            </a: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Статья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. 35. </a:t>
            </a: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Сотрудничество национальных властей с Объединенными нациями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950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оложение о Службе Верховного Комиссара ООН  по делам беженцев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“…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ерховный комиссар должен обеспечивать защитой беженцев, находящихся   в компетенции его Службы, путем  получения от правительств информации относительно численности и условий жизни беженцев на территории их государств.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(…).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Глава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II.  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Функции Верховного Комиссара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79280" y="6093000"/>
            <a:ext cx="595440" cy="603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unhcr.ch (statistics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1C93-D043-48F9-8033-24142D121BE8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bcbcb"/>
                </a:solidFill>
                <a:latin typeface="Times New Roman"/>
              </a:rPr>
              <a:t>Масштабы вынужденных перемещений – факты и цифры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360" y="2349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39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миллионов перемещенных лиц в мире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(6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на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1,000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аселения мира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9.7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миллионов беженцев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UNHCR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4.1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миллионов Палестинских беженцев в Ближневосточном регионе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UNRWA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≈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25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миллионов внутри-перемещенных лиц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UN/OCHA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17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миллионов лиц в компетенции Верховного Комиссара, конец 2003 г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9.7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миллионов беженцев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900,000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лиц, ищущих убежища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нерешенные случаи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4.2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миллионов внутри-перемещенных лиц (только в компетенции Верховного Комиссара)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1.3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миллионов возвратных мигрантов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беженцев и внутри-перемещенных лиц, которые  вернулись домой в 2003 г.)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900,000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лиц с разным статусом (без гражданства, не являющиеся беженцами,  вынужденные мигранты и т.д.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79280" y="6093000"/>
            <a:ext cx="595440" cy="603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unhcr.ch (statistics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FB97-D279-4773-B6B2-3B2899ED1918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7164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bcbcb"/>
                </a:solidFill>
                <a:latin typeface="Times New Roman"/>
              </a:rPr>
              <a:t>Масштабы вынужденных перемещений </a:t>
            </a:r>
            <a:r>
              <a:rPr b="1" lang="en-US" sz="3200" spc="-1" strike="noStrike">
                <a:solidFill>
                  <a:srgbClr val="cbcbcb"/>
                </a:solidFill>
                <a:latin typeface="Times New Roman"/>
              </a:rPr>
              <a:t>–</a:t>
            </a:r>
            <a:r>
              <a:rPr b="1" lang="ru-RU" sz="3200" spc="-1" strike="noStrike">
                <a:solidFill>
                  <a:srgbClr val="cbcbcb"/>
                </a:solidFill>
                <a:latin typeface="Times New Roman"/>
              </a:rPr>
              <a:t>проблемы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50920" y="1699920"/>
            <a:ext cx="8532720" cy="460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рирода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едобровольное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ынужденное перемещени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тихийное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соответствующие проблемы со сбором данных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еремещения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отсутствуют (лица без гражданства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),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нутри страны или международные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ричина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онфликт или преследование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не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риродные бедствия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Объем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массовые потоки индивид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Фаза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еремещение, возвращение (после конфликта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 центре внимания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траны происхождения, транзита и прибыт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родолжительность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долгосрочные и краткосрочны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Регион Европейской экономической комиссии очень неоднороден, включает все приведенные выше сценари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6254640"/>
            <a:ext cx="595440" cy="603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unhcr.ch (statistics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7F9B-0378-4F68-AD05-04062CBBCE2D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99640" y="836640"/>
            <a:ext cx="7775640" cy="106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bcbcb"/>
                </a:solidFill>
                <a:latin typeface="Times New Roman"/>
              </a:rPr>
              <a:t>Стандарты- беженцы (внутри-</a:t>
            </a:r>
            <a:br>
              <a:rPr sz="2800"/>
            </a:br>
            <a:r>
              <a:rPr b="1" lang="ru-RU" sz="2800" spc="-1" strike="noStrike">
                <a:solidFill>
                  <a:srgbClr val="cbcbcb"/>
                </a:solidFill>
                <a:latin typeface="Times New Roman"/>
              </a:rPr>
              <a:t>перемещенные лица)</a:t>
            </a:r>
            <a:r>
              <a:rPr b="1" lang="en-US" sz="2400" spc="-1" strike="noStrike">
                <a:solidFill>
                  <a:srgbClr val="cbcbcb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cbcbcb"/>
                </a:solidFill>
                <a:latin typeface="Times New Roman"/>
              </a:rPr>
              <a:t>(UNHCR Annual Statistical Report--Table II)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120" y="2286000"/>
            <a:ext cx="8210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Число мигрантов, проживающих в стране, и поток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Численность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населения (беженцев) на начало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конец периода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года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Увеличение (прирост),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связанный с юридическими, демографическими и административными причинами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не требующие доказательств (prima facie)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признанные группой, в  индивидуальном порядке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[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онвенция о гуманитарном статусе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],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ереселения, рождения и т.д.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Сокращение,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связанное с с юридическими, демографическими и административными причинами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обровольная репатриация, переселение, прекращение (статуса)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атурализация, смертность,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ерификация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 т.д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.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79280" y="6093000"/>
            <a:ext cx="595440" cy="603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unhcr.ch (statistics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61E3-81E2-444A-B3B7-D8519C6BDD30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bcbcb"/>
                </a:solidFill>
                <a:latin typeface="Times New Roman"/>
              </a:rPr>
              <a:t>Стандарты- беженцы (внутри-перемещенные лица)</a:t>
            </a:r>
            <a:r>
              <a:rPr b="1" lang="en-US" sz="2400" spc="-1" strike="noStrike">
                <a:solidFill>
                  <a:srgbClr val="cbcbcb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cbcbcb"/>
                </a:solidFill>
                <a:latin typeface="Times New Roman"/>
              </a:rPr>
              <a:t> (UNHCR Annual Statistical Report--Tables III and IV)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Характеристики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л, возраст, расположение (лагеря, города, и .т.д.)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Табл.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III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Юридический статус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(1951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онвенция, гуманитарный)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Табл.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IV)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Тип признания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(при отсутствии доказательств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группой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ндивидуально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Табл.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IV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оисхождение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Табл.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II, III and IV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79280" y="6093000"/>
            <a:ext cx="595440" cy="603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unhcr.ch (statistics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F6E5-F6A8-49F6-9402-3A5DB4CC75EF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7T13:11:05Z</dcterms:created>
  <dc:creator>Bela Hovy, Statistics</dc:creator>
  <dc:description/>
  <dc:language>en-US</dc:language>
  <cp:lastModifiedBy>user</cp:lastModifiedBy>
  <cp:lastPrinted>2003-05-18T07:56:04Z</cp:lastPrinted>
  <dcterms:modified xsi:type="dcterms:W3CDTF">2005-03-28T06:13:52Z</dcterms:modified>
  <cp:revision>311</cp:revision>
  <dc:subject/>
  <dc:title>Refugee, asylum-seeker and forced displacement statistics</dc:title>
</cp:coreProperties>
</file>