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7A7A-0F06-49A2-B945-94304A176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2245-DE21-4FB8-95B4-BC8C0127D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AD12-62E9-4B52-8F79-3981E7A88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FEE9-32AA-41F4-9951-818F253A4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5B7EB-1379-4B66-AC66-AA6B83518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F1516-F768-401D-B339-6CFCA7BAF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A7267-FF8F-454A-91D6-8B1312A71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460DA-5AE0-47AD-B549-358F0871C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F20B4-D414-4E68-9421-BB0770E5B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ABC9A-BA88-4FB8-990B-E29F9F11E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8DFFA-1A8B-4613-A7F5-236DE32A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2175-A8BF-41D3-8C35-52AD8C99F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756EA-B422-4EE6-8EA3-72CDC17C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F6E80-252D-4755-BD43-EC82A13E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5AB3E-F56E-43D6-8C8F-2ACEA4069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904DC-AB62-4B05-9B00-B3747927B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027C6-C1C6-49B1-9A87-A45B4495B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AF6E-4775-420C-A96C-50A8B66CE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7BD6-A0AC-4E3F-81E1-73C33A83F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0ECE-4BE4-405F-B2D2-F2EA9D4A0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E1F6-BB95-4EA9-9E44-054011C7A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86FF-31AB-43F5-AEC9-A3F34293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C86C-3640-4C48-AF85-C0BC4694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EDE5-BAF9-44B6-9271-DC78509F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80CDF-C56A-4F84-AD09-3BFA36320828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E7ED9-B39A-420B-A06A-179B684922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65B65-9AE8-48CC-980A-0F4BB2B45946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6A65-05B4-4BAC-A3DE-543A75026B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3840" cy="17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bcbcb"/>
                </a:solidFill>
                <a:latin typeface="Times New Roman"/>
              </a:rPr>
              <a:t>Training Programme on International Migration</a:t>
            </a:r>
            <a:endParaRPr b="0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05092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ganized by UN/ECE and UNFP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collaboration with NID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Geneva, Switzerl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24-28 January 200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79280" y="6093000"/>
            <a:ext cx="595440" cy="60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ttp://www.unhcr.ch (statistic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6C78C-E9B6-41C8-88D2-6045C96E126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fin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o is a refugee? (1951Conv./ humanitarian; long-term resident; rejected asylum-seekers, …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vailability/sour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fugee stock, decreases, characteristics, 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gister (absent, incomplete, outdated), linking registers, census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imelin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ual statistics: max. 1-2 month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nagea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nplanned displacement vs. managed mig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Experience/challenges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79280" y="6093000"/>
            <a:ext cx="595440" cy="60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unhcr.ch (statistic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4E7F-F907-4087-9C5D-83F2A2C1393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Times New Roman"/>
              </a:rPr>
              <a:t>Example - estimating refugee stocks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f no refugee data / register avail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 years of asylum-seeker recognition (all statuses, all level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 years of resettled refugee arrivals (when applicab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[stock estimate for prima facie refugees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79280" y="6093000"/>
            <a:ext cx="595440" cy="60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unhcr.ch (statistic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3CF6-FDCA-4350-B281-540A1F42E28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5800" y="1905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eta data (head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evel (L): first instance, appeal/review (one table per level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ype (T): Government, UNHC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ases/pers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Dat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pplications, decisions (recognized [‘51 Conv.; hum. status], rejected, o/w closed), pending cases by citizenship (incl. stateless),  % fema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ormula’s (tabl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otal decided = recognized + humanitarian + rejected + o/w clos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ending begin = Pending-end previous perio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ending end = pending-begin + applications  - total decis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efugee recognition rate: Recognized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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[rec + hum + rej]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otal recognition rate : [rec + hum]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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[rec + hum + rej]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ercentage change in pending cas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Standards - asylum-seekers</a:t>
            </a:r>
            <a:br>
              <a:rPr sz="4000"/>
            </a:br>
            <a:r>
              <a:rPr b="0" lang="en-US" sz="2000" spc="-1" strike="noStrike">
                <a:solidFill>
                  <a:srgbClr val="cbcbcb"/>
                </a:solidFill>
                <a:latin typeface="Times New Roman"/>
              </a:rPr>
              <a:t>(UNHCR Annual Statistical Report--Table V)</a:t>
            </a: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79280" y="6093000"/>
            <a:ext cx="595440" cy="60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unhcr.ch (statistic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5F80-7123-482D-AB4A-C906A608EA7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75564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vaila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therwise closed separate from Rejec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ppeal/revie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% fema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onthly appl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imelin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ual statistics: max. 1-2 month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onthly/quarterly applications: max. 2/3 wee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parabilit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nifestly unfounded (pre-screening or not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umanitarian status (separate status or rejecte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Experience/challenges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79280" y="6093000"/>
            <a:ext cx="595440" cy="60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unhcr.ch (statistic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60E2-679F-424C-B18D-8B704334776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Special issues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sylum - migration nex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UN Recommendations on international migration statistics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mmigration by purpo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Use of existing national sour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ndition of refuge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illennium Development Go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79280" y="6093000"/>
            <a:ext cx="595440" cy="60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unhcr.ch (statistic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F6C1-1F02-43D1-A7B4-ED09F1A41E77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Immigration by purpose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lo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ng-term residence permits issued by arrival category (asylum, work, study, family reunion, ..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mily reunion differentiated by primary arrival category (asylum, work, study, ..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oc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pulation regi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pulation cens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79280" y="6093000"/>
            <a:ext cx="595440" cy="60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unhcr.ch (statistic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B3E0-A3C2-4434-8D42-4A9842ECEB2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est practice I--Swede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258920" y="1581120"/>
            <a:ext cx="6986520" cy="4665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79280" y="6093000"/>
            <a:ext cx="595440" cy="60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unhcr.ch (statistics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AE04-A5EA-4875-A23C-5CEC04DD70D8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est practice II - Zamb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urpose of immigration purpose in 2000 population and housing census (UNHCR fund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If foreigner, why come to this country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or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tud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sylu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amily reunific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or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tud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sylu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79280" y="6093000"/>
            <a:ext cx="595440" cy="60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unhcr.ch (statistic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B85A-613F-442F-BC09-A11996B87836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Condition of refugees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HCR Standards and Indicators Re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-Millennium Development Go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bjects (rights/access, condition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lth/nutrition, education, water, sanitation, shelter, living cond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rce: use of survey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79280" y="6093000"/>
            <a:ext cx="595440" cy="60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unhcr.ch (statistic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BE58-E12B-4C09-8FD4-C181E8896D93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Wrap-up: sources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ugee stocks and flow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gister/registration (link to documentation/statu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ensus (refugee/IDP, popula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ylum-seek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gister/registration (link to documentation/statu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dition of asylum-seekers/refuge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ministrative reco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rvey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ens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79280" y="6093000"/>
            <a:ext cx="595440" cy="60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unhcr.ch (statistic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6117-47AC-4ACE-9CBC-26897E4D36D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55640" y="112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Times New Roman"/>
              </a:rPr>
              <a:t>Refugee, asylum-seeker and forced displacement statistics</a:t>
            </a:r>
            <a:br>
              <a:rPr sz="3600"/>
            </a:br>
            <a:r>
              <a:rPr b="1" lang="en-US" sz="2800" spc="-1" strike="noStrike">
                <a:solidFill>
                  <a:srgbClr val="cbcbcb"/>
                </a:solidFill>
                <a:latin typeface="Times New Roman"/>
              </a:rPr>
              <a:t>with a particular emphasis on the UN/ECE region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205092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la Hovy, He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ist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nited Nations High Commissioner for Refugees (UNHCR), Gene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9280" y="6093000"/>
            <a:ext cx="595440" cy="60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ttp://www.unhcr.ch (statistic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FBD09-D20D-4B95-B171-48FFE8F97904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Times New Roman"/>
              </a:rPr>
              <a:t>Wrap-up: Refugees and international migrants - similarities and differences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pulation accounting perspec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ugees are international migrants because they cross international border/change place of resid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ternational rights perspectiv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try (non-return or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on-refoulemen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of refugees is an international right/obligation of state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try of international migrants is a state preroga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clusion: distinction is essential, because treatment differs significantl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79280" y="6093000"/>
            <a:ext cx="595440" cy="60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unhcr.ch (statistic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6D6F-A77D-46B3-B174-4575A5E90E0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Times New Roman"/>
              </a:rPr>
              <a:t>Finally: what to expect from UNHCR?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atistical Yearbook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1 x per yea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arterly trends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3 x per yea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nthly asylum applications in 35 industrialized countries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monthly/quarterl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d-hoc reports; special requests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variabl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pport for data collection (registration, documenta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NHCR Country off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ttp://www.unhcr.ch (statistic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-mail hotline + distribution list (stats@unhcr .ch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79280" y="6093000"/>
            <a:ext cx="595440" cy="60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unhcr.ch (statistic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E744-B742-4D3D-89C9-9C8B41E97C33}" type="slidenum">
              <a:t>21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Programme of work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ndate/legal basis (UNHCR/statistic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cope (figures/issu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splaced populations (refugees, IDP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sylum applications and refugee status determ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pecial iss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79280" y="6093000"/>
            <a:ext cx="595440" cy="60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unhcr.ch (statistic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836A-6720-472B-A951-2A8AE0E79C6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       </a:t>
            </a: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UNHCR mandate - general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fuge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951 UN Convention relating to the Status of Refuge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967 Protocol relating to the Status of Refuge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ateless persons (refugees &amp; non-refuge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954 Convention relating to the Status of Stateless pers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961 Convention on the Reduction of Statelessn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ternally displaced (IDP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equest from Security Council/Secretary-Gene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teragency approa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79280" y="6093000"/>
            <a:ext cx="595440" cy="60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unhcr.ch (statistic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34F9-8AA9-4315-A14A-D29F0822250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UNHCR mandate - statistics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632720" cy="42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951 UN Convention relating to the Status of Refuge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“…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Contracting States undertake to provide the Office of the High Commissioner in the appropriate form with information and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statistical data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requested concerning the condition of refugees, the implementation of this Convention (…)” (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Art. 35. Cooperation of the national authorities with the United Nation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950 Statute of the Office of the UNHC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“…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High Commissioner shall provide for the protection of refugees falling under the competence of his Office by (…) obtaining from governments information concerning the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numbe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and conditions of refugees in their territories (…).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(Chapter II.  Functions of the High Commissione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)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79280" y="6093000"/>
            <a:ext cx="595440" cy="60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unhcr.ch (statistic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C767-D570-499B-9F19-2091DCA712B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Scope of forced displacement - </a:t>
            </a:r>
            <a:br>
              <a:rPr sz="4000"/>
            </a:b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facts and figures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9 million persons displaced globally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6 per 1,000 world citizen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9.7 million refugees (UNHC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4.1 million Palestinian refugees in Middle East (UNRW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≈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5 million internally displaced (UN/OCH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7 million persons of concern to UNHCR, end-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9.7 million refuge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900,000 asylum-seekers (undecided cas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4.2 million Internally Displaced Persons (of concern to UNHCR only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.3 million returnees (refugees and IDPs who returned in 2003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900,000 Various (stateless/non-refugees, forced migrants, etc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79280" y="6093000"/>
            <a:ext cx="595440" cy="60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unhcr.ch (statistic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1B59-5DBE-4D23-ADF8-053278651F8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Scope of forced displacement - </a:t>
            </a:r>
            <a:br>
              <a:rPr sz="4000"/>
            </a:b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issues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120" y="2437920"/>
            <a:ext cx="7705800" cy="374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ature: involuntary/forced displac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nplanned: inherent data collection probl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vements: none (stateless), internal or internat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use: conflict or persecution (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no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natural disaster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ze: mass flows or individual mov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hase: displacement, return (post-conflic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ocus: countries of origin, transit and destin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uration: long-term and short-te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UN/ECE REGION IS VERY HETEROGENEOUS, INCLUDING ALL ABOVE SCENARIO’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79280" y="6093000"/>
            <a:ext cx="595440" cy="60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unhcr.ch (statistic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132A-7B32-4946-975F-D85AC373EC3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990720"/>
            <a:ext cx="74678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Standards - refugees (IDPs)</a:t>
            </a:r>
            <a:br>
              <a:rPr sz="3200"/>
            </a:br>
            <a:r>
              <a:rPr b="0" lang="en-US" sz="2000" spc="-1" strike="noStrike">
                <a:solidFill>
                  <a:srgbClr val="cbcbcb"/>
                </a:solidFill>
                <a:latin typeface="Times New Roman"/>
              </a:rPr>
              <a:t>(UNHCR Annual Statistical Report--Table II)</a:t>
            </a: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tocks and “flows”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pulation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stock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begin/end period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yea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egal/demographic/administrativ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increas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rima faci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group; individually recognized [Convention, hum. status], resettlement, births, etc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egal/demographic/administrativ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creas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voluntary repatriation, resettlement, cessation, naturalization, deaths, verification, etc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79280" y="6093000"/>
            <a:ext cx="595440" cy="60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unhcr.ch (statistic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0BE0-BAF4-4893-B050-318E4685551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Standards - refugees (IDPs)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bcbcb"/>
                </a:solidFill>
                <a:latin typeface="Times New Roman"/>
              </a:rPr>
              <a:t>(UNHCR Annual Statistical Report--Tables III and IV)</a:t>
            </a: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racteristic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x, age, location (camps, urban, etc.)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(Table II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gal status (1951 Convention, humanitarian)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(Table IV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e of recognition (prima facie/group, individually)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(Table IV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igi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(Tables II, III and IV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79280" y="6093000"/>
            <a:ext cx="595440" cy="60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unhcr.ch (statistic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1DA6-B33D-4D82-9FD1-8CE6AA01D25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7T13:11:05Z</dcterms:created>
  <dc:creator>Bela Hovy, Statistics</dc:creator>
  <dc:description/>
  <dc:language>en-US</dc:language>
  <cp:lastModifiedBy>Hovy</cp:lastModifiedBy>
  <cp:lastPrinted>2003-05-18T07:56:04Z</cp:lastPrinted>
  <dcterms:modified xsi:type="dcterms:W3CDTF">2005-01-24T17:51:07Z</dcterms:modified>
  <cp:revision>289</cp:revision>
  <dc:subject/>
  <dc:title>Refugee, asylum-seeker and forced displacement statistics</dc:title>
</cp:coreProperties>
</file>