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DDD-45DE-41B6-BB59-2EF3DE24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AC-9F84-42CC-9EA1-B3D4A2F2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5A8-9309-46AE-BA8E-6FFC8202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860-59D6-43D1-8767-52814232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475-1651-474E-B201-F8C70145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DD30-83E7-420B-AF81-3939D9C1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4107-F563-44F8-94DA-F053D10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20B3-C1A4-4A30-BFC6-619F0A55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24C-F0D6-46AC-B5BE-25B1D82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303-2ED5-4D2D-8EF5-2D6A948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C319-35FD-4275-8C8A-B802AF6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897-17FE-4C8E-8F06-CC47C26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82C-6EDA-4BE1-9905-809053C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2191-B10F-4AAE-A9CA-F09D71C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2004-69EF-469A-95E3-6AF4CFCC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C22-E55C-4A82-A5A0-C92993BD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44DA-411C-406C-8471-AA198670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B18-A15E-470F-BBCA-D09CEBB8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3E2-8680-4F86-8A1F-9CC6E65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A78-3240-4345-A851-D49A0FD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10A-6A73-4FDA-BC21-7DEEDDE4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5FA-0ED0-4E41-B6C3-86BED80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1B3-7D49-48B5-B49B-049A306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E33-BA4E-460F-935C-1990F69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32D-D665-42C7-8665-431A9C44E57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474-0DE4-444D-BF8C-2D19F5082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E2E-7135-41EE-AD56-67AD3F37AB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61E-0B64-4215-A7C3-FF52DD23C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raining Programme on International Migrati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by UN/ECE and UNF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llaboration with NI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eneva, Switzer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4-28 Januar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711-BABE-4A77-A55D-5F5A342598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o is a refugee? (1951Conv./ humanitarian; long-term resident; rejected asylum-seekers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ility/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ugee stock, decreases, characteristics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er (absent, incomplete, outdated), linking registers, censu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statistics: max. 1-2 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planned displacement vs. managed mi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xperience/challeng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84E-39EB-4B0C-ADE5-60F344BFB9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Example - estimating refugee stock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no refugee data / register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years of asylum-seeker recognition (all statuses, all leve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years of resettled refugee arrivals (when applic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stock estimate for prima facie refugee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678-E02F-4FE8-956D-60B208DBAF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 data (hea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vel (L): first instance, appeal/review (one table per leve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ype (T): Government, UNHC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ses/pers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s, decisions (recognized [‘51 Conv.; hum. status], rejected, o/w closed), pending cases by citizenship (incl. stateless),  % fe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mula’s (ta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tal decided = recognized + humanitarian + rejected + o/w clo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nding begin = Pending-end previous 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nding end = pending-begin + applications  - total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ugee recognition rate: Recognized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rec + hum + rej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tal recognition rate : [rec + hum]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[rec + hum + rej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centage change in pending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asylum-seekers</a:t>
            </a:r>
            <a:br>
              <a:rPr sz="40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93B-A28D-4424-AF1B-57A87DC7C6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wise closed separate from Rej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eal/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fe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statistics: max. 1-2 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/quarterly applications: max. 2/3 we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ifestly unfounded (pre-screening or no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manitarian status (separate status or rej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xperience/challeng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770-E520-4841-917A-D5A9FC7DCA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pecial issu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ylum - migration nex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 Recommendations on international migration statistic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igration by purp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of existing natio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ition of refug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llennium Development 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F88-AA06-45D4-AF65-40FAE9BB8C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mmigration by purpos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-term residence permits issued by arrival category (asylum, work, study, family reunion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reunion differentiated by primary arrival category (asylum, work, study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 cen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EB4-F2E6-4F0A-B9C5-AB3043E8C1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 I--Swed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581120"/>
            <a:ext cx="6986520" cy="4665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F7A-2BF3-46B1-BB33-68DCD8B0D1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 II - Zamb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rpose of immigration purpose in 2000 population and housing census (UNHCR fund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f foreigner, why come to this countr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yl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mily reun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yl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5A3-E856-42DE-BA1C-B8930877AB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dition of refuge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HCR Standards and Indicators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-Millennium Developm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s (rights/access, condition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lth/nutrition, education, water, sanitation, shelter, living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use of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98E-E3CA-4C1E-A013-6E63837C07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rap-up: sourc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gee stocks and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/registration (link to documentation/stat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sus (refugee/IDP,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lum-see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/registration (link to documentation/stat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 of asylum-seekers/refug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iv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A04-1296-42A1-936C-5B0A543B43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Refugee, asylum-seeker and forced displacement statistics</a:t>
            </a:r>
            <a:br>
              <a:rPr sz="3600"/>
            </a:b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with a particular emphasis on the UN/ECE regio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a Hovy,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ted Nations High Commissioner for Refugees (UNHCR), Gen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1BA-6677-47F5-AADE-F7239B3092D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Wrap-up: Refugees and international migrants - similarities and differenc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 accounting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ugees are international migrants because they cross international border/change place of res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ational rights perspec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(non-return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n-refoul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f refugees is an international right/obligation of stat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of international migrants is a state prero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: distinction is essential, because treatment differs significan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7B9-D4E0-4F49-9932-D1C1827096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Finally: what to expect from UNHCR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istical Yearboo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1 x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rterly trend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3 x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thly asylum applications in 35 industrialized count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monthly/quarter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-hoc reports; special reques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vari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data collection (registration, document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HCR Country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unhcr.ch (statist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mail hotline + distribution list (stats@unhcr .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C44-8379-447C-A1B0-3DF3BB487156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gramme of wor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date/legal basis (UNHCR/statist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ope (figures/iss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placed populations (refugees, ID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ylum applications and refugee status de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55A-FBD5-4977-AC23-502A69F2EF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NHCR mandate - general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ug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1 UN Convention relating to the Status of Refug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7 Protocol relating to the Status of Refuge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less persons (refugees &amp; non-refuge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4 Convention relating to the Status of Stateless pers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1 Convention on the Reduction of Stateles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ally displaced (ID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est from Security Council/Secretary-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agency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AF2-33C6-484B-BAE6-EB490569ED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NHCR mandate - statistic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1 UN Convention relating to the Status of Refug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ontracting States undertake to provide the Office of the High Commissioner in the appropriate form with information an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tistical dat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equested concerning the condition of refugees, the implementation of this Convention (…)”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t. 35. Cooperation of the national authorities with the United Na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0 Statute of the Office of the UNH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igh Commissioner shall provide for the protection of refugees falling under the competence of his Office by (…) obtaining from governments information concerning th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nd conditions of refugees in their territories (…)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Chapter II.  Functions of the High Commission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DD4-2F96-4517-919F-4454A62BA9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cope of forced displacement - </a:t>
            </a:r>
            <a:br>
              <a:rPr sz="4000"/>
            </a:b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facts and figur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9 million persons displaced globall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6 per 1,000 world citiz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.7 million refugees (UNHC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1 million Palestinian refugees in Middle East (UNRW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5 million internally displaced (UN/OCH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 million persons of concern to UNHCR, end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.7 million refug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0,000 asylum-seekers (undecided cas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2 million Internally Displaced Persons (of concern to UNHCR onl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3 million returnees (refugees and IDPs who returned in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0,000 Various (stateless/non-refugees, forced migrants,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616-AEC9-42A9-AE1A-F3752B089E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cope of forced displacement - </a:t>
            </a:r>
            <a:br>
              <a:rPr sz="4000"/>
            </a:b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77058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ture: involuntary/forced dis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planned: inherent data collection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vements: none (stateless), internal or 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e: conflict or persecution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atural disast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ze: mass flows or individual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ase: displacement, return (post-confli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: countries of origin, transit and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ion: long-term and short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/ECE REGION IS VERY HETEROGENEOUS, INCLUDING ALL ABOVE SCENARIO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83B-3434-4D0B-AD48-A81C734FF0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refugees (IDPs)</a:t>
            </a:r>
            <a:br>
              <a:rPr sz="32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II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cks and “flows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to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gin/end peri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al/demographic/administra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rea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ima fac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group; individually recognized [Convention, hum. status], resettlement, birth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al/demographic/administra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luntary repatriation, resettlement, cessation, naturalization, deaths, verification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7FA-1840-41BA-A113-1E0A66518F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ndards - refugees (IDPs)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s III and I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, age, location (camps, urban, etc.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status (1951 Convention, humanitarian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recognition (prima facie/group, individually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ables II, III and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172-C928-4EE5-8DED-FB3F349E9E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11:05Z</dcterms:created>
  <dc:creator>Bela Hovy, Statistics</dc:creator>
  <dc:description/>
  <dc:language>en-US</dc:language>
  <cp:lastModifiedBy>Hovy</cp:lastModifiedBy>
  <cp:lastPrinted>2003-05-18T07:56:04Z</cp:lastPrinted>
  <dcterms:modified xsi:type="dcterms:W3CDTF">2005-01-24T17:51:07Z</dcterms:modified>
  <cp:revision>289</cp:revision>
  <dc:subject/>
  <dc:title>Refugee, asylum-seeker and forced displacement statistics</dc:title>
</cp:coreProperties>
</file>