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4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AB2-B4A8-4ACA-8FE0-C61FCF41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3F2-CC39-402A-B66C-E77DD852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F74-9188-46E7-B71C-E4E2E43F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8CE-F990-4CC0-8DB8-9596DB93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838-EDA7-49EB-AC3E-6374E9A8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51E-72D8-4B43-91D9-8F4978A9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E0D-0D50-4F81-92F8-86C1A343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EA5-CFFC-42EC-B4A1-0FA817C7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5D1-FBE6-46EF-A591-967C1C16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F71-807B-455B-8241-5C58535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95F-2FD9-4999-9EC0-C9347A7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403-1C65-4545-A805-D564388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219320"/>
            <a:ext cx="838440" cy="487656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66FE-90B3-4D79-BFF3-49AB89B492A9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228600"/>
            <a:ext cx="6061320" cy="0"/>
          </a:xfrm>
          <a:prstGeom prst="line">
            <a:avLst/>
          </a:prstGeom>
          <a:ln w="25560">
            <a:solidFill>
              <a:srgbClr val="9ac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229600" y="0"/>
          <a:ext cx="7034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0"/>
                    <a:ext cx="7034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152280" y="0"/>
            <a:ext cx="741600" cy="5396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09720" y="230040"/>
            <a:ext cx="7294320" cy="1800"/>
          </a:xfrm>
          <a:custGeom>
            <a:avLst/>
            <a:gdLst/>
            <a:ahLst/>
            <a:rect l="l" t="t" r="r" b="b"/>
            <a:pathLst>
              <a:path w="4595" h="1">
                <a:moveTo>
                  <a:pt x="0" y="0"/>
                </a:moveTo>
                <a:lnTo>
                  <a:pt x="4595" y="0"/>
                </a:lnTo>
              </a:path>
            </a:pathLst>
          </a:custGeom>
          <a:noFill/>
          <a:ln w="255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95280" y="692280"/>
            <a:ext cx="84978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енденции международной миграции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жордж Греневольд,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идерландский институт междисциплинарных демографических исследований (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iDi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нцепции и определ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сточники данных и их огранич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змерение миграции: число мигрантов проживающих  в стране и поток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нденции международной миграции в мире и в Европ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1523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 2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спределение стран и территорий по типам данных, применяемых для оценки числа  международных мигрантов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5721480"/>
            <a:ext cx="861048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   Asia    Europe  L.Am.   N.Am   Oceani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исунок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ид данных , применяемых для оценки миграции, по регионам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3124080"/>
            <a:ext cx="14479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uted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tizensh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rthpl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Потоки (Перекрестные таблицы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Место жительства /  Место рождения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перемещения только пожизненных мигрантов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недооценка общего объема перемещений  (промежуточные  миграции не фиксируются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нет указаний о времени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Место жительства / Место рождения/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Продолжительность проживания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грационные когорты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спределение пожизненных мигрантов по времени последней миграции (последнего прибытия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ализ взаимосвязи миграции и развития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Место жительства / Место жительства 1 или 5 лет назад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кцент на недавние прибытия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гласно рекомендации ООН – 5 лет назад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блема точности памяти в случае вопроса с фиксированной датой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685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800" y="380880"/>
            <a:ext cx="884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4.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Тенденции международной миграции в мире и Европ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523880"/>
            <a:ext cx="624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95280"/>
            <a:ext cx="8839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комендуемый источник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rnational Organization for Migration (IOM) and UN. 2003.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orld Migration Report 2003. Geneva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Рис. 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Рост численности мигрантов в более развитых (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MDC)</a:t>
            </a: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 и менее развитых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 (LDC)</a:t>
            </a: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 странах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 3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ценки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(A)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численности мигрантов,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(B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центного распределения по регионам и странам,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(C)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дельного веса женщин в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численности мигрантов за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960, 1970, 1980, 1990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2000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гг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808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Таблица 3</a:t>
            </a:r>
            <a:r>
              <a:rPr b="1" lang="en-GB" sz="2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(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должение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33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3.  (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должение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Феминизация миграци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тущая доля женщин среди мигрантов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(46%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тет число (и доля) женщин, совершающих миграцию в качестве работника, зарабатывающего средства, вместо качества сопровождающей мигранта персоны,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ли по причине воссоединения семей/заключения брака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язвимость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войная уязвимость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: (1)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 мигранта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(2)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как женщины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есто жительства зависит от «основного мигранта»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раффикинг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915400" cy="54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4.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селение Мира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сла международных мигрантов по странам, беженцы, денежные переводы работников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Источник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: UN Population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ivision, 2002)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76500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равнение демографического баланс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Число родившихся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Число умерших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+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ммигранты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игранты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стественный прирост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Чистая миграц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1.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Концепции и определения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26920" y="2852640"/>
          <a:ext cx="741708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852640"/>
                    <a:ext cx="741708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57200" y="990720"/>
          <a:ext cx="815328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1532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5.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ностранные граждане, иностранные работники и лица, родившиеся за границей в странах 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CD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1990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2001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гг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71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5400" indent="0">
              <a:buNone/>
              <a:tabLst>
                <a:tab algn="l" pos="0"/>
                <a:tab algn="l" pos="142092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 6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рана происхожден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раны выхода наибольшего числа бежен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ыс. чел., 2000 г.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924680" cy="5332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6095880"/>
            <a:ext cx="7620120" cy="50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01520" indent="0">
              <a:buNone/>
              <a:tabLst>
                <a:tab algn="l" pos="0"/>
                <a:tab algn="l" pos="133812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 7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есто назначен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страны, принявшие наибольшее число бежен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ыс. чел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2000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г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3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14400" indent="0" algn="ctr">
              <a:buNone/>
              <a:tabLst>
                <a:tab algn="l" pos="0"/>
                <a:tab algn="l" pos="933480"/>
                <a:tab algn="l" pos="1089000"/>
                <a:tab algn="l" pos="1244520"/>
                <a:tab algn="l" pos="1400040"/>
                <a:tab algn="l" pos="1555920"/>
                <a:tab algn="l" pos="1711440"/>
                <a:tab algn="l" pos="1866960"/>
                <a:tab algn="l" pos="2022480"/>
                <a:tab algn="l" pos="2178000"/>
                <a:tab algn="l" pos="2333520"/>
                <a:tab algn="l" pos="2489040"/>
                <a:tab algn="l" pos="2644920"/>
                <a:tab algn="l" pos="2800440"/>
                <a:tab algn="l" pos="2955960"/>
                <a:tab algn="l" pos="3111480"/>
                <a:tab algn="l" pos="3267000"/>
                <a:tab algn="l" pos="3422520"/>
                <a:tab algn="l" pos="3578400"/>
                <a:tab algn="l" pos="3733920"/>
                <a:tab algn="l" pos="3889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gure  3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сло беженцев в регионе вселен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1992-2001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миллионов человек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44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ис. 4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раткая история потоков международной миграции</a:t>
            </a:r>
            <a:r>
              <a:rPr b="1" lang="en-GB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49116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ource:http://pstalker.com/migration/mg_map.htm#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468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 8. Потоки чистой миграции в странах Евросоюза в 2000 г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1280" y="228600"/>
            <a:ext cx="876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нтральная и Восточная Европа (ЦВЕ)  и Содружество независимых государств (СНГ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89,  9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зависимых государств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97, 27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зависимых государств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выше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550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иллионов населения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ежду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1989-1997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еньше, чем ожидалось, населения выехало из регион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2.5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лн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выше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9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иллионов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ереехали в пределах или между   новыми Государствам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обровольные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патрианты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вынужденные миграци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еженцы и внутри перемещенные лиц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ПЛ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1997, 4.7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иллионов репатриантов в  странах СНГ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ЦВЕ/СНГ быстро становятся зонами транзитной миграции для международных мигрантов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беженцев из Азии и Африк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облем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бор, компиляция и распространение хороших по качеству данных и статистики миграции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628640"/>
            <a:ext cx="88390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Население мира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6 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миллиардов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Число международных мигрантов</a:t>
            </a:r>
            <a:r>
              <a:rPr b="0" lang="en-US" sz="27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:175 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миллионов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  (2.9% 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населения мира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Беженцы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12 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миллионов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Внутри перемещенные лица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6.4 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миллиона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99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оживающие вне страны рождения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точник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UN Statistics Divis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04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В качестве заключения: некоторые основные цифры за 2000 год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ммигрант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проживающее в стране, отличной от той, где он(она) родился (родилась)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мигрант: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покидающее страну свого рождения с целью въезда и проживания в другой стран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1911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бывший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проживающее в месте, отличном от того, где он(она) родился (родилась)  (в пределах той же страны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ывший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покидающее место своего рождения с целью въезда и проживания в другом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есте (в пределах той же страны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429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нутренняя миграц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еждународная миграц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15920"/>
            <a:ext cx="836784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Чистая миграция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ность между числом иммигрантов (или прибывших) и числом эмигрантов (или выбывших)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сли чистая миграция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положительн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то  число иммигрантов больше числа эмигрантов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Отрицательная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чистая миграция подразумевает, что число выбывающих больше  числа прибывающих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эффициенты и показатели миграци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3860280"/>
            <a:ext cx="77724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нтенсивность (rate) выбытий  (эмиграции) - процент населения из места Х, проживающего в настоящее время в других местах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эффициент (ratio) прибытий (иммиграции) – население, проживающее в месте Х, но родившееся в других местах, как процент от  всего населения, проживающего в месте Х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зависимости от задач исследования знаменатель может различаться, таким образом индикатором может быть как интенсивность, так и коэффициент, (rat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 rati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91540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восел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на момент переписи проживающее в месте отличном от того, где он (она) проживал (проживала) полтора года назад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609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жизненный мигрант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на момент переписи проживающее вне места своего рожд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91120"/>
            <a:ext cx="8763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огократный мигрант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лицо, имевшее разные места  жительства во всех трех случаях: на момент рождения,  Х лет назад и на момент переписи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7432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озвратный мигрант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на момент переписи проживающее в  месте свого рождения, но жившее в ином месте Х лет назад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304920"/>
            <a:ext cx="8915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еженц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женец –это лицо, которое в силу вполне обоснованных опасений стать жертвой преследований по признаку расы, вероисповедания, национальной принадлежности, принадлежности к определенной социальной группе или политических убеждений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находится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вне страны своей гражданской принадлежности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и  не может пользоваться защитой этой страны или не желает пользоваться такой защитой вследствие таких опасений;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Конвенция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1951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относительно  статуса беженца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о….. Также- лица, получившие статус беженца от Верховного комиссара ООН по делам беженцев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, UN Relief and Welfare Agency (UNRWA), 1969 OAU Convention on African Refuge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952880"/>
            <a:ext cx="8381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4114800"/>
            <a:ext cx="8740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нутри перемещенные лица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– индивиды, или группы лиц,  которые были вынуждены ,или которых заставили покинуть их дома или  места обычного проживания, в частности в  результате  или во избежание последствий вооруженных конфликтов, ситуаций массового насилия, нарушения прав человека, природных, или вызванных человеком катаклизмов, и которые не пересекали признанных в международном порядке государственных границ государства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2.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Источники данных и их ограничения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озможные источники данных для статистики миграции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Переписи населен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и регистры насел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граничная статистика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гистры иностранцев, регистры разрешения на въезд и пребывание для иностранцев,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ключая беженцев и лиц, ищущих убежищ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атистика разрешений на работу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бследования с общей программой (целью) -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eneral purpose surveys (GPS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пециальные обследования миграци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ипичные (наиболее распространенные)огранич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лнота, определения (сопоставимость), качество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граниченная глубина и широта (охват) данных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достаточно данных о положении мигрантов до переезд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достаточно данных для необходимого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равнения групп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1: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Число и распределение по периодам использования данных </a:t>
            </a: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ерепис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для определения численности международных мигрантов, находящихся в стране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914400"/>
          <a:ext cx="8713800" cy="56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14400"/>
                    <a:ext cx="871380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0"/>
            <a:ext cx="8675640" cy="67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3.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Измерение миграции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Число мигрантов в стране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потоки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тренды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Число мигрантов в стране: кого считать мигрантом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 критерию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места рождения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(МР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жизненные мигранты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меющие легальный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+нелегальный статус проживания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т временных ориентиров, нет механизма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рычага) для применения миграционной политики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 критерию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гражданств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легальный статус проживания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ндикатор с механизмом для миграционной политик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ножественное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гражданство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сло мигрантов в стране по критерию гражданства , как правило значительно отличается от числа мигрантов по критерию места рождения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арактеристики объема и состава для мониторинга социальной и экономической интеграци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22:47:56Z</dcterms:created>
  <dc:creator>Rob van der Erf</dc:creator>
  <dc:description/>
  <dc:language>en-US</dc:language>
  <cp:lastModifiedBy>user</cp:lastModifiedBy>
  <cp:lastPrinted>2005-01-20T17:24:03Z</cp:lastPrinted>
  <dcterms:modified xsi:type="dcterms:W3CDTF">2005-03-28T05:29:02Z</dcterms:modified>
  <cp:revision>287</cp:revision>
  <dc:subject/>
  <dc:title>No Slide Title</dc:title>
</cp:coreProperties>
</file>