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19.png" ContentType="image/png"/>
  <Override PartName="/ppt/media/image1.png" ContentType="image/png"/>
  <Override PartName="/ppt/media/image18.wmf" ContentType="image/x-wmf"/>
  <Override PartName="/ppt/media/image20.wmf" ContentType="image/x-wmf"/>
  <Override PartName="/ppt/media/image3.wmf" ContentType="image/x-wmf"/>
  <Override PartName="/ppt/media/image4.png" ContentType="image/png"/>
  <Override PartName="/ppt/media/image2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3DC3-C423-4F5E-8128-2E7BF35B4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B152-6C6C-4CE3-B3F3-794ED34A5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24A8-F6BD-4A63-81E8-1C5FA7FD2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8A27-EED5-45C3-BD50-B18DC1980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D58D-C65B-414A-9872-BC5864503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B02F-42D0-4CA5-BA45-B4EFC0A00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3BE4-06A9-4881-B474-2A1BB531A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923D-20E7-4F07-B738-FEC6AF9F6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EEEE-7C54-420F-B1A2-FA5B765ED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6548-AF37-4F70-8DAD-0D5F65CA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575B-6233-48AF-88D7-60512070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EFAC-AE18-4154-9B83-AF1162C4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219320"/>
            <a:ext cx="838440" cy="4876560"/>
          </a:xfrm>
          <a:prstGeom prst="rect">
            <a:avLst/>
          </a:pr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1CF41-6248-4F53-A274-CD5724994A3A}" type="slidenum">
              <a:rPr b="0" lang="en-US" sz="1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3880" y="228600"/>
            <a:ext cx="6061320" cy="0"/>
          </a:xfrm>
          <a:prstGeom prst="line">
            <a:avLst/>
          </a:prstGeom>
          <a:ln w="25560">
            <a:solidFill>
              <a:srgbClr val="9ac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8229600" y="0"/>
          <a:ext cx="703440" cy="509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29600" y="0"/>
                    <a:ext cx="70344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" name="" descr=""/>
          <p:cNvPicPr/>
          <p:nvPr/>
        </p:nvPicPr>
        <p:blipFill>
          <a:blip r:embed="rId4">
            <a:lum contrast="-18000"/>
          </a:blip>
          <a:stretch/>
        </p:blipFill>
        <p:spPr>
          <a:xfrm>
            <a:off x="152280" y="0"/>
            <a:ext cx="741600" cy="53964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09720" y="230040"/>
            <a:ext cx="7294320" cy="1800"/>
          </a:xfrm>
          <a:custGeom>
            <a:avLst/>
            <a:gdLst/>
            <a:ahLst/>
            <a:rect l="l" t="t" r="r" b="b"/>
            <a:pathLst>
              <a:path w="4595" h="1">
                <a:moveTo>
                  <a:pt x="0" y="0"/>
                </a:moveTo>
                <a:lnTo>
                  <a:pt x="4595" y="0"/>
                </a:lnTo>
              </a:path>
            </a:pathLst>
          </a:custGeom>
          <a:noFill/>
          <a:ln w="255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99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95280" y="0"/>
            <a:ext cx="815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UNFPA/UNECE/NIDI Training programme on international migration, Geneva, 24-28/01/2005 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380880"/>
            <a:ext cx="7772400" cy="0"/>
          </a:xfrm>
          <a:prstGeom prst="line">
            <a:avLst/>
          </a:prstGeom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0" y="0"/>
          <a:ext cx="1295280" cy="97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29528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395280" y="692280"/>
            <a:ext cx="8497800" cy="56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Тенденции международной миграции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Джордж Греневольд,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Нидерландский институт междисциплинарных демографических исследований (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NiDi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Концепции и определения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Источники данных и их ограничения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3.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Измерение миграции: число мигрантов проживающих  в стране и потоки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4.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Тенденции международной миграции в мире и в Европе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70160" y="2443320"/>
            <a:ext cx="1839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80880" y="152388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Таблица 2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.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Распределение стран и территорий по типам данных, применяемых для оценки числа  международных мигрантов.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5721480"/>
            <a:ext cx="8610480" cy="107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frica    Asia    Europe  L.Am.   N.Am   Oceania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304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Рисунок 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1.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ид данных , применяемых для оценки миграции, по регионам.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96080" y="3124080"/>
            <a:ext cx="1447920" cy="132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mputed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itizensh.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irthpl.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58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Arial"/>
              </a:rPr>
              <a:t>Потоки (Перекрестные таблицы)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1" lang="ru-RU" sz="2700" spc="-1" strike="noStrike">
                <a:solidFill>
                  <a:srgbClr val="000099"/>
                </a:solidFill>
                <a:latin typeface="Arial"/>
              </a:rPr>
              <a:t>Место жительства /  Место рождения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перемещения только пожизненных мигрантов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недооценка общего объема перемещений  (промежуточные  миграции не фиксируются)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нет указаний о времени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99"/>
                </a:solidFill>
                <a:latin typeface="Arial"/>
              </a:rPr>
              <a:t>Место жительства / Место рождения/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700" spc="-1" strike="noStrike">
                <a:solidFill>
                  <a:srgbClr val="000099"/>
                </a:solidFill>
                <a:latin typeface="Arial"/>
              </a:rPr>
              <a:t>Продолжительность проживания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миграционные когорты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: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распределение пожизненных мигрантов по времени последней миграции (последнего прибытия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анализ взаимосвязи миграции и развития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99"/>
                </a:solidFill>
                <a:latin typeface="Arial"/>
              </a:rPr>
              <a:t>Место жительства / Место жительства 1 или 5 лет назад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акцент на недавние прибытия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согласно рекомендации ООН – 5 лет назад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проблема точности памяти в случае вопроса с фиксированной датой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80880" y="68580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-1800" y="380880"/>
            <a:ext cx="884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99"/>
                </a:solidFill>
                <a:uFillTx/>
                <a:latin typeface="Arial"/>
              </a:rPr>
              <a:t>4. </a:t>
            </a:r>
            <a:r>
              <a:rPr b="1" lang="ru-RU" sz="2400" spc="-1" strike="noStrike" u="sng">
                <a:solidFill>
                  <a:srgbClr val="000099"/>
                </a:solidFill>
                <a:uFillTx/>
                <a:latin typeface="Arial"/>
              </a:rPr>
              <a:t>Тенденции международной миграции в мире и Европе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1523880"/>
            <a:ext cx="6248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295280"/>
            <a:ext cx="8839080" cy="21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Рекомендуемый источник: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nternational Organization for Migration (IOM) and UN. 2003.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World Migration Report 2003. Geneva.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99"/>
                </a:solidFill>
                <a:latin typeface="Arial"/>
              </a:rPr>
              <a:t>Рис. </a:t>
            </a:r>
            <a:r>
              <a:rPr b="1" lang="en-US" sz="2700" spc="-1" strike="noStrike">
                <a:solidFill>
                  <a:srgbClr val="000099"/>
                </a:solidFill>
                <a:latin typeface="Arial"/>
              </a:rPr>
              <a:t>2. </a:t>
            </a:r>
            <a:r>
              <a:rPr b="1" lang="en-US" sz="27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ru-RU" sz="2700" spc="-1" strike="noStrike">
                <a:solidFill>
                  <a:srgbClr val="000099"/>
                </a:solidFill>
                <a:latin typeface="Arial"/>
              </a:rPr>
              <a:t>Рост численности мигрантов в более развитых (</a:t>
            </a:r>
            <a:r>
              <a:rPr b="1" lang="en-US" sz="2700" spc="-1" strike="noStrike">
                <a:solidFill>
                  <a:srgbClr val="000099"/>
                </a:solidFill>
                <a:latin typeface="Arial"/>
              </a:rPr>
              <a:t>MDC)</a:t>
            </a:r>
            <a:r>
              <a:rPr b="1" lang="ru-RU" sz="2700" spc="-1" strike="noStrike">
                <a:solidFill>
                  <a:srgbClr val="000099"/>
                </a:solidFill>
                <a:latin typeface="Arial"/>
              </a:rPr>
              <a:t> и менее развитых</a:t>
            </a:r>
            <a:r>
              <a:rPr b="1" lang="en-US" sz="2700" spc="-1" strike="noStrike">
                <a:solidFill>
                  <a:srgbClr val="000099"/>
                </a:solidFill>
                <a:latin typeface="Arial"/>
              </a:rPr>
              <a:t> (LDC)</a:t>
            </a:r>
            <a:r>
              <a:rPr b="1" lang="ru-RU" sz="2700" spc="-1" strike="noStrike">
                <a:solidFill>
                  <a:srgbClr val="000099"/>
                </a:solidFill>
                <a:latin typeface="Arial"/>
              </a:rPr>
              <a:t> странах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0"/>
            <a:ext cx="91440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Таблица 3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Оценки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(A)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численности мигрантов,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(B)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процентного распределения по регионам и странам,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(C)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удельного веса женщин в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численности мигрантов за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1960, 1970, 1980, 1990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и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2000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гг.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4572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914400"/>
            <a:ext cx="9144000" cy="5335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380880"/>
            <a:ext cx="9144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99"/>
                </a:solidFill>
                <a:latin typeface="Arial"/>
              </a:rPr>
              <a:t>Таблица 3</a:t>
            </a:r>
            <a:r>
              <a:rPr b="1" lang="en-GB" sz="27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 (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родолжение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0" y="5867280"/>
            <a:ext cx="914400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0292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5331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Таблица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3.  (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родолжение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80520" y="533520"/>
            <a:ext cx="80010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Феминизация миграции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Растущая доля женщин среди мигрантов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(46%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Растет число (и доля) женщин, совершающих миграцию в качестве работника, зарабатывающего средства, вместо качества сопровождающей мигранта персоны,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или по причине воссоединения семей/заключения брака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Уязвимость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Двойная уязвимость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: (1)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как мигранта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, (2)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как женщины.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Место жительства зависит от «основного мигранта»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Траффикинг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8915400" cy="5427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Таблица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4.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Население Мира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Числа международных мигрантов по странам, беженцы, денежные переводы работников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Источник </a:t>
            </a: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: UN Population </a:t>
            </a: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Division, 2002)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765000"/>
            <a:ext cx="86104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Уравнение демографического баланса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P(t+1)= P(t)+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Число родившихся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Число умерших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+(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Иммигранты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мигранты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),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или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P(t+1)= P(t)+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Естественный прирост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Чистая миграция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1. 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Arial"/>
              </a:rPr>
              <a:t>Концепции и определения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826920" y="2852640"/>
          <a:ext cx="7417080" cy="362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852640"/>
                    <a:ext cx="7417080" cy="36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457200" y="990720"/>
          <a:ext cx="8153280" cy="55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90720"/>
                    <a:ext cx="8153280" cy="55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3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Table 5. 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Иностранные граждане, иностранные работники и лица, родившиеся за границей в странах О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CD 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1990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и 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2001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гг.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560" y="228240"/>
            <a:ext cx="8713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95400" indent="0">
              <a:buNone/>
              <a:tabLst>
                <a:tab algn="l" pos="0"/>
                <a:tab algn="l" pos="142092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  <a:tab algn="l" pos="514368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Таблица 6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трана происхождения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траны выхода наибольшего числа беженцев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тыс. чел., 2000 г.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7924680" cy="53326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57200" y="6095880"/>
            <a:ext cx="7620120" cy="505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99"/>
                </a:solidFill>
                <a:latin typeface="Times New Roman"/>
              </a:rPr>
              <a:t>     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101520" indent="0">
              <a:buNone/>
              <a:tabLst>
                <a:tab algn="l" pos="0"/>
                <a:tab algn="l" pos="133812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  <a:tab algn="l" pos="514368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Таблица 7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Место назначения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страны, принявшие наибольшее число беженцев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(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тыс. чел.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2000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г.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238880" cy="538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914400" indent="0" algn="ctr">
              <a:buNone/>
              <a:tabLst>
                <a:tab algn="l" pos="0"/>
                <a:tab algn="l" pos="933480"/>
                <a:tab algn="l" pos="1089000"/>
                <a:tab algn="l" pos="1244520"/>
                <a:tab algn="l" pos="1400040"/>
                <a:tab algn="l" pos="1555920"/>
                <a:tab algn="l" pos="1711440"/>
                <a:tab algn="l" pos="1866960"/>
                <a:tab algn="l" pos="2022480"/>
                <a:tab algn="l" pos="2178000"/>
                <a:tab algn="l" pos="2333520"/>
                <a:tab algn="l" pos="2489040"/>
                <a:tab algn="l" pos="2644920"/>
                <a:tab algn="l" pos="2800440"/>
                <a:tab algn="l" pos="2955960"/>
                <a:tab algn="l" pos="3111480"/>
                <a:tab algn="l" pos="3267000"/>
                <a:tab algn="l" pos="3422520"/>
                <a:tab algn="l" pos="3578400"/>
                <a:tab algn="l" pos="3733920"/>
                <a:tab algn="l" pos="388944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igure  3.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Число беженцев в регионе вселения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1992-2001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(миллионов человек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16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0" y="0"/>
            <a:ext cx="9448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Рис. 4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Краткая история потоков международной миграции</a:t>
            </a:r>
            <a:r>
              <a:rPr b="1" lang="en-GB" sz="27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491160"/>
            <a:ext cx="731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Source:http://pstalker.com/migration/mg_map.htm#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4680"/>
            <a:ext cx="183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304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Таблица 8. Потоки чистой миграции в странах Евросоюза в 2000 г.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8915400" cy="541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1280" y="228600"/>
            <a:ext cx="87678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Центральная и Восточная Европа (ЦВЕ)  и Содружество независимых государств (СНГ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989,  9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независимых государств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997, 27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независимых государств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свыше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550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миллионов населения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Между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1989-1997: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Меньше, чем ожидалось, населения выехало из региона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(2.5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млн.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Свыше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9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миллионов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переехали в пределах или между   новыми Государствами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Добровольные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репатрианты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и вынужденные миграции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беженцы и внутри перемещенные лица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ВПЛ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1997, 4.7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миллионов репатриантов в  странах СНГ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ЦВЕ/СНГ быстро становятся зонами транзитной миграции для международных мигрантов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и беженцев из Азии и Африки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Проблема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сбор, компиляция и распространение хороших по качеству данных и статистики миграции.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04920" y="1628640"/>
            <a:ext cx="88390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99"/>
                </a:solidFill>
                <a:latin typeface="Arial"/>
              </a:rPr>
              <a:t>Население мира</a:t>
            </a: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: </a:t>
            </a: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6 </a:t>
            </a:r>
            <a:r>
              <a:rPr b="0" lang="ru-RU" sz="2700" spc="-1" strike="noStrike">
                <a:solidFill>
                  <a:srgbClr val="000099"/>
                </a:solidFill>
                <a:latin typeface="Arial"/>
              </a:rPr>
              <a:t>миллиардов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99"/>
                </a:solidFill>
                <a:latin typeface="Arial"/>
              </a:rPr>
              <a:t>Число международных мигрантов</a:t>
            </a:r>
            <a:r>
              <a:rPr b="0" lang="en-US" sz="2700" spc="-1" strike="noStrike" baseline="30000">
                <a:solidFill>
                  <a:srgbClr val="000099"/>
                </a:solidFill>
                <a:latin typeface="Arial"/>
              </a:rPr>
              <a:t>1</a:t>
            </a: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:175 </a:t>
            </a:r>
            <a:r>
              <a:rPr b="0" lang="ru-RU" sz="2700" spc="-1" strike="noStrike">
                <a:solidFill>
                  <a:srgbClr val="000099"/>
                </a:solidFill>
                <a:latin typeface="Arial"/>
              </a:rPr>
              <a:t>миллионов</a:t>
            </a: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  (2.9% </a:t>
            </a:r>
            <a:r>
              <a:rPr b="0" lang="ru-RU" sz="2700" spc="-1" strike="noStrike">
                <a:solidFill>
                  <a:srgbClr val="000099"/>
                </a:solidFill>
                <a:latin typeface="Arial"/>
              </a:rPr>
              <a:t>населения мира</a:t>
            </a: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99"/>
                </a:solidFill>
                <a:latin typeface="Arial"/>
              </a:rPr>
              <a:t>Беженцы</a:t>
            </a: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2700" spc="-1" strike="noStrike">
                <a:solidFill>
                  <a:srgbClr val="000099"/>
                </a:solidFill>
                <a:latin typeface="Arial"/>
              </a:rPr>
              <a:t>                 </a:t>
            </a: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12 </a:t>
            </a:r>
            <a:r>
              <a:rPr b="0" lang="ru-RU" sz="2700" spc="-1" strike="noStrike">
                <a:solidFill>
                  <a:srgbClr val="000099"/>
                </a:solidFill>
                <a:latin typeface="Arial"/>
              </a:rPr>
              <a:t>миллионов</a:t>
            </a: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99"/>
                </a:solidFill>
                <a:latin typeface="Arial"/>
              </a:rPr>
              <a:t>Внутри перемещенные лица</a:t>
            </a: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0" lang="ru-RU" sz="2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6.4 </a:t>
            </a:r>
            <a:r>
              <a:rPr b="0" lang="ru-RU" sz="2700" spc="-1" strike="noStrike">
                <a:solidFill>
                  <a:srgbClr val="000099"/>
                </a:solidFill>
                <a:latin typeface="Arial"/>
              </a:rPr>
              <a:t>миллиона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99"/>
                </a:solidFill>
                <a:latin typeface="Arial"/>
              </a:rPr>
              <a:t>1)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роживающие вне страны рождения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Источник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UN Statistics Division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30492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99"/>
                </a:solidFill>
                <a:latin typeface="Arial"/>
              </a:rPr>
              <a:t>В качестве заключения: некоторые основные цифры за 2000 год.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761760" y="1295280"/>
            <a:ext cx="792468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Иммигрант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Лицо, проживающее в стране, отличной от той, где он(она) родился (родилась).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Эмигрант: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Лицо, покидающее страну свого рождения с целью въезда и проживания в другой стране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41911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рибывший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лицо, проживающее в месте, отличном от того, где он(она) родился (родилась)  (в пределах той же страны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ыбывший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лицо, покидающее место своего рождения с целью въезда и проживания в другом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месте (в пределах той же страны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34290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нутренняя миграция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Международная миграция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115920"/>
            <a:ext cx="8367840" cy="29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Чистая миграция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Разность между числом иммигрантов (или прибывших) и числом эмигрантов (или выбывших)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Если чистая миграция 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положительна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, то  число иммигрантов больше числа эмигрантов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Отрицательная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чистая миграция подразумевает, что число выбывающих больше  числа прибывающих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3200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Коэффициенты и показатели миграции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3860280"/>
            <a:ext cx="77724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Интенсивность (rate) выбытий  (эмиграции) - процент населения из места Х, проживающего в настоящее время в других местах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Коэффициент (ratio) прибытий (иммиграции) – население, проживающее в месте Х, но родившееся в других местах, как процент от  всего населения, проживающего в месте Х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В зависимости от задач исследования знаменатель может различаться, таким образом индикатором может быть как интенсивность, так и коэффициент, (rate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и ratio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228240" y="1600200"/>
            <a:ext cx="8915400" cy="110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52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Новосел 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лицо, на момент переписи проживающее в месте отличном от того, где он (она) проживал (проживала) полтора года назад.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60948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ожизненный мигрант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лицо, на момент переписи проживающее вне места своего рождения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4191120"/>
            <a:ext cx="87631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5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Многократный мигрант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лицо, имевшее разные места  жительства во всех трех случаях: на момент рождения,  Х лет назад и на момент переписи.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274320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озвратный мигрант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лицо, на момент переписи проживающее в  месте свого рождения, но жившее в ином месте Х лет назад.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8600" y="304920"/>
            <a:ext cx="8915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8000"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Беженцы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Беженец –это лицо, которое в силу вполне обоснованных опасений стать жертвой преследований по признаку расы, вероисповедания, национальной принадлежности, принадлежности к определенной социальной группе или политических убеждений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находится 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вне страны своей гражданской принадлежности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 и  не может пользоваться защитой этой страны или не желает пользоваться такой защитой вследствие таких опасений;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(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Конвенция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 1951 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относительно  статуса беженца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Но….. Также- лица, получившие статус беженца от Верховного комиссара ООН по делам беженцев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, UN Relief and Welfare Agency (UNRWA), 1969 OAU Convention on African Refugee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4952880"/>
            <a:ext cx="8381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2280" y="4114800"/>
            <a:ext cx="8740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57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Внутри перемещенные лица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– индивиды, или группы лиц,  которые были вынуждены ,или которых заставили покинуть их дома или  места обычного проживания, в частности в  результате  или во избежание последствий вооруженных конфликтов, ситуаций массового насилия, нарушения прав человека, природных, или вызванных человеком катаклизмов, и которые не пересекали признанных в международном порядке государственных границ государства.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99"/>
                </a:solidFill>
                <a:uFillTx/>
                <a:latin typeface="Arial"/>
              </a:rPr>
              <a:t>2. 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Arial"/>
              </a:rPr>
              <a:t>Источники данных и их ограничения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озможные источники данных для статистики миграции: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Переписи населения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и регистры населения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Пограничная статистика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Регистры иностранцев, регистры разрешения на въезд и пребывание для иностранцев,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включая беженцев и лиц, ищущих убежища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Статистика разрешений на работу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Обследования с общей программой (целью) -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General purpose surveys (GPS)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Специальные обследования миграции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Типичные (наиболее распространенные)ограничения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Полнота, определения (сопоставимость), качество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Ограниченная глубина и широта (охват) данных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Недостаточно данных о положении мигрантов до переезда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Недостаточно данных для необходимого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сравнения групп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Таблица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1: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Число и распределение по периодам использования данных </a:t>
            </a:r>
            <a:r>
              <a:rPr b="1" lang="ru-RU" sz="1600" spc="-1" strike="noStrike" u="sng">
                <a:solidFill>
                  <a:srgbClr val="000099"/>
                </a:solidFill>
                <a:uFillTx/>
                <a:latin typeface="Arial"/>
              </a:rPr>
              <a:t>переписи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для определения численности международных мигрантов, находящихся в стране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50920" y="914400"/>
          <a:ext cx="8713800" cy="561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914400"/>
                    <a:ext cx="8713800" cy="56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68360" y="0"/>
            <a:ext cx="8675640" cy="67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3. </a:t>
            </a:r>
            <a:r>
              <a:rPr b="1" lang="ru-RU" sz="2400" spc="-1" strike="noStrike" u="sng">
                <a:solidFill>
                  <a:srgbClr val="000099"/>
                </a:solidFill>
                <a:uFillTx/>
                <a:latin typeface="Arial"/>
              </a:rPr>
              <a:t>Измерение миграции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: </a:t>
            </a:r>
            <a:r>
              <a:rPr b="1" lang="ru-RU" sz="2400" spc="-1" strike="noStrike" u="sng">
                <a:solidFill>
                  <a:srgbClr val="000099"/>
                </a:solidFill>
                <a:uFillTx/>
                <a:latin typeface="Arial"/>
              </a:rPr>
              <a:t>Число мигрантов в стране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, </a:t>
            </a:r>
            <a:r>
              <a:rPr b="1" lang="ru-RU" sz="2400" spc="-1" strike="noStrike" u="sng">
                <a:solidFill>
                  <a:srgbClr val="000099"/>
                </a:solidFill>
                <a:uFillTx/>
                <a:latin typeface="Arial"/>
              </a:rPr>
              <a:t>потоки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, </a:t>
            </a:r>
            <a:r>
              <a:rPr b="1" lang="ru-RU" sz="2400" spc="-1" strike="noStrike" u="sng">
                <a:solidFill>
                  <a:srgbClr val="000099"/>
                </a:solidFill>
                <a:uFillTx/>
                <a:latin typeface="Arial"/>
              </a:rPr>
              <a:t>тренды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99"/>
                </a:solidFill>
                <a:uFillTx/>
                <a:latin typeface="Arial"/>
              </a:rPr>
              <a:t>Число мигрантов в стране: кого считать мигрантом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о критерию </a:t>
            </a:r>
            <a:r>
              <a:rPr b="1" lang="ru-RU" sz="2400" spc="-1" strike="noStrike" u="sng">
                <a:solidFill>
                  <a:srgbClr val="000099"/>
                </a:solidFill>
                <a:uFillTx/>
                <a:latin typeface="Arial"/>
              </a:rPr>
              <a:t>места рождения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(МР)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пожизненные мигранты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(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имеющие легальный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+нелегальный статус проживания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нет временных ориентиров, нет механизма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(рычага) для применения миграционной политики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о критерию </a:t>
            </a:r>
            <a:r>
              <a:rPr b="1" lang="ru-RU" sz="2400" spc="-1" strike="noStrike" u="sng">
                <a:solidFill>
                  <a:srgbClr val="000099"/>
                </a:solidFill>
                <a:uFillTx/>
                <a:latin typeface="Arial"/>
              </a:rPr>
              <a:t>гражданства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?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легальный статус проживания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индикатор с механизмом для миграционной политики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множественное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гражданство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Число мигрантов в стране по критерию гражданства , как правило значительно отличается от числа мигрантов по критерию места рождения.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Характеристики объема и состава для мониторинга социальной и экономической интеграции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5T22:47:56Z</dcterms:created>
  <dc:creator>Rob van der Erf</dc:creator>
  <dc:description/>
  <dc:language>en-US</dc:language>
  <cp:lastModifiedBy>user</cp:lastModifiedBy>
  <cp:lastPrinted>2005-01-20T17:24:03Z</cp:lastPrinted>
  <dcterms:modified xsi:type="dcterms:W3CDTF">2005-03-28T05:29:02Z</dcterms:modified>
  <cp:revision>287</cp:revision>
  <dc:subject/>
  <dc:title>No Slide Title</dc:title>
</cp:coreProperties>
</file>