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1A2-AE4B-417F-BC86-8A715ECF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D38-E706-4580-B019-735F1802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2DA-1759-44E6-BFF6-2EABB697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FDE-9625-4894-9D82-266EF164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05E-9818-456F-88AE-8871653B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45C-54A3-4BEA-AA5A-6F401BD6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1CC-9634-43ED-B7CB-12D88781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348-7ECD-47BB-9362-8DBD2ADC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1F9-4EDF-4901-A942-528E1216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604-0FCA-44FC-8F07-6E0605CA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AB8-2277-4557-8F7A-20E74A7B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33D-BAEA-4C6E-B16A-38BA9169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219320"/>
            <a:ext cx="838440" cy="487656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D598-1EB1-4424-BBF2-7643288B4B65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228600"/>
            <a:ext cx="6061320" cy="0"/>
          </a:xfrm>
          <a:prstGeom prst="line">
            <a:avLst/>
          </a:prstGeom>
          <a:ln w="25560">
            <a:solidFill>
              <a:srgbClr val="9ac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229600" y="0"/>
          <a:ext cx="7034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0"/>
                    <a:ext cx="70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152280" y="0"/>
            <a:ext cx="741600" cy="539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9720" y="230040"/>
            <a:ext cx="7294320" cy="1800"/>
          </a:xfrm>
          <a:custGeom>
            <a:avLst/>
            <a:gdLst/>
            <a:ahLst/>
            <a:rect l="l" t="t" r="r" b="b"/>
            <a:pathLst>
              <a:path w="4595" h="1">
                <a:moveTo>
                  <a:pt x="0" y="0"/>
                </a:moveTo>
                <a:lnTo>
                  <a:pt x="4595" y="0"/>
                </a:lnTo>
              </a:path>
            </a:pathLst>
          </a:custGeom>
          <a:noFill/>
          <a:ln w="255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066680"/>
            <a:ext cx="91440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rends in International Migration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George Groenewold, NiDi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. Concepts and Definition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. Data sources and their shortcoming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3. Measurement of migration: Stocks and Flow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4. Trends in International Migration in the World and Europ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523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2.  Distribution of countries and areas according to the type of data used to identify stocks of international migran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721480"/>
            <a:ext cx="861048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   Asia    Europe  L.Am.   N.Am   Oceani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igure 1. Type of data used to estimate migration by reg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3124080"/>
            <a:ext cx="14479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uted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tizensh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rthpl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5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Flows (cross-tabulations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POR by PO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life time migration moves onl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underestimation of total migration moves (intermediat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stinations not recorded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not time-specifi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POR by POB by Duration of Residenc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migration cohorts: life time in-migrants by time of last arriva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 migration and development analysis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POR by POR 1 or 5 years ag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focus on recent arrival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UN recommends 5 years ago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recall problem with fixed reference dat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685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8280" y="380880"/>
            <a:ext cx="88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4. Trends in International Migration in the World and Europ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3880"/>
            <a:ext cx="624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95280"/>
            <a:ext cx="8839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uggested reference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national Organization for Migration (IOM) and UN. 2003.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orld Migration Report 2003. Geneva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Figure 2.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Growth of  migrant stocks in less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developed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and more developed countri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3.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stimates of (A) numbers of migrants (B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portional distribution (C) proportion of female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grants in 1960, 1970, 1980, 1990 and 200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3.  (continued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3.  (continued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eminisation of migr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creasing share of women in migration (46%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creasingly as wage earner’s instead of accompanying migrants (or for reason of family reunification/marriage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Vulnerabilit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ouble vulnerability: (1) as migrant, (2) as a woma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sidence dependent on ‘primary migrant’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raffick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89154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4.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orld Population, International Migrants (stocks)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d Refugees, Worker Remittances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Source: UN Population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ivision, 2002)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7467480" cy="361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99072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mographic Balance Equ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(t+1)= P(t)+Births-Deaths+(Immigrants-Emigrants), or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(t+1)= P(t)+Natural Increase+Net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1. Concepts and Definiti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815328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1532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5.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oreign citizens, workers, and foreign born in OECD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ries in 1990 and 200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5400" indent="0">
              <a:buNone/>
              <a:tabLst>
                <a:tab algn="l" pos="0"/>
                <a:tab algn="l" pos="142092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ble  6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rigin: countries with largest number of refugees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thousands, year 2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924680" cy="5332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6095880"/>
            <a:ext cx="7620120" cy="50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1520" indent="0">
              <a:buNone/>
              <a:tabLst>
                <a:tab algn="l" pos="0"/>
                <a:tab algn="l" pos="133812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ble 7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stination: asylum countries with largest number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 refugees (thousands, year 2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3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14400" indent="0">
              <a:buNone/>
              <a:tabLst>
                <a:tab algn="l" pos="0"/>
                <a:tab algn="l" pos="933480"/>
                <a:tab algn="l" pos="1089000"/>
                <a:tab algn="l" pos="1244520"/>
                <a:tab algn="l" pos="1400040"/>
                <a:tab algn="l" pos="1555920"/>
                <a:tab algn="l" pos="1711440"/>
                <a:tab algn="l" pos="1866960"/>
                <a:tab algn="l" pos="2022480"/>
                <a:tab algn="l" pos="2178000"/>
                <a:tab algn="l" pos="2333520"/>
                <a:tab algn="l" pos="2489040"/>
                <a:tab algn="l" pos="2644920"/>
                <a:tab algn="l" pos="2800440"/>
                <a:tab algn="l" pos="2955960"/>
                <a:tab algn="l" pos="3111480"/>
                <a:tab algn="l" pos="3267000"/>
                <a:tab algn="l" pos="3422520"/>
                <a:tab algn="l" pos="3578400"/>
                <a:tab algn="l" pos="3733920"/>
                <a:tab algn="l" pos="3889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gure  3. Refugee populations in region of asylum, 1992-2001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global_paths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44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igure 4. A brief history of international migration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lows</a:t>
            </a:r>
            <a:r>
              <a:rPr b="1" lang="en-GB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9116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ource:http://pstalker.com/migration/mg_map.htm#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12960" y="468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8. Net migration flows to European Union in 200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280" y="228600"/>
            <a:ext cx="876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ntral and Eastern Europe (CEE) and Common Wealth of Independent States (CI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89,  9 independent countr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97, 27 independent countries (over 550 million people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tween 1989-1997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wer than expected moved out of region (2.5 million)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 9 million moved within or between new Stat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oluntary (repatriants) and forced movements (refugees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d internally displaced persons (ID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y 1997, 4.7 million repatriants in CI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EE/CIS increasingly transit-zones of international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grants and refugees from Asia and Afric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blem: collection, compilation and dissemination of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od quality migration data and statistic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990720"/>
            <a:ext cx="883908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Total world population: 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6 billion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International migrants</a:t>
            </a:r>
            <a:r>
              <a:rPr b="0" lang="en-US" sz="27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175 million  (2.9% of world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population)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Refugees: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12 million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IDPs: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6.4 million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99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Living outside country of birt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urce: UN Statistics Divis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04920"/>
            <a:ext cx="800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To conclude, some key figures for year 2000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meone living in a country other than where he/she was bor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meone leaving his/her country of birth to go and live in another countr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1911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-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meone living in another place than where he/she was born (but within the same country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ut-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omeone leaving his/her place of birth to go and live in another place (but within the same country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429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al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ational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0"/>
            <a:ext cx="8763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t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fference between the number of immigrants (or in-migrants) and the number of emigrants (or out-migrant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f net migration is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positive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there are more immigrants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an emigran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negative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net migration implies that more people are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eaving than arriv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gration rates and rat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ut-migration (emigration)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rat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percentage of population from place x that now lives elsewher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-migration (immigration)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rati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population living in place x, but born elsewhere, as a percentage of the total population living in place x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pending on research question, denominator may differ so that indicator may be either a rate or rati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cent migrant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someone whose place of residence at the time of the census differs from that 1, 5 years  ag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09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fetime 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meone who at the time of the census lives away from his/her place of birt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91120"/>
            <a:ext cx="8763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ultiple migrant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someone whose place of residence is different at all three times: at birth, X-years ago, and at the censu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7432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turn 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meone who, at the time of the census, was living in the same place as at birth, but who was living in another place X-years ag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304920"/>
            <a:ext cx="8915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fugee: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fugee is a person who ‘owing to a well-founded fear of being persecuted for reasons of race, religion, nationality, membership of a particular social group, or political opinion, is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outside the country of his nationality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and is unable to or, owing to such fear, is unwilling to avail himself of the protection of that country…’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The 1951 Convention relating to the Status of Refugee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….also persons granted refugee status by UNHCR, UN Relief and Welfare Agency (UNRWA), 1969 OAU Convention on African Refuge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952880"/>
            <a:ext cx="8381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114800"/>
            <a:ext cx="8458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nally displaced person (IDP)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rnally displaced persons are persons or groups of persons who have been forced or obliged to flee or to leave their homes or places of habitual residence, in particular as a result of or in order to avoid the effects of armed conflict, situations of generalized violence, violations of human rights or natural or human-inflicted disasters, a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who have not crossed an internationally recognized state bord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2. Data sources and their shortcoming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otential data sources for migration statistics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Population censuse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and population register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order statistic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dmission and stay registers for foreigners, including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fugees and asylum-seek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Work permit statistic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eneral purpose surveys (GPS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Specialised migration survey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ypical shortcomings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mpleteness, definitions (comparability), quality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imited depth and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readth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of data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ta on situation of migrants prior to migration lacking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ta of relevant comparison groups lacking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1: Number and distribution over time of using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the census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to determine the international migrant stock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3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3. Measurement of Migraton: Stocks, Flows, Trend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Stocks: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who is a migrant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According to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lace of Birth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(POB)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fe time migrants (legal+illegal residence statu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 time reference, no policy handl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cording to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itizenshi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riterion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gal residence statu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dicator with policy handl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ltiple citizenship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umber of migrants according to citizenship usually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ers considerably from migrants according to PO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ze and composition characteristics for monitoring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and economic inte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22:47:56Z</dcterms:created>
  <dc:creator>Rob van der Erf</dc:creator>
  <dc:description/>
  <dc:language>en-US</dc:language>
  <cp:lastModifiedBy>George Groenewold</cp:lastModifiedBy>
  <cp:lastPrinted>2005-01-20T17:24:03Z</cp:lastPrinted>
  <dcterms:modified xsi:type="dcterms:W3CDTF">2005-02-02T13:39:34Z</dcterms:modified>
  <cp:revision>264</cp:revision>
  <dc:subject/>
  <dc:title>No Slide Title</dc:title>
</cp:coreProperties>
</file>