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4BD-AE36-4EA2-ADE4-805976E2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411-6AEB-455F-AC34-55226BF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1D7-4A32-46EF-9D66-ED249DE8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A59-0602-436C-AE30-A955B7C2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281-5410-4F9B-8B92-BA0D2127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734-E333-4B91-8160-917D4D9A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862-7762-4BA8-9D0D-4A7476C6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F88-891B-432E-9D8A-74978E70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DDA-DF14-4F2E-916F-8B77D501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271-54CC-4BC9-83D5-4FC96C7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459-29A6-487C-BAFC-371AA4A1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C55-D2D9-4D89-9C6A-A2CCD1D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7232-767C-4784-A1EF-5D2FFEB5B47F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066680"/>
            <a:ext cx="91440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rends in International Migration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George Groenewold, NiDi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. Concepts and Defini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. Data sources and their shortcoming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3. Measurement of migration: Stocks and Flow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4. Trends in International Migration in the World and Europ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523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2.  Distribution of countries and areas according to the type of data used to identify stocks of international migran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721480"/>
            <a:ext cx="861048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   Asia    Europe  L.Am.   N.Am   Oceani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igure 1. Type of data used to estimate migration by reg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3124080"/>
            <a:ext cx="14479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uted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tizensh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rthpl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5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Flows (cross-tabulations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POR by PO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life time migration moves onl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underestimation of total migration moves (intermediat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stinations not recorded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not time-specifi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POR by POB by Duration of Residenc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migration cohorts: life time in-migrants by time of last arriva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migration and development analysi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POR by POR 1 or 5 years ag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focus on recent arrival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UN recommends 5 years ago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recall problem with fixed reference dat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6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8280" y="380880"/>
            <a:ext cx="88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4. Trends in International Migration in the World and Europ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624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95280"/>
            <a:ext cx="8839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uggested reference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national Organization for Migration (IOM) and UN. 2003.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orld Migration Report 2003. Geneva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Figure 2.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Growth of  migrant stocks in less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developed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and more developed countri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3.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stimates of (A) numbers of migrants (B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portional distribution (C) proportion of female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grants in 1960, 1970, 1980, 1990 and 200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3.  (continued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3.  (continued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eminisation of migr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creasing share of women in migration (46%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creasingly as wage earner’s instead of accompanying migrants (or for reason of family reunification/marriage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Vulnerabilit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ouble vulnerability: (1) as migrant, (2) as a woma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sidence dependent on ‘primary migrant’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raffick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8915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4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orld Population, International Migrants (stocks)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d Refugees, Worker Remittances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Source: UN Population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ivision, 2002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7467480" cy="361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99072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mographic Balance Equ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Births-Deaths+(Immigrants-Emigrants), or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Natural Increase+Net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1. Concepts and Defini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815328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1532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5.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oreign citizens, workers, and foreign born in OECD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ries in 1990 and 200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5400" indent="0">
              <a:buNone/>
              <a:tabLst>
                <a:tab algn="l" pos="0"/>
                <a:tab algn="l" pos="14209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ble  6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rigin: countries with largest number of refugees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thousands, year 2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24680" cy="5332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6095880"/>
            <a:ext cx="7620120" cy="50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20" indent="0">
              <a:buNone/>
              <a:tabLst>
                <a:tab algn="l" pos="0"/>
                <a:tab algn="l" pos="13381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ble 7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stination: asylum countries with largest number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refugees (thousands, year 2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gure  3. Refugee populations in region of asylum, 1992-200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lobal_paths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44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igure 4. A brief history of international migration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lows</a:t>
            </a:r>
            <a:r>
              <a:rPr b="1" lang="en-GB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9116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ource:http://pstalker.com/migration/mg_map.htm#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12960" y="468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8. Net migration flows to European Union in 200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280" y="228600"/>
            <a:ext cx="876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ral and Eastern Europe (CEE) and Common Wealth of Independent States (CI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89,  9 independent countr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7, 27 independent countries (over 550 million people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tween 1989-1997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wer than expected moved out of region (2.5 million)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9 million moved within or between new Stat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luntary (repatriants) and forced movements (refugee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 internally displaced persons (ID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y 1997, 4.7 million repatriants in CI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EE/CIS increasingly transit-zones of international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grants and refugees from Asia and Afric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lem: collection, compilation and dissemination of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od quality migration data and statistic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990720"/>
            <a:ext cx="883908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Total world population: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 billion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International migrants</a:t>
            </a:r>
            <a:r>
              <a:rPr b="0" lang="en-US" sz="27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175 million  (2.9% of world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population)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Refugees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12 million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IDPs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.4 million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Living outside country of birt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urce: UN Statistics Divis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0492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To conclude, some key figures for year 2000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living in a country other than where he/she was bor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leaving his/her country of birth to go and live in another countr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191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-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meone living in another place than where he/she was born (but within the same country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ut-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omeone leaving his/her place of birth to go and live in another place (but within the same country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429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ational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0"/>
            <a:ext cx="8763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 mi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fference between the number of immigrants (or in-migrants) and the number of emigrants (or out-migrant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f net migration is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there are more immigrants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an emigran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net migration implies that more people are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eaving than arriv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gration rates and rat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ut-migration (emigration)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rat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ercentage of population from place x that now lives elsewher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-migration (immigration)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rati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opulation living in place x, but born elsewhere, as a percentage of the total population living in place x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pending on research question, denominator may differ so that indicator may be either a rate or rati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ent migrant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someone whose place of residence at the time of the census differs from that 1, 5 years  ag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fetime 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who at the time of the census lives away from his/her place of birth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91120"/>
            <a:ext cx="8763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ultiple migrant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someone whose place of residence is different at all three times: at birth, X-years ago, and at the censu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7432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turn migrant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meone who, at the time of the census, was living in the same place as at birth, but who was living in another place X-years ag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304920"/>
            <a:ext cx="8915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ugee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fugee is a person who ‘owing to a well-founded fear of being persecuted for reasons of race, religion, nationality, membership of a particular social group, or political opinion, is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outside the country of his nationality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and is unable to or, owing to such fear, is unwilling to avail himself of the protection of that country…’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The 1951 Convention relating to the Status of Refugee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….also persons granted refugee status by UNHCR, UN Relief and Welfare Agency (UNRWA), 1969 OAU Convention on African Refuge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952880"/>
            <a:ext cx="8381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11480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nally displaced person (IDP)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rnally displaced persons are persons or groups of persons who have been forced or obliged to flee or to leave their homes or places of habitual residence, in particular as a result of or in order to avoid the effects of armed conflict, situations of generalized violence, violations of human rights or natural or human-inflicted disasters, 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who have not crossed an internationally recognized state bord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2. Data sources and their shortcoming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otential data sources for migration statistics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Population censuse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and population register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order statistic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ssion and stay registers for foreigners, including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fugees and asylum-seek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Work permit statistic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eneral purpose surveys (GPS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Specialised migration survey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ypical shortcomings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mpleteness, definitions (comparability), quality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imited depth and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readth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of data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ta on situation of migrants prior to migration lacking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ta of relevant comparison groups lacking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1: Number and distribution over time of using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the censu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to determine the international migrant stoc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3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3. Measurement of Migraton: Stocks, Flows, Trend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Stocks: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who is a migrant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According to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lace of Birt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(POB)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fe time migrants (legal+illegal residence statu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 time reference, no policy hand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ording to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itizenshi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riterion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gal residence statu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dicator with policy handl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ltiple citizenship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umber of migrants according to citizenship usually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ers considerably from migrants according to PO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ze and composition characteristics for monitoring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and economic integ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George Groenewold</cp:lastModifiedBy>
  <cp:lastPrinted>2005-01-20T17:24:03Z</cp:lastPrinted>
  <dcterms:modified xsi:type="dcterms:W3CDTF">2005-02-02T13:39:34Z</dcterms:modified>
  <cp:revision>264</cp:revision>
  <dc:subject/>
  <dc:title>No Slide Title</dc:title>
</cp:coreProperties>
</file>