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77964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1024-5909-4D2E-BB6B-18C6D47AF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28600" y="4615920"/>
            <a:ext cx="611352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s year’s World Drug Report results from a merger of UNODC’s annual Global Illicit Drug Trends publication and the World Drug Reports.  It consists of 2 volumes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Volume 1: 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world drug problem: A status re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verview of major developments in the drug area (long-term, medium term, short-term, outlook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cussion of conceptual advances in drug control policy (holistic, synergetic, and dynamic approa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ends: in production, trafficking and consump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i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c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nna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phetamine-type Stimulants (AT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Volume 2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t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mmaries of survey results of main producer countries (Afghanistan, Myanmar, Lao PDR, Colombia, Peru, Bolivia and Morocco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on cultivation, production, laboratories detection, seizures, prices, drug consumption estimates, breakdown of treatment demand by substance of ab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information presented is primarily based on the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Annual Reports Questionnaires (ARQ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) sent by Governments to UNODC in 2003, supplemented by other sources, notably information obtained through the national illicit opium and coca monitoring systems, supported and coordinated by UNODC’s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nternational Illicit Crop Monitoring Programme (ICMP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which – based on ground surveys and satellite images - provide annual cultivation and production estimates for the main producer countries. On the demand side, UNODC assists member states with th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lobal Assessment Programme on Drug Abuse (GAP)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assess the magnitudes and the patterns of drug abus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801280" y="66135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8ED3-61EA-4605-8A8A-D26CA3DDEFED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nodc.org/unodc/crime_cicp_surveys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2909880" cy="635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0" y="3123720"/>
            <a:ext cx="9144000" cy="1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18400" y="914400"/>
            <a:ext cx="0" cy="59436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1916280"/>
            <a:ext cx="663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Black"/>
              </a:rPr>
              <a:t>International Demands on Crime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342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Geneva, November 3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5229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lfgang Rhomber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ODC, Research and Analysis Se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o repor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deral –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erent Police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orting chains, conso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 institutes - Mini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76464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04960"/>
                <a:tab algn="l" pos="1106640"/>
                <a:tab algn="l" pos="1407960"/>
                <a:tab algn="l" pos="1709640"/>
                <a:tab algn="l" pos="2021040"/>
                <a:tab algn="l" pos="2322360"/>
                <a:tab algn="l" pos="2624040"/>
                <a:tab algn="l" pos="2935440"/>
                <a:tab algn="l" pos="3236760"/>
                <a:tab algn="l" pos="3538440"/>
                <a:tab algn="l" pos="384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age of homicides reported by the World Health Organization as compared to those reported by the United Nations surveys of crim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nds and operations of criminal justice systems, 1986-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28840" y="2189160"/>
            <a:ext cx="5879880" cy="4048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68440" y="1698840"/>
            <a:ext cx="39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4960"/>
                <a:tab algn="l" pos="1106640"/>
                <a:tab algn="l" pos="1407960"/>
                <a:tab algn="l" pos="1709640"/>
                <a:tab algn="l" pos="2021040"/>
                <a:tab algn="l" pos="2322360"/>
                <a:tab algn="l" pos="2624040"/>
                <a:tab algn="l" pos="2935440"/>
                <a:tab algn="l" pos="3236760"/>
                <a:tab algn="l" pos="3538440"/>
                <a:tab algn="l" pos="384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nited Nations surveys = 100 per c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106640"/>
                <a:tab algn="l" pos="1407960"/>
                <a:tab algn="l" pos="1709640"/>
                <a:tab algn="l" pos="2021040"/>
                <a:tab algn="l" pos="2322360"/>
                <a:tab algn="l" pos="2624040"/>
                <a:tab algn="l" pos="2935440"/>
                <a:tab algn="l" pos="3236760"/>
                <a:tab algn="l" pos="3538440"/>
                <a:tab algn="l" pos="384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ited Nations Office on Drugs and Cr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92360" y="6093000"/>
            <a:ext cx="57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ublished in  “Forum on Crime and Society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being repor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 given: “significant drug seiz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signific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ich dru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r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stic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it relev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 answer avail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re a clear unit of measur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mantics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ss is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mall is 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uctio ad absurd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en and H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put statistics vs output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years convictions vs last years ar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a of reporting (double c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ynamic crim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43040" y="2798640"/>
            <a:ext cx="7562880" cy="2230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8873" t="11773" r="8006" b="16713"/>
          <a:stretch/>
        </p:blipFill>
        <p:spPr>
          <a:xfrm>
            <a:off x="2103480" y="5334120"/>
            <a:ext cx="2468520" cy="1168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048760" y="5029200"/>
            <a:ext cx="30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greement escalates to Vio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HS5ClipImage_417cb15c" descr=""/>
          <p:cNvPicPr/>
          <p:nvPr/>
        </p:nvPicPr>
        <p:blipFill>
          <a:blip r:embed="rId3"/>
          <a:stretch/>
        </p:blipFill>
        <p:spPr>
          <a:xfrm>
            <a:off x="5562720" y="5334120"/>
            <a:ext cx="1295280" cy="1171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56960" y="5029200"/>
            <a:ext cx="20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ti Corruption Initi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5120" y="1720800"/>
            <a:ext cx="373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inimize Likelihood of Significant Impa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92160" y="1676520"/>
            <a:ext cx="1893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liminate the Ca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438280"/>
            <a:ext cx="3049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171840" y="2438280"/>
            <a:ext cx="152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800" y="28954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cr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840" y="289548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 Crime Trends Surve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666880"/>
            <a:ext cx="121932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2666880"/>
            <a:ext cx="1981080" cy="106704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sp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2666880"/>
            <a:ext cx="1981080" cy="106704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so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809880"/>
            <a:ext cx="1828800" cy="762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Counts/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809880"/>
            <a:ext cx="1828800" cy="762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Counts/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3809880"/>
            <a:ext cx="1828800" cy="762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Counts/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3809880"/>
            <a:ext cx="1828800" cy="762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Counts on given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666880"/>
            <a:ext cx="1981080" cy="106704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s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vi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l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181840" cy="4265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89280" y="5943600"/>
            <a:ext cx="53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emingly stabilized system becomes unstable after a lo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ime Con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ted Nations Convention against Cor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ted Nations Convention against Transnational Organized C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to Prevent, Suppress and Punish Trafficking in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against the Smuggling of Migrants by Land, Air and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against the Illicit Manufacturing of and Trafficking in Firearms, Their Parts and Components and Ammu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ish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ease consi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ives, conceptual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ep to essent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orting ch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ternativ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ividual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pretation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ime conven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Not everything that can be counted, counts. And not everything that counts can be counte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lbert Einste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rime_cicp_statistics_3" descr=""/>
          <p:cNvPicPr/>
          <p:nvPr/>
        </p:nvPicPr>
        <p:blipFill>
          <a:blip r:embed="rId1"/>
          <a:stretch/>
        </p:blipFill>
        <p:spPr>
          <a:xfrm>
            <a:off x="576360" y="1131840"/>
            <a:ext cx="7956360" cy="496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0" y="1843200"/>
          <a:ext cx="9144000" cy="517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709640"/>
            <a:ext cx="6400800" cy="36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28640" y="765000"/>
          <a:ext cx="7686720" cy="5765760"/>
        </p:xfrm>
        <a:graphic>
          <a:graphicData uri="http://schemas.openxmlformats.org/drawingml/2006/table">
            <a:tbl>
              <a:tblPr/>
              <a:tblGrid>
                <a:gridCol w="525600"/>
                <a:gridCol w="7161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ual ev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viations in whether an event is considered a crime or not, e.g.: different definitions used in different jurisdic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ice recorded cri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rrors that accumulate along the police recording process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.g.: data entry errors at the source and at intermediate stages of the recording process, aggregation errors, interpretation errors, missing regions or double count, transmission errors (e.g. lost mail), et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ctim reported cr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rrors that accumulate along the victim reporting process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.g.: victimless crimes, data entry at the source and at intermediate stages of the reporting process, interpretation errors, sampling errors, statistical errors, transmission errors, et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me is recorded by the police and reported by victi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me is recorded by the police but not reported by vict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me is reported by victim but not recorded by the poli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crime happens but is neither recorded by the police nor reported by the victi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ctim reports a crime that never happened (e.g for purposes of insurance fraud) --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reality this area is much smaller than depicted in the schemati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ice records a crime that never happened (e.g. to attract a higher budget) --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 reality this area is much smaller than depicted in the schemati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COSOC res. 1984/48 25 May 19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ime related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rveys on Crime Trends and Operations of Criminal Justic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lect data on the incidence of reported c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lect data on the operations of criminal justic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rove analysis and dissemination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formed decision making in administration, nationally and intern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ystems thinking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ceptu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 model needs a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lling imp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t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o are we doing it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t conceptual models lead to differen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14600" y="2666520"/>
            <a:ext cx="5943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CVS (victi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CTS (pol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Times New Roman"/>
              </a:rPr>
              <a:t>- (m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Times New Roman"/>
              </a:rPr>
              <a:t>- (insurance compan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2560" y="1484280"/>
            <a:ext cx="81374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UNW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Par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olice, Prosecution, Courts, Pri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 T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4 + 3 + 4 +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4 Variables/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48 + 30 + 36 + 5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nodc.org/unodc/crime_cicp_surveys.htm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download in 6 UN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2560" y="776160"/>
            <a:ext cx="777708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UNW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2 of the questionnai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rimes recorded in criminal (police) statistics, by type of crime including attempts to commit crimes, 2001 – 200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sts the following 18 types of offences: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1 Total recorded crimes, regardless of type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ntional homicide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2 Committed; 2.3 Attempted; and 2.4 Committed with a firearm;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5 Non-intentional homicide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sault: 2.6 Major assault; 2.7 Total assault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8 Rape; 2.9 Robbery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ft: 2.10 Major theft; 2.11 Total theft; 2.12 Automobile theft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13 Burglary; 2.14 Fraud; 2.15 Embezzlement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16 Drug-related crime; 2.17 Bribery and/or corruption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18 Kidnap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icy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minals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st of crime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eeds of crime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rition rates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JS efficiency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me infection rates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curity and quality of life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ta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port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o?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nd who n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?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nput vs. 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wh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what purpo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eedba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52388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h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ur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imel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i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st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07:56:54Z</dcterms:created>
  <dc:creator>VIC</dc:creator>
  <dc:description/>
  <dc:language>en-US</dc:language>
  <cp:lastModifiedBy>Rhomberg</cp:lastModifiedBy>
  <cp:lastPrinted>2003-04-11T10:56:08Z</cp:lastPrinted>
  <dcterms:modified xsi:type="dcterms:W3CDTF">2004-10-25T11:25:37Z</dcterms:modified>
  <cp:revision>1362</cp:revision>
  <dc:subject/>
  <dc:title>No Slide Title</dc:title>
</cp:coreProperties>
</file>