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71F2-31D5-437C-A223-64D0217C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28600" y="4615920"/>
            <a:ext cx="61135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year’s World Drug Report results from a merger of UNODC’s annual Global Illicit Drug Trends publication and the World Drug Reports.  It consists of 2 volume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Volume 1: 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world drug problem: A status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verview of major developments in the drug area (long-term, medium term, short-term, outlook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cussion of conceptual advances in drug control policy (holistic, synergetic, and dynamic approa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ends: in production, trafficking and consump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c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phetamine-type Stimulants (AT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Volume 2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ies of survey results of main producer countries (Afghanistan, Myanmar, Lao PDR, Colombia, Peru, Bolivia and Morocco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on cultivation, production, laboratories detection, seizures, prices, drug consumption estimates, breakdown of treatment demand by substance of ab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information presented is primarily based on the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nnual Reports Questionnaires (ARQ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 sent by Governments to UNODC in 2003, supplemented by other sources, notably information obtained through the national illicit opium and coca monitoring systems, supported and coordinated by UNODC’s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nternational Illicit Crop Monitoring Programme (ICMP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which – based on ground surveys and satellite images - provide annual cultivation and production estimates for the main producer countries. On the demand side, UNODC assists member states with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Assessment Programme on Drug Abuse (GAP)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ssess the magnitudes and the patterns of drug abu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801280" y="661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E030-FF87-4C81-A1B9-AE855DD9899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odc.org/unodc/crime_cicp_survey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90988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0" y="3123720"/>
            <a:ext cx="914400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18400" y="914400"/>
            <a:ext cx="0" cy="5943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916280"/>
            <a:ext cx="66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International Demands on Crime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Geneva, November 3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522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lfgang Rhomber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DC, Research and Analysis Se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o re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deral –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Police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orting chains,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institutes - Mini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7646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of homicides reported by the World Health Organization as compared to those reported by the United Nations surveys of crim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ds and operations of criminal justice systems, 1986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28840" y="2189160"/>
            <a:ext cx="5879880" cy="4048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68440" y="1698840"/>
            <a:ext cx="39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ted Nations surveys = 100 per c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ited Nations Office on Drugs and Cr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6093000"/>
            <a:ext cx="57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ublished in  “Forum on Crime and Societ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being repor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given: “significant drug seiz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ich dru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sti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answer avail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clear unit of measur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mantics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mall is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 ad absur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en and 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put statistics vs output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years convictions vs last years ar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 of reporting (double c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ynamic crim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3040" y="2798640"/>
            <a:ext cx="7562880" cy="2230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8873" t="11773" r="8006" b="16713"/>
          <a:stretch/>
        </p:blipFill>
        <p:spPr>
          <a:xfrm>
            <a:off x="2103480" y="5334120"/>
            <a:ext cx="24685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48760" y="5029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greement escalates to Vio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S5ClipImage_417cb15c" descr=""/>
          <p:cNvPicPr/>
          <p:nvPr/>
        </p:nvPicPr>
        <p:blipFill>
          <a:blip r:embed="rId3"/>
          <a:stretch/>
        </p:blipFill>
        <p:spPr>
          <a:xfrm>
            <a:off x="5562720" y="533412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56960" y="5029200"/>
            <a:ext cx="20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Corruption Initi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5120" y="1720800"/>
            <a:ext cx="373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nimize Likelihood of Significant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2160" y="1676520"/>
            <a:ext cx="1893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iminate the C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4382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71840" y="24382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800" y="28954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840" y="28954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 Crime Trends Surve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66880"/>
            <a:ext cx="12193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so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 on given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i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426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89280" y="5943600"/>
            <a:ext cx="53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mingly stabilized system becomes unstable after a lo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ime 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 Convention against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 Convention against Transnational Organiz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to Prevent, Suppress and Punish Trafficking in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against the Smuggling of Migrants by Land, Air and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against the Illicit Manufacturing of and Trafficking in Firearms, Their Parts and Components and Ammu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ish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ease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ives, conceptu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ep to ess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orting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ernativ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ividu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pret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me conven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ot everything that can be counted, counts. And not everything that counts can be counte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lbert Einste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rime_cicp_statistics_3" descr=""/>
          <p:cNvPicPr/>
          <p:nvPr/>
        </p:nvPicPr>
        <p:blipFill>
          <a:blip r:embed="rId1"/>
          <a:stretch/>
        </p:blipFill>
        <p:spPr>
          <a:xfrm>
            <a:off x="576360" y="1131840"/>
            <a:ext cx="7956360" cy="496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0" y="1843200"/>
          <a:ext cx="9144000" cy="517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709640"/>
            <a:ext cx="6400800" cy="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8640" y="765000"/>
          <a:ext cx="7686720" cy="5765760"/>
        </p:xfrm>
        <a:graphic>
          <a:graphicData uri="http://schemas.openxmlformats.org/drawingml/2006/table">
            <a:tbl>
              <a:tblPr/>
              <a:tblGrid>
                <a:gridCol w="525600"/>
                <a:gridCol w="7161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ev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iations in whether an event is considered a crime or not, e.g.: different definitions used in different jurisdic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ice recorded cr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rrors that accumulate along the police recording process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.g.: data entry errors at the source and at intermediate stages of the recording process, aggregation errors, interpretation errors, missing regions or double count, transmission errors (e.g. lost mail), 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tim reported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rrors that accumulate along the victim reporting process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.g.: victimless crimes, data entry at the source and at intermediate stages of the reporting process, interpretation errors, sampling errors, statistical errors, transmission errors, 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corded by the police and reported by vict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corded by the police but not reported by vict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ported by victim but not recorded by the pol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crime happens but is neither recorded by the police nor reported by the vict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tim reports a crime that never happened (e.g for purposes of insurance fraud) --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reality this area is much smaller than depicted in the schemat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ice records a crime that never happened (e.g. to attract a higher budget) --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reality this area is much smaller than depicted in the schemat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OSOC res. 1984/48 25 May 19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me relat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veys on Crime Trends and Operations of Criminal Justi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 data on the incidence of report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 data on the operations of criminal justi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 analysis and dissemina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ed decision making in administration, nationally and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stems thinking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ptu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model needs a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ling 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 are we doing it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conceptual models lead to differen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600" y="26665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VS (victi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CTS (pol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- (m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- (insurance compan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484280"/>
            <a:ext cx="8137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NW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P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olice, Prosecution, Courts, P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4 + 3 + 4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4 Variables/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48 + 30 + 36 + 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nodc.org/unodc/crime_cicp_surveys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download in 6 U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2560" y="776160"/>
            <a:ext cx="777708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NW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2 of the questionnai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rimes recorded in criminal (police) statistics, by type of crime including attempts to commit crimes, 2001 – 200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s the following 18 types of offences: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 Total recorded crimes, regardless of typ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ntional homicide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2 Committed; 2.3 Attempted; and 2.4 Committed with a firearm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5 Non-intentional homicid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ault: 2.6 Major assault; 2.7 Total assaul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8 Rape; 2.9 Robbery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ft: 2.10 Major theft; 2.11 Total theft; 2.12 Automobile thef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3 Burglary; 2.14 Fraud; 2.15 Embezzlemen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6 Drug-related crime; 2.17 Bribery and/or corruption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8 Kidna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cy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minal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t of crim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eds of crim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tion rat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JS efficiency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me infection rat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urity and quality of lif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a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nd who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put vs.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what purpo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52388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ime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st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7:56:54Z</dcterms:created>
  <dc:creator>VIC</dc:creator>
  <dc:description/>
  <dc:language>en-US</dc:language>
  <cp:lastModifiedBy>Rhomberg</cp:lastModifiedBy>
  <cp:lastPrinted>2003-04-11T10:56:08Z</cp:lastPrinted>
  <dcterms:modified xsi:type="dcterms:W3CDTF">2004-10-25T11:25:37Z</dcterms:modified>
  <cp:revision>1362</cp:revision>
  <dc:subject/>
  <dc:title>No Slide Title</dc:title>
</cp:coreProperties>
</file>