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39800" y="3630600"/>
            <a:ext cx="544032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6520" y="16344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7FB7-D150-4DD2-A6B9-B5782CE3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960" y="324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47960" y="9339120"/>
            <a:ext cx="2874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339120"/>
            <a:ext cx="2870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40"/>
            <a:ext cx="2870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39800" y="4311720"/>
            <a:ext cx="54403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868320" y="743040"/>
            <a:ext cx="488808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9560" cy="6556320"/>
          </a:xfrm>
          <a:custGeom>
            <a:avLst/>
            <a:gdLst/>
            <a:ahLst/>
            <a:rect l="l" t="t" r="r" b="b"/>
            <a:pathLst>
              <a:path w="5606" h="4130">
                <a:moveTo>
                  <a:pt x="5605" y="2137"/>
                </a:moveTo>
                <a:lnTo>
                  <a:pt x="3468" y="0"/>
                </a:lnTo>
                <a:lnTo>
                  <a:pt x="3082" y="0"/>
                </a:lnTo>
                <a:lnTo>
                  <a:pt x="5413" y="2329"/>
                </a:lnTo>
                <a:lnTo>
                  <a:pt x="5341" y="2402"/>
                </a:lnTo>
                <a:lnTo>
                  <a:pt x="2939" y="0"/>
                </a:lnTo>
                <a:lnTo>
                  <a:pt x="2170" y="0"/>
                </a:lnTo>
                <a:lnTo>
                  <a:pt x="4957" y="2786"/>
                </a:lnTo>
                <a:lnTo>
                  <a:pt x="4512" y="3230"/>
                </a:lnTo>
                <a:lnTo>
                  <a:pt x="1284" y="0"/>
                </a:lnTo>
                <a:lnTo>
                  <a:pt x="851" y="0"/>
                </a:lnTo>
                <a:lnTo>
                  <a:pt x="4296" y="3445"/>
                </a:lnTo>
                <a:lnTo>
                  <a:pt x="4116" y="3626"/>
                </a:lnTo>
                <a:lnTo>
                  <a:pt x="491" y="0"/>
                </a:lnTo>
                <a:lnTo>
                  <a:pt x="0" y="0"/>
                </a:lnTo>
                <a:lnTo>
                  <a:pt x="0" y="516"/>
                </a:lnTo>
                <a:lnTo>
                  <a:pt x="3612" y="4129"/>
                </a:lnTo>
                <a:lnTo>
                  <a:pt x="5605" y="2137"/>
                </a:lnTo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7691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2080" y="1628640"/>
            <a:ext cx="689616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GOING WORK ON DEVELOPING EU-WIDE COMPARABLE STATISTICS ON CRIME, CRIMINAL JUSTICE AND VICTIM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 Marleen De Sme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R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8100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85760"/>
            <a:ext cx="799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07920"/>
            <a:ext cx="8534520" cy="56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the major steps to be ta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-ordination at E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-ordination with non-EU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nsulting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rt committee, task for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taking : establish basis for developing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ventory of definitions of crime typ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nforcement meas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indicators (use of existing data, develo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 for new indic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ata from research bodies and studies (EUSTO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steps towards establishment of legal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197000"/>
            <a:ext cx="853452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 to European Commission Action Plan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of DG JAI and Eurost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(as defined by DG JAI) cover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licy-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 public interest and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 of all significant acto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llaboration between Commission and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y international and research organisations represen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97000"/>
            <a:ext cx="853452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ropean Statistical System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collaboration of national statistical authorities and 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Programme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rises DGs of national statistical offices and 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strategic development of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amines proposals for EU legislation (later submitted to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, Council, Parlia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of Social Statistic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social domains including crimin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r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itten consultations etc. through email and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197000"/>
            <a:ext cx="8534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s and task force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groups include representatives of all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specific domain of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in decisions on methodology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s consist of a sub-group of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ibility for developing specific technical proposa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r establishment of the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port to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197000"/>
            <a:ext cx="85345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Statistic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ions, Directives,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ypically, framework Regulations of Council 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mission regulations fix exact methods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under “gentlemen’s agreements” if no legal base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mitment to legal bases improves clarity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197000"/>
            <a:ext cx="853452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of crime statistics in the statistical system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in 2004 Statistical Work Program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Directors of Social Statistics, Sept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statistics often fall under the responsibility of min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offices sometimes experienced in victimisation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these are often also done by private organis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xamine organisation of crime statistics in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907920"/>
            <a:ext cx="85345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ssues for development of EU crime statistics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ype and occurrence of crime, and structu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onse of criminal justic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and co-operate with data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isting channels and maybe new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cedures exist for secure transmission of confident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ources avail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lice records; need for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ictimisation surveys (ICV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mbed crime statistics into larger statist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907920"/>
            <a:ext cx="85345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Plan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um of national experts, Brussels, 9 July 200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rectors of Social Statistics, Luxembourg, 30 Sept.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going development with other significant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n existing wor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uropean Sourcebook on Crime and Criminal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ODC Survey on Crim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K Home Office Statistical Bull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EUNI (affiliated to 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uropean Crime Prevention Network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907920"/>
            <a:ext cx="853452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Plan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bility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ternational comparability difficult because systems diff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arability of trends is a slightly less ambitious 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re set of definitions of c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finition of statistics to b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5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coherent and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cover both volume crime and organise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clude reported crimes, criminal justice and victim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762120"/>
            <a:ext cx="861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84320"/>
            <a:ext cx="8534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CE-UNODC Conference, Geneva, 3-5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07:47:00Z</dcterms:created>
  <dc:creator>cathie</dc:creator>
  <dc:description/>
  <dc:language>en-US</dc:language>
  <cp:lastModifiedBy>smedtmn</cp:lastModifiedBy>
  <cp:lastPrinted>2002-04-19T12:55:49Z</cp:lastPrinted>
  <dcterms:modified xsi:type="dcterms:W3CDTF">2004-10-29T10:06:09Z</dcterms:modified>
  <cp:revision>55</cp:revision>
  <dc:subject/>
  <dc:title>SIS</dc:title>
</cp:coreProperties>
</file>