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ED1A-D5AF-4D0B-8451-4B066E493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mpere assessment (May 2004) marks the end of this five-year period and the Commission presented its assessment while also outlining the future priorities. The Tampere Assessment was welcomed by the European Council in Jun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gue-programme, a multi-annual programme for th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lanned to be decided by the European Council on this Friday, 5 November. The Commission will then be invited to develop an action plan in 2005 in which the aims and priorities of the Hague Programme will be translated into concrete action. The Commission is also invited to present to the Council a yearly report on the implementation of the Hague programme – a scor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eam to have statistics that could give the required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ontinued by Marlene De Smedt, Eurost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specific examples that DG Justice and Home Affairs is working with right no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but apart from t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ok at citizen perceptions of the need to tackle crime at national level and at EU level, and the perception of the added value of EU level actions, as a necessary background to the need for crime statis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commitments at EU leve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EU measures / statistics is a necessary component in a knowledge-based policy to prevent and fight crim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work on developing statistics on crime etc, that are comparable at EU level, but my colleague from Eurostat will develop this as an intervention in its own right after lun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surv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1% of EU citizens believe that policy-making on the prevention and fight against crime would be more effective if it were decided on jointly at the European Union level rather than at the level of individual Member States. Of those, 40% are certain of thi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 Freedom, security and justice for all – Justice and home affairs in the European Union » , Europe on the move, December 2003, pgs. 18-19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ults clearly show that there is a mandate from EU citizens for action to be taken at the European level in the fight against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verage, 40 percent are 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 and Denmark, less than half believe that preventing and fighting crime is more effective at EU level than at nation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tal 7 500 respondents, 500 for each country. Fieldwork dec 2003, publication march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5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sterdam Treaty that entered into force on 1 May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mpere European Council October 1999 placed the objective of establishing an area of freedom, security and justice in the European Union at the head of the Union’s political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mpere programme set out policy guidelines and practical objectives, with a timetable for their attai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lenium Strategy – an action plan to combat organised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t>
            </a:r>
            <a:r>
              <a:rPr b="0" lang="sv-SE" sz="1200" spc="-1" strike="noStrike">
                <a:solidFill>
                  <a:srgbClr val="000000"/>
                </a:solidFill>
                <a:latin typeface="Arial"/>
              </a:rPr>
              <a:t>A European Union Strategy for the beginning of the New Millenium on the prevention and control of organised crime”, approved by the European Council in 1997. It was evaluated summ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blin declaration, endorsed by the European Council 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E5E55-EC42-4F52-B0A7-200797662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74D3-FDE8-4404-BE46-8183C415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41269-8EC1-4AD6-99B0-880787A7B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21A30-477D-4B53-B6CC-E2815F459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F0E70-D561-40DE-91D5-0D96F293E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A2FD6-41D0-4111-B869-D977C544E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65445-09EB-4E99-B19F-D6D8E3383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D3EF1-F886-43E9-A249-7608A384E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36120-75E3-4E51-B4CC-AF156D44B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AE3E0-5167-4872-A21A-89E7FA403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DEFC8-2C49-41DC-9399-9BF028385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857A-7819-41E0-B909-14E34D043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C7E7D-BAED-43C6-A34C-BC37D790F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BE8CA-5907-4B4B-BE3D-6DEA29BC1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BB0A7-C85B-4AA8-A72F-D1F23E2D4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A7CCE-79B5-463E-AE23-342295D88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68CCD-138E-4774-AB70-062AB27B1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AB73A-CFAC-436B-83DC-585DE1DC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E9315-50AD-4293-969B-02B21778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5AE5-86B8-4D32-A995-4D1EAA0C1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A6216-20C8-482F-A268-FB4EF20A6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3EA7-AEC4-4915-A7C1-6D7EEB11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2B79-200C-4B82-8829-7004126E3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1E05-12BE-4141-9827-0D31657F7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3162-447C-4DE1-A97C-3C43F7A4E81A}"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2733-F788-4805-8860-BAC0730F393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60280"/>
            <a:ext cx="6192720" cy="39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RIME STATISTICS AT EU LEVEL</a:t>
            </a:r>
            <a:endParaRPr b="0" lang="en-US" sz="3000" spc="-1" strike="noStrike">
              <a:solidFill>
                <a:srgbClr val="000000"/>
              </a:solidFill>
              <a:latin typeface="Arial"/>
            </a:endParaRPr>
          </a:p>
        </p:txBody>
      </p:sp>
      <p:sp>
        <p:nvSpPr>
          <p:cNvPr id="100" name="PlaceHolder 2"/>
          <p:cNvSpPr>
            <a:spLocks noGrp="1"/>
          </p:cNvSpPr>
          <p:nvPr>
            <p:ph type="subTitle"/>
          </p:nvPr>
        </p:nvSpPr>
        <p:spPr>
          <a:xfrm>
            <a:off x="2268360" y="4149720"/>
            <a:ext cx="5639040" cy="1905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uropean Commission</a:t>
            </a:r>
            <a:endParaRPr b="0" lang="en-US" sz="2800" spc="-1" strike="noStrike">
              <a:solidFill>
                <a:srgbClr val="29292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irectorate-General Justice and Home Affairs</a:t>
            </a:r>
            <a:endParaRPr b="0" lang="en-US" sz="2800" spc="-1" strike="noStrike">
              <a:solidFill>
                <a:srgbClr val="29292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onika Olsson</a:t>
            </a:r>
            <a:endParaRPr b="0" lang="en-US" sz="2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itments, continue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assessment of the Tampere programme requires the improvement of comparability of statistics on crime and safe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Hague Programme; strengthening freedom, security and justice in the EU, will most likely encourage the Commission initiative to develop comparable information on crime and victimis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560" y="96480"/>
            <a:ext cx="72630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isting sources</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7000"/>
          </a:bodyPr>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ational crime statistics and national victimisation studies – compilations – varying degrees of analysis</a:t>
            </a:r>
            <a:endParaRPr b="0" lang="en-US" sz="3200" spc="-1" strike="noStrike">
              <a:solidFill>
                <a:srgbClr val="292929"/>
              </a:solidFill>
              <a:latin typeface="Arial"/>
            </a:endParaRPr>
          </a:p>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uropean Sourcebook of Crime and Criminal Justice – info from national correspondents</a:t>
            </a:r>
            <a:endParaRPr b="0" lang="en-US" sz="3200" spc="-1" strike="noStrike">
              <a:solidFill>
                <a:srgbClr val="292929"/>
              </a:solidFill>
              <a:latin typeface="Arial"/>
            </a:endParaRPr>
          </a:p>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rnational Crime Victimisation Survey (ICVS) – standardised questions</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ernational compilations of national data not comparable, could even be mislead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w comparability of levels even with time-consuming analysis and quality-assessmen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Victim surveys lack information on organised crime, on serious offences and on all MS, very expensive and time consum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ack of quantitative data on organised crime</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measures</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ready now continuing harmonisation of crime definitions, minimum penalties and other criminal justice measures</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uture financial perspectives (2007-)</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rowing importance of the area of Justice, Freedom and Security – Commission has proposed to devote a major share of the funds to justice and home affairs</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majority of funds would be in shared management with Member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measures and the need for statistics </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 order to prioritise measures and areas for fund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to monitor their progr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evaluate the effectiven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formation on levels and trends in different regions is necessary</a:t>
            </a:r>
            <a:endParaRPr b="0" lang="en-US" sz="32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specifically, statistics are needed to:</a:t>
            </a:r>
            <a:endParaRPr b="0" lang="en-US" sz="36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 possible to prioritise measures </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form risk assessments, threat assessments and vulnerability studies</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form the benchmarking of performance</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valuate effectiveness of action</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nhance Europol Organised Crime Report with quantitative data</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nitor and evaluate Community funding programmes</a:t>
            </a:r>
            <a:endParaRPr b="0" lang="en-US" sz="3200" spc="-1" strike="noStrike">
              <a:solidFill>
                <a:srgbClr val="292929"/>
              </a:solidFill>
              <a:latin typeface="Arial"/>
            </a:endParaRPr>
          </a:p>
          <a:p>
            <a:pPr marL="402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iew: What will the EU do?</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objective is to develop Community statistics on crime, victimisation and criminal jus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long-term commitment that will be developed step by step, in close cooperation between Eurostat and DG Justice and Home Affairs within the Commission, and with Europol</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iew, continued</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sultation with Member States essential, as with experts in the field, time devoted to this during 2004</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establishment of an expert group by Directorate General Justice and Home Affairs, to advice the Commission when proposing next step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long-term action plan to be presented early 2005, based on consultations with MS in two settings, summer and autumn 2004</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y EU statistic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utline:</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itizen perceptions</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litical commitments</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isting statistics and future EU measures </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view: Current work at EU level on developing comparable statistics</a:t>
            </a:r>
            <a:endParaRPr b="0" lang="en-US" sz="3200" spc="-1" strike="noStrike">
              <a:solidFill>
                <a:srgbClr val="29292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ived importance at national level</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rime and safety are issues of major concern to EU citize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Eurobarometer spring 2004, a survey of public opinion in the European Union, show that a quarter of the interviewed persons place fighting crime as one of the two most important issues facing their country.</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546120"/>
            <a:ext cx="71182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 descr=""/>
          <p:cNvPicPr/>
          <p:nvPr/>
        </p:nvPicPr>
        <p:blipFill>
          <a:blip r:embed="rId1"/>
          <a:stretch/>
        </p:blipFill>
        <p:spPr>
          <a:xfrm>
            <a:off x="971640" y="189000"/>
            <a:ext cx="766116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ived importance at EU level</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Eurobarometer survey of autumn 2003 demonstrate that, according to almost nine out of ten citizens polled, fighting terrorism and fighting organised crime and drug trafficking, should be priorities for the European Un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642600"/>
            <a:ext cx="71578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0" name="" descr=""/>
          <p:cNvPicPr/>
          <p:nvPr/>
        </p:nvPicPr>
        <p:blipFill>
          <a:blip r:embed="rId1"/>
          <a:stretch/>
        </p:blipFill>
        <p:spPr>
          <a:xfrm>
            <a:off x="949320" y="476280"/>
            <a:ext cx="7661160" cy="56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ived added value of EU actions</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ecial Eurobarometer survey on Justice and Home Affairs from winter 2003:</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71 % of EU 15 respondents believe that prevention of and fight against crime would be more effective if it were decided jointly at EU leve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546120"/>
            <a:ext cx="71578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 descr=""/>
          <p:cNvPicPr/>
          <p:nvPr/>
        </p:nvPicPr>
        <p:blipFill>
          <a:blip r:embed="rId1"/>
          <a:stretch/>
        </p:blipFill>
        <p:spPr>
          <a:xfrm>
            <a:off x="468360" y="260280"/>
            <a:ext cx="814212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itments at EU level</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treaty on European Union Art 30 2 d requires a network on statistic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llennium Strategy recommends the elaboration of crime statistics as does the evaluation of that strategy</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Dublin Declaration recommends the development of a co-ordinated EU Crime Statistics Strategy</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1:21:06Z</dcterms:created>
  <dc:creator>Olsson Monika</dc:creator>
  <dc:description/>
  <dc:language>en-US</dc:language>
  <cp:lastModifiedBy>Olsson Monika</cp:lastModifiedBy>
  <dcterms:modified xsi:type="dcterms:W3CDTF">2004-11-01T17:55:45Z</dcterms:modified>
  <cp:revision>68</cp:revision>
  <dc:subject/>
  <dc:title>Draft elements of an action plan to develop comparable statistics on crime, victimisation and criminal justice</dc:title>
</cp:coreProperties>
</file>