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7A9-BB6C-4FE5-9D51-2E97E578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669-FD1B-4BB9-99A0-634C180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5FE-A0C7-4D4F-B985-40ECCFC7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120-A323-43BB-A7D2-084920B8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E94-9BAF-4036-A009-29E2954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138-76EE-48F7-8946-90C14F4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C2F-2851-45A4-880A-4BCDFE6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F4F-B2A3-4D4C-9B13-AEE78BBE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3F1-0F72-46E8-8932-E0585E8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363-FDB7-4656-8077-564FCB0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DD8-F326-4B5E-9FA2-47E9D9F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A17-6AC0-49AA-9CB1-20A6246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57B-83FA-454F-9265-AADB4360D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RIME VICTIM SURVEYS: Political relevance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methodological issue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nference on Crime Statistics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neva, November 4, 2004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mportance of sample siz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1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2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4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anish violence victim surve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26,193 respond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20 questions on violence and threats, time, place, reporting to the police (part of a general surve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ING PROCEDUR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umber of households with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listed telephone numbers: 20%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umber of households with mobile phones only: app. 25%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Political relevan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actual level of cr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which extent are crimes reported to the pol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y are crimes not reported to the pol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es in victimisation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the police deal satisfactorily with the ma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WHICH TYPES OF CRIMES SHOULD BE INCLUDED?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Victims of car theft, 1999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240" y="1351080"/>
          <a:ext cx="8680320" cy="513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" y="1351080"/>
                    <a:ext cx="86803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ISTINGUISHING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RIMINAL ACT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FROM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CRIMINAL ACT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Violence against women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ICVS versus IVAW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440" y="1628640"/>
          <a:ext cx="8745840" cy="574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1628640"/>
                    <a:ext cx="874584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LENGTH OF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VALENC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(or recall)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valence and ag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3029040"/>
          <a:ext cx="3809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29040"/>
                    <a:ext cx="3809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12840" y="1197000"/>
          <a:ext cx="8496360" cy="532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1197000"/>
                    <a:ext cx="849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3:46:57Z</dcterms:created>
  <dc:creator>bky</dc:creator>
  <dc:description/>
  <dc:language>en-US</dc:language>
  <cp:lastModifiedBy>Britta Kyvsgaard</cp:lastModifiedBy>
  <dcterms:modified xsi:type="dcterms:W3CDTF">2004-11-01T09:56:55Z</dcterms:modified>
  <cp:revision>88</cp:revision>
  <dc:subject/>
  <dc:title>REGISTERFORSKNING</dc:title>
</cp:coreProperties>
</file>