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53FB-ADC5-444D-B3EA-4F3A1AE4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9552-1F43-4270-9071-47CEA2AB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1704-A4C9-4EEF-B88A-B617698C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775-9316-49C6-9C41-7B1A8582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F25F-7EE5-489D-8285-685EE721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FAD-3286-4D17-91EA-FD53A69B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B8C-2438-445C-A986-B7FE8BA3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368-C0AE-4F2D-B358-A8890CAE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4A36-4C2F-4008-9C56-2C163986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A1D2-FBE3-4737-A047-0A293E97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0CD-90FF-42ED-8DA3-7C9AD615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3F0-EAB2-41A1-B49C-885F6D54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92E5-5AE2-43A2-ACB7-54E7E8C86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RIME VICTIM SURVEYS: Political relevance and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methodological issues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onference on Crime Statistics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Geneva, November 4, 2004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The importance of sample siz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2766960"/>
          <a:ext cx="380988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66960"/>
                    <a:ext cx="38098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067360" y="1981080"/>
          <a:ext cx="297000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1981080"/>
                    <a:ext cx="29700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08080" y="1268280"/>
          <a:ext cx="8540640" cy="531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8080" y="1268280"/>
                    <a:ext cx="854064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Sample size 1.000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2766960"/>
          <a:ext cx="380988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66960"/>
                    <a:ext cx="38098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67360" y="1981080"/>
          <a:ext cx="297000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1981080"/>
                    <a:ext cx="29700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08080" y="1268280"/>
          <a:ext cx="8540640" cy="531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8080" y="1268280"/>
                    <a:ext cx="854064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Sample size 2.000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2766960"/>
          <a:ext cx="380988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66960"/>
                    <a:ext cx="38098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067360" y="1981080"/>
          <a:ext cx="297000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1981080"/>
                    <a:ext cx="29700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08080" y="1268280"/>
          <a:ext cx="8540640" cy="531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8080" y="1268280"/>
                    <a:ext cx="854064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Sample size 4.000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85800" y="2766960"/>
          <a:ext cx="380988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66960"/>
                    <a:ext cx="38098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067360" y="1981080"/>
          <a:ext cx="297000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1981080"/>
                    <a:ext cx="29700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08080" y="1268280"/>
          <a:ext cx="8540640" cy="531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8080" y="1268280"/>
                    <a:ext cx="854064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Danish violence victim surve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772400" cy="26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26,193 respond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20 questions on violence and threats, time, place, reporting to the police (part of a general surve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SAMPLING PROCEDUR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Number of households with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non-listed telephone numbers: 20%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Number of households with mobile phones only: app. 25%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Political relevance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s the actual level of cr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which extent are crimes reported to the poli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y are crimes not reported to the poli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anges in victimisation 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d the police deal satisfactorily with the mat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WHICH TYPES OF CRIMES SHOULD BE INCLUDED?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Victims of car theft, 1999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5800" y="2766960"/>
          <a:ext cx="380988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66960"/>
                    <a:ext cx="38098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067360" y="1981080"/>
          <a:ext cx="297000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1981080"/>
                    <a:ext cx="29700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240" y="1351080"/>
          <a:ext cx="8680320" cy="513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" y="1351080"/>
                    <a:ext cx="8680320" cy="51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DISTINGUISHING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RIMINAL ACTS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FROM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NON-CRIMINAL ACTS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Violence against women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ICVS versus IVAW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2766960"/>
          <a:ext cx="380988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66960"/>
                    <a:ext cx="38098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067360" y="1981080"/>
          <a:ext cx="297000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1981080"/>
                    <a:ext cx="29700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440" y="1628640"/>
          <a:ext cx="8745840" cy="574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0" y="1628640"/>
                    <a:ext cx="8745840" cy="57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LENGTH OF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PREVALENCE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(or recall)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Prevalence and ag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3029040"/>
          <a:ext cx="380988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29040"/>
                    <a:ext cx="380988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12840" y="1197000"/>
          <a:ext cx="8496360" cy="532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840" y="1197000"/>
                    <a:ext cx="849636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SAMPLE SIZ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13:46:57Z</dcterms:created>
  <dc:creator>bky</dc:creator>
  <dc:description/>
  <dc:language>en-US</dc:language>
  <cp:lastModifiedBy>Britta Kyvsgaard</cp:lastModifiedBy>
  <dcterms:modified xsi:type="dcterms:W3CDTF">2004-11-01T09:56:55Z</dcterms:modified>
  <cp:revision>88</cp:revision>
  <dc:subject/>
  <dc:title>REGISTERFORSKNING</dc:title>
</cp:coreProperties>
</file>