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B2D8-13DD-4AC8-8DC6-8CBDA3F1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links A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Economic and Financial Data for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Statist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y Press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statistic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 nd Accessibility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B81-3140-447F-9A0A-88CD450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0B1-0D18-429A-B519-8C6DC6F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C80-7636-459C-8CE4-4A8B3077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E13-C7D0-4C87-88D3-CAEA9DD6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CCF-F9ED-4B53-8F27-F5FA3093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FCC-5974-459D-8CD9-49E6FA63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88C-C4C2-4F16-B9F2-11FD01A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8B2-4E61-4EA8-9A7B-F58BA2EC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F65-F97D-42ED-8F1D-898A8B3A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ABD-9580-47ED-B8B8-8CF08C9D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8C3-2F80-431D-AAB6-FC5D8A9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A0C-C3E7-411B-9BD5-A22967B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149B-E895-4BB8-8A7B-D0BD59C3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jp.usdoj.gov/bjs/glance/tables/proptrdtab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jp.usdoj.gov/bjs/homicide/tables/totalstab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jp.usdoj.gov/bjs/glance/tables/viortrdtab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ureau of Justice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Property Crime Trends Ch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tility of Survey Dat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me preventio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livery of victi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ftware Develop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pport from Office for Victims of Crime (OV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pgrade from CVS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nge of question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JScvs Sof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brary of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 interviewers or self-administ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-base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as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racking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95400" y="38160"/>
            <a:ext cx="93348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te level surv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ctimization Survey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in Indian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uthern 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ma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uni Pue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ime Issues in Indian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cohol-related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mestic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er-racial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0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ducting Victimization and Community Safety Surveys: Using Web-base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.N. Meeting on Crim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v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ven K.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ureau of Justic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sues in Community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tisfaction with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ighborhoo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edback 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lice-Public Contact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ublic’s experience with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raffic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 of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seminating Crim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b-based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JS data on-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dstat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edstats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960" t="6866" r="4902" b="0"/>
          <a:stretch/>
        </p:blipFill>
        <p:spPr>
          <a:xfrm>
            <a:off x="1143000" y="11430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4724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formation Available for th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6669" r="0" b="0"/>
          <a:stretch/>
        </p:blipFill>
        <p:spPr>
          <a:xfrm>
            <a:off x="1295280" y="1752480"/>
            <a:ext cx="683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City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5408" r="0" b="0"/>
          <a:stretch/>
        </p:blipFill>
        <p:spPr>
          <a:xfrm>
            <a:off x="990720" y="1295280"/>
            <a:ext cx="8001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un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6404" r="0" b="0"/>
          <a:stretch/>
        </p:blipFill>
        <p:spPr>
          <a:xfrm>
            <a:off x="114300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4902" t="18519" r="5884" b="14638"/>
          <a:stretch/>
        </p:blipFill>
        <p:spPr>
          <a:xfrm>
            <a:off x="1523880" y="1066680"/>
            <a:ext cx="670572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52480" y="4191120"/>
            <a:ext cx="6324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sy for users to quickly “drill down” to common geographic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s data for state, county, city and Federal judicial geographic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Stats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96200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419720" cy="4297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4495680" cy="3525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762120"/>
            <a:ext cx="601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pulation, percent change, 1990 to 2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matic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llecting and Reporting Crime Statistics in the U.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.  Crimes reported to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- Uniform Crime Report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- National Incident-Based Repor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.  National Crime Victimization Surv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imes Reported to the Po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FBI's Uniform Crime Reports Program (UCR) collects information from 17,000 local law enforcement a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jor UCR crimes include homicide, forcible rape, robbery, aggravated assault, burglary, larceny-theft, and motor vehicle the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omicide Rates, 1950-2002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ident-based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der NIBRS, law enforcement authorities  provide information to the FBI on each criminal incident involving 46 specific offenses, including the 8 major cr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tails about each incident include  multiple victims and offenders, arrest information on the 46 offenses plus 11 lesser offen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Crime Victimization Surve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racteristics and consequences of criminal victimization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usehold based survey since 19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2,000 households comprising nearly 76,000 per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ndardized Type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rgest ongoing survey of its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andardized categories; TOC based on respo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llects data on rape, sexual assault, robbery, assault, theft, household burglary, and motor vehicle the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vers cross-section of U.S. population -- women, the elderly, members of various racial groups, city dwel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Violent Crime Rate Trends Ch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26:41Z</dcterms:created>
  <dc:creator>Steve Smith</dc:creator>
  <dc:description/>
  <dc:language>en-US</dc:language>
  <cp:lastModifiedBy>Steve Smith</cp:lastModifiedBy>
  <dcterms:modified xsi:type="dcterms:W3CDTF">2004-10-31T22:11:00Z</dcterms:modified>
  <cp:revision>44</cp:revision>
  <dc:subject/>
  <dc:title>Conducting Local Victimization and Community Safety Surveys:  Using Web-based Technology</dc:title>
</cp:coreProperties>
</file>