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367963" cy="7775575"/>
  <p:notesSz cx="7775575" cy="10367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F557-EBDD-4D2F-9B48-4BFF7041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5800" y="2246400"/>
            <a:ext cx="88138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5800" y="4683240"/>
            <a:ext cx="88138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7182-931A-42C9-BE11-26C62DC8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5800" y="2246400"/>
            <a:ext cx="430092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92000" y="2246400"/>
            <a:ext cx="430092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75800" y="4683240"/>
            <a:ext cx="430092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92000" y="4683240"/>
            <a:ext cx="430092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3AA2-3AE8-41E0-822A-D6387473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75800" y="2246400"/>
            <a:ext cx="28378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5880" y="2246400"/>
            <a:ext cx="28378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35960" y="2246400"/>
            <a:ext cx="28378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75800" y="4683240"/>
            <a:ext cx="28378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5880" y="4683240"/>
            <a:ext cx="28378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35960" y="4683240"/>
            <a:ext cx="28378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A74E-BAA6-4D7C-8392-FAD5C5C5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75800" y="2246400"/>
            <a:ext cx="881388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D6E4-B20C-4EEA-87CA-00FEF6EB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5800" y="2246400"/>
            <a:ext cx="881388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1F32-2A14-46A1-9629-E9537230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5800" y="2246400"/>
            <a:ext cx="430092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92000" y="2246400"/>
            <a:ext cx="430092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3677-F10D-4972-9893-75C8536B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FD00-24D1-494A-A2DE-AE360572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75800" y="690120"/>
            <a:ext cx="881388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5DE3-9E0F-4BD6-9915-F29BD86C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75800" y="2246400"/>
            <a:ext cx="430092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92000" y="2246400"/>
            <a:ext cx="430092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75800" y="4683240"/>
            <a:ext cx="430092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94A0-78D7-463B-BBEE-218CA83D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75800" y="2246400"/>
            <a:ext cx="430092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92000" y="2246400"/>
            <a:ext cx="430092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92000" y="4683240"/>
            <a:ext cx="430092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5252-CB03-4544-B158-1179720D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75800" y="2246400"/>
            <a:ext cx="430092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92000" y="2246400"/>
            <a:ext cx="430092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75800" y="4683240"/>
            <a:ext cx="88138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068C-F6BF-4A60-BDC3-433D1A99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5800" y="2246400"/>
            <a:ext cx="881388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6160" y="7083360"/>
            <a:ext cx="2160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1320" y="7083360"/>
            <a:ext cx="3282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29320" y="7083360"/>
            <a:ext cx="21603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FA20-F741-4DD8-8FC5-861ED98F3209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166680"/>
            <a:ext cx="1577880" cy="1279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54120" y="68400"/>
            <a:ext cx="115920" cy="163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22120" y="1927080"/>
            <a:ext cx="903240" cy="488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84440" y="815040"/>
            <a:ext cx="367524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FrnkGothITC Bk BT"/>
              </a:rPr>
              <a:t>ECE-UNOCD Meeting on Crime Stat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72080" y="3394080"/>
            <a:ext cx="299844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Victim Surveys conducted by National Statistical Offic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Australian Survey Experien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505000" y="6754320"/>
            <a:ext cx="16099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nkGothITC Bk BT"/>
              </a:rPr>
              <a:t>Chris Libr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nkGothITC Bk BT"/>
              </a:rPr>
              <a:t>Australian Burea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nkGothITC Bk BT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FrnkGothITC Bk BT"/>
              </a:rPr>
              <a:t>of Statist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30520" y="2014560"/>
            <a:ext cx="7791480" cy="4964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63600" y="314280"/>
            <a:ext cx="7185240" cy="9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8000"/>
                </a:solidFill>
                <a:latin typeface="FrnkGothITC Bk BT"/>
              </a:rPr>
              <a:t>Survey Resul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FrnkGothITC Bk BT"/>
              </a:rPr>
              <a:t>(Assault - Females aged 18 and o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12920" y="1735200"/>
            <a:ext cx="8537400" cy="5432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158920" y="309600"/>
            <a:ext cx="7194600" cy="10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8000"/>
                </a:solidFill>
                <a:latin typeface="FrnkGothITC Bk BT"/>
              </a:rPr>
              <a:t>Surveys - Regional Differenc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FrnkGothITC Bk BT"/>
              </a:rPr>
              <a:t>(Assault - Indexed for Relativity</a:t>
            </a:r>
            <a:r>
              <a:rPr b="1" lang="en-US" sz="3100" spc="-1" strike="noStrike">
                <a:solidFill>
                  <a:srgbClr val="008000"/>
                </a:solidFill>
                <a:latin typeface="FrnkGothITC Bk BT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41440" y="1824120"/>
            <a:ext cx="8918640" cy="5357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163600" y="314280"/>
            <a:ext cx="7185240" cy="9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8000"/>
                </a:solidFill>
                <a:latin typeface="FrnkGothITC Bk BT"/>
              </a:rPr>
              <a:t>Surveys vs Police Recorded Crim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FrnkGothITC Bk BT"/>
              </a:rPr>
              <a:t>(Assault - Indexed for Relativ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51000" y="1533600"/>
            <a:ext cx="9004320" cy="5913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163600" y="314280"/>
            <a:ext cx="7185240" cy="9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8000"/>
                </a:solidFill>
                <a:latin typeface="FrnkGothITC Bk BT"/>
              </a:rPr>
              <a:t>Propensity to repor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FrnkGothITC Bk BT"/>
              </a:rPr>
              <a:t>(Assault - Indexed for Relativ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38440" y="1017720"/>
            <a:ext cx="2822400" cy="60156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nkGothITC Bk BT"/>
              </a:rPr>
              <a:t>Methodological e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49680" y="1017720"/>
            <a:ext cx="5540400" cy="60156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nkGothITC Bk BT"/>
              </a:rPr>
              <a:t>Assault victimization r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38440" y="1609560"/>
            <a:ext cx="2822400" cy="9176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Scope of population samp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49680" y="1609560"/>
            <a:ext cx="5540400" cy="9176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Expected to impact: NCSS is persons aged 15 years or over; ICVS is persons aged 16 years or over; GSS is persons aged 18 years or over; and WSS is females aged 18 years or ov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38440" y="2517840"/>
            <a:ext cx="2822400" cy="60156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Sample size and/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population vari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49680" y="2517840"/>
            <a:ext cx="5540400" cy="60156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At the national level RSEs were comparable and all less than 25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38440" y="3108240"/>
            <a:ext cx="2822400" cy="69876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Response r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49680" y="3108240"/>
            <a:ext cx="5540400" cy="69876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There may be some non-response bias as response rates differed between all four surveys; however this is unable to be quantifi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38440" y="3797280"/>
            <a:ext cx="2822400" cy="6984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Respondent Err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49680" y="3797280"/>
            <a:ext cx="5540400" cy="6984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There may be some response errors between surveys, for example the WSS was the only survey designed for one-on-one interview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38440" y="4486320"/>
            <a:ext cx="2822400" cy="60012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Sampling Err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49680" y="4486320"/>
            <a:ext cx="5540400" cy="60012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All results weighted to represent population and therefore no impact on resul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38440" y="5076720"/>
            <a:ext cx="2822400" cy="60192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Question wor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49680" y="5076720"/>
            <a:ext cx="5540400" cy="60192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Expected to impact but not quantifi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38440" y="5668920"/>
            <a:ext cx="2822400" cy="9162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Mode of surv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49680" y="5668920"/>
            <a:ext cx="5540400" cy="9162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Expected to impact but not quantifiable: GSS and WSS were face-to-face, NCSS was a self administered questionnaire and the ICVS was a telephone intervie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38440" y="6575400"/>
            <a:ext cx="2822400" cy="60012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Survey co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49680" y="6575400"/>
            <a:ext cx="5540400" cy="60012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nkGothITC Bk BT"/>
              </a:rPr>
              <a:t>Expected to impact but not quantifi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68320" y="0"/>
            <a:ext cx="6843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8000"/>
                </a:solidFill>
                <a:latin typeface="Arial MT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35120" y="1432080"/>
            <a:ext cx="8197920" cy="60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Any comparative analysis of crime victimisation surveys needs to consider differences across a range of facto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Differences are more likely to occur for Personal rather than Property Crim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Surveys are conducted for specific purposes - comparability to other surveys may not be a purpose but comparisons are often mad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e standardisation of one common factor, for example question wording alone, will probably not produce comparable resul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Ultimately the ABS produced an Info Paper and both sets of stats - we suggest that NCSS is more a legal definition of Assault whereas GSS is a more experiential basi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63600" y="314280"/>
            <a:ext cx="71852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8000"/>
                </a:solidFill>
                <a:latin typeface="FrnkGothITC Bk BT"/>
              </a:rPr>
              <a:t>Main Points to Consid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24040" y="2028960"/>
            <a:ext cx="8197920" cy="49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e ABS is currently considering the most appropriate methodologies for its future crime surveys, with the aim of ensuring continued collection of quality crime victimisation statistics - the review will include other source collections and agenci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e ABS and Police are currently conducting a major review of Recorded Crime Statistics to consider differences across reg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is conference and set of meetings will assist the Australian reviews in these areas through a greater understanding of practices and consideration of wider issu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63600" y="314280"/>
            <a:ext cx="71852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8000"/>
                </a:solidFill>
                <a:latin typeface="FrnkGothITC Bk BT"/>
              </a:rPr>
              <a:t>Where to from here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63600" y="314280"/>
            <a:ext cx="71852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8000"/>
                </a:solidFill>
                <a:latin typeface="FrnkGothITC Bk BT"/>
              </a:rPr>
              <a:t>Presentation Outlin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63800" y="2397240"/>
            <a:ext cx="8197920" cy="46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Areas of mutual interest/experien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Organisation of Crime and Justice Statistic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Planning of future develop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Survey method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63600" y="314280"/>
            <a:ext cx="71852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8000"/>
                </a:solidFill>
                <a:latin typeface="FrnkGothITC Bk BT"/>
              </a:rPr>
              <a:t>Areas of mutual interes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63800" y="2397240"/>
            <a:ext cx="8197920" cy="42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I have four distinct roles and titles 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12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National Crime (Police) Statisticia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12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National Criminal Courts Statisticia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12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National Corrective Services Statisticia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12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Head of ABS Crime and Justice Statistics are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ogether this is called the National Centre for Crime and Justice Statistic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63600" y="314280"/>
            <a:ext cx="71852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8000"/>
                </a:solidFill>
                <a:latin typeface="FrnkGothITC Bk BT"/>
              </a:rPr>
              <a:t>Organis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23960" y="1447920"/>
            <a:ext cx="8197920" cy="60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Each of the National Units are jointly funded and governed by the States and Commonwealt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ere is a formal agreement that establishes thi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Each unit has a Board (CEOs) an Advisory Group (Senior Bureacrats, AIC, Academics and Statisticians) and an Expert or Practioners grou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We produce national and state data to standards loike classifications andcounting rules and we also do QA work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I also manage the ABS unit - national surveys and analysis are key parts of thi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We publish aggregates and provide data cubes for bulk data - currently this is separate but ultimately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63600" y="314280"/>
            <a:ext cx="71852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8000"/>
                </a:solidFill>
                <a:latin typeface="FrnkGothITC Bk BT"/>
              </a:rPr>
              <a:t>Organisation lesson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98480" y="1863720"/>
            <a:ext cx="8197920" cy="45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e involvement of so many groups is complex but the cost of getting 'buy-in' at all level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is level of involvement also tends to mitigate against sectional interests - Boards and Advisory Groups tend to be strategic and tactical whereas Pracitioners concentrate on operational development and Q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e units are all part of the ABS and the workprogram is by agreement with the ABS CE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In my position there are many clients - some 27 agencies contribute to the funding for my position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163600" y="314280"/>
            <a:ext cx="71852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8000"/>
                </a:solidFill>
                <a:latin typeface="FrnkGothITC Bk BT"/>
              </a:rPr>
              <a:t>Planning - Information Development Plans (IDPs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25480" y="1901880"/>
            <a:ext cx="8197920" cy="56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ABS is doing for all subject areas - Social and Ec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A supply, demand and gaps exercise with an action plan for the futu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Consultation is the key - we had nearly 100 bilateral discussions with CEOs and senior staff from Justice and other agencies like Health and also a workshop in all Sta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ere are 10 key agreed priority areas for this plan which covers the next 5 years or so and development includes ABS and other agencies eg the AIC and State Uni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Among the CEOs there was a universal #1 priority Information Need - can anyone guess what that was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63600" y="314280"/>
            <a:ext cx="71852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8000"/>
                </a:solidFill>
                <a:latin typeface="FrnkGothITC Bk BT"/>
              </a:rPr>
              <a:t>COMPARABILITY which = QUALIT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1154160"/>
            <a:ext cx="8197920" cy="63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We need a strong base of comparative information in Australia for effectiveness and development (policy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e traditional efficiency needs still exis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Policy development needs to be evidenced bas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In ABS speak Comparability = Quality, ie coherence, relevance, timeliness, accuracy.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is relates to Admin and Survey dat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e key characteristics include Indigenous, Safety, FV/DV, Recidivism, Substances, Mental Health, Regional and Cultur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e plan will be published in early 2005 and co-signed by ABS, Police, Courts and Correc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635120" y="1838160"/>
            <a:ext cx="8197920" cy="45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Our interest in this area is twofold - the Comparability priority and conflicting survey resul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e issue really kicked off with the NCSS and GSS producing widely different estimates when we used almost exactly the same question and the same base samp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e problem was a significant one for us - do we produce two official survey estimates of Crime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In hindsight there were issues we did not consider, however I view this as an opportunity rather than a thre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63600" y="314280"/>
            <a:ext cx="71852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8000"/>
                </a:solidFill>
                <a:latin typeface="FrnkGothITC Bk BT"/>
              </a:rPr>
              <a:t>Survey Methodolog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60680" y="1647720"/>
            <a:ext cx="8197560" cy="53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Four Australian surveys are considered in the paper 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e ABS National Crime and Safety Survey (NCSS) which has been conducted in its current form since 199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e ABS Personal Safety Survey (PSS) to be conducted in 2005. The PSS is based on the 1996 Women's Safety Survey (WSS) but extended to include a male component for the 2005 collec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e International Crime Victims Survey (ICVS) conducted by the Australian Institute of Criminology (AIC) in 200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3840" indent="-12384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nkGothITC Bk BT"/>
              </a:rPr>
              <a:t>the ABS General Social Survey (GSS) which was conducted in 2002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63600" y="314280"/>
            <a:ext cx="71852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8000"/>
                </a:solidFill>
                <a:latin typeface="FrnkGothITC Bk BT"/>
              </a:rPr>
              <a:t>Collections considered in this review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