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367963" cy="7775575"/>
  <p:notesSz cx="7775575" cy="10367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548-C2F1-4D43-8926-422F0373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246-FED2-4B6F-871A-93386E7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29B-2588-43CC-8962-158759B9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588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3596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580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588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3596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C9B-4172-4D3E-8BF1-155132E9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CF6-8FB7-4138-835F-BA70436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839-E5BB-4149-B249-35F9433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683-BBE0-4196-8A37-721E612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457-2BC9-4EAD-9790-38FCE322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5800" y="690120"/>
            <a:ext cx="8813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FA4-C6B4-495B-9D19-0506293B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3C7-5BAA-4BD4-9747-8C67A45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608-1CAC-41CE-8232-240FA47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46B-9B98-4169-BFC6-26E05A5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6160" y="7083360"/>
            <a:ext cx="2160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7083360"/>
            <a:ext cx="3282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320" y="7083360"/>
            <a:ext cx="21603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449-7D9A-4CC4-B571-CF5C3AB9761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1577880" cy="127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54120" y="68400"/>
            <a:ext cx="1159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2120" y="1927080"/>
            <a:ext cx="903240" cy="488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84440" y="815040"/>
            <a:ext cx="367524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nkGothITC Bk BT"/>
              </a:rPr>
              <a:t>ECE-UNOCD Meeting on Crime Stat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3394080"/>
            <a:ext cx="29984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Victim Surveys conducted by National Statistical Off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ustralian Survey Experi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5000" y="6754320"/>
            <a:ext cx="16099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Chris Libr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Australian Burea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of Stat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30520" y="2014560"/>
            <a:ext cx="7791480" cy="4964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 Resul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Females aged 18 and 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12920" y="1735200"/>
            <a:ext cx="8537400" cy="5432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58920" y="309600"/>
            <a:ext cx="719460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s - Regional Differen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</a:t>
            </a: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1440" y="1824120"/>
            <a:ext cx="8918640" cy="535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s vs Police Recorded Cri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1000" y="1533600"/>
            <a:ext cx="9004320" cy="591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ropensity to repor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38440" y="1017720"/>
            <a:ext cx="2822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nkGothITC Bk BT"/>
              </a:rPr>
              <a:t>Methodological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9680" y="1017720"/>
            <a:ext cx="5540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nkGothITC Bk BT"/>
              </a:rPr>
              <a:t>Assault victimization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609560"/>
            <a:ext cx="2822400" cy="917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cope of population samp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49680" y="1609560"/>
            <a:ext cx="5540400" cy="917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: NCSS is persons aged 15 years or over; ICVS is persons aged 16 years or over; GSS is persons aged 18 years or over; and WSS is females aged 18 years or o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38440" y="2517840"/>
            <a:ext cx="2822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ample size and/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population var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9680" y="2517840"/>
            <a:ext cx="5540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At the national level RSEs were comparable and all less than 25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8440" y="3108240"/>
            <a:ext cx="2822400" cy="698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Response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49680" y="3108240"/>
            <a:ext cx="5540400" cy="698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There may be some non-response bias as response rates differed between all four surveys; however this is unable to be quantif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38440" y="3797280"/>
            <a:ext cx="2822400" cy="698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Respondent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797280"/>
            <a:ext cx="5540400" cy="698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There may be some response errors between surveys, for example the WSS was the only survey designed for one-on-one interview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8440" y="4486320"/>
            <a:ext cx="2822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ampling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4486320"/>
            <a:ext cx="5540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All results weighted to represent population and therefore no impact on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8440" y="5076720"/>
            <a:ext cx="2822400" cy="6019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Question wo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9680" y="5076720"/>
            <a:ext cx="5540400" cy="6019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8440" y="5668920"/>
            <a:ext cx="2822400" cy="916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Mode of surv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9680" y="5668920"/>
            <a:ext cx="5540400" cy="916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: GSS and WSS were face-to-face, NCSS was a self administered questionnaire and the ICVS was a telephone inter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6575400"/>
            <a:ext cx="2822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urvey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49680" y="6575400"/>
            <a:ext cx="5540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320" y="0"/>
            <a:ext cx="684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Arial MT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5120" y="1432080"/>
            <a:ext cx="8197920" cy="60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ny comparative analysis of crime victimisation surveys needs to consider differences across a range of fact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Differences are more likely to occur for Personal rather than Property Cr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Surveys are conducted for specific purposes - comparability to other surveys may not be a purpose but comparisons are often ma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standardisation of one common factor, for example question wording alone, will probably not produce comparable resul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Ultimately the ABS produced an Info Paper and both sets of stats - we suggest that NCSS is more a legal definition of Assault whereas GSS is a more experiential basi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Main Points to Consid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24040" y="2028960"/>
            <a:ext cx="819792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is currently considering the most appropriate methodologies for its future crime surveys, with the aim of ensuring continued collection of quality crime victimisation statistics - the review will include other source collections and agenc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and Police are currently conducting a major review of Recorded Crime Statistics to consider differences across reg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conference and set of meetings will assist the Australian reviews in these areas through a greater understanding of practices and consideration of wider issu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Where to from her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resentation Outl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63800" y="2397240"/>
            <a:ext cx="819792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reas of mutual interest/experi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Organisation of Crime and Justice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Planning of future develop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Survey method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Areas of mutual intere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3800" y="2397240"/>
            <a:ext cx="819792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 have four distinct roles and titles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rime (Police)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riminal Courts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orrective Services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Head of ABS Crime and Justice Statistics ar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ogether this is called the National Centre for Crime and Justice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Organis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23960" y="1447920"/>
            <a:ext cx="819792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Each of the National Units are jointly funded and governed by the States and Commonweal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re is a formal agreement that establishes th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Each unit has a Board (CEOs) an Advisory Group (Senior Bureacrats, AIC, Academics and Statisticians) and an Expert or Practioners grou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produce national and state data to standards loike classifications andcounting rules and we also do QA work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 also manage the ABS unit - national surveys and analysis are key parts of th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publish aggregates and provide data cubes for bulk data - currently this is separate but ultimately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Organisation less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8480" y="1863720"/>
            <a:ext cx="819792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nvolvement of so many groups is complex but the cost of getting 'buy-in' at all leve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level of involvement also tends to mitigate against sectional interests - Boards and Advisory Groups tend to be strategic and tactical whereas Pracitioners concentrate on operational development and Q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units are all part of the ABS and the workprogram is by agreement with the ABS C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my position there are many clients - some 27 agencies contribute to the funding for my position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3600" y="314280"/>
            <a:ext cx="7185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lanning - Information Development Plans (ID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5480" y="1901880"/>
            <a:ext cx="819792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BS is doing for all subject areas - Social and E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 supply, demand and gaps exercise with an action plan for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Consultation is the key - we had nearly 100 bilateral discussions with CEOs and senior staff from Justice and other agencies like Health and also a workshop in all St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re are 10 key agreed priority areas for this plan which covers the next 5 years or so and development includes ABS and other agencies eg the AIC and State Un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mong the CEOs there was a universal #1 priority Information Need - can anyone guess what that wa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COMPARABILITY which = QUA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154160"/>
            <a:ext cx="81979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need a strong base of comparative information in Australia for effectiveness and development (policy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traditional efficiency needs still ex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Policy development needs to be evidenced ba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ABS speak Comparability = Quality, ie coherence, relevance, timeliness, accuracy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relates to Admin and Survey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key characteristics include Indigenous, Safety, FV/DV, Recidivism, Substances, Mental Health, Regional and Cultu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plan will be published in early 2005 and co-signed by ABS, Police, Courts and Corr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35120" y="1838160"/>
            <a:ext cx="819792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Our interest in this area is twofold - the Comparability priority and conflicting survey resul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ssue really kicked off with the NCSS and GSS producing widely different estimates when we used almost exactly the same question and the same base samp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problem was a significant one for us - do we produce two official survey estimates of Crim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hindsight there were issues we did not consider, however I view this as an opportunity rather than a thre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 Methodolog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0680" y="1647720"/>
            <a:ext cx="819756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Four Australian surveys are considered in the paper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National Crime and Safety Survey (NCSS) which has been conducted in its current form since 199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Personal Safety Survey (PSS) to be conducted in 2005. The PSS is based on the 1996 Women's Safety Survey (WSS) but extended to include a male component for the 2005 colle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nternational Crime Victims Survey (ICVS) conducted by the Australian Institute of Criminology (AIC) in 2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General Social Survey (GSS) which was conducted in 2002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Collections considered in this review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