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7D0-F419-4DB5-A162-508E4A5F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33E-4BCD-4606-9C1D-F07000D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BD9-1E96-42A6-87D2-91A2266C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48C-49C1-439A-987E-4F8A6867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C00-2D0F-4100-ABCC-6103C5DE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394-34ED-44AD-8880-4B8EB53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65D0-16A5-4B51-A2F7-CEEAB77A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724-7D76-487A-989A-BFDF2EAC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BC1-5F52-4DD0-B9A6-D9E78F0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4692-5F52-4672-987F-9C57C98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BE9E-A1EA-4C95-96D9-CB72F238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49C-9BD4-4B80-8EB3-ACBD1773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F65E-44EA-4DD1-AEC8-5A0E336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8DD7-4AED-4F7B-B3A7-30B742E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12F-A85C-4E54-A073-3DC49DF5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8827-116B-42E3-9EDE-FAC7183B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BFB-B297-4DB9-9539-C8D8E1C1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BA1-4C41-4476-B09B-28BAD9DB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901-98FE-4A07-8EDB-F8E8D751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B00-4A1B-4E2F-A235-BBBD67BA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CB4-E4A9-4316-8A09-54FED406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FE6-0625-4F50-85C9-FA5C8FF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37E-7EFC-461F-B265-307ADEB7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BB5-3280-4CBA-BA71-CB6A657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3B62-0B5D-4AAF-A69A-9ED4B3F1F765}" type="slidenum">
              <a:rPr b="0" lang="sl-SI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3EA-E6A2-4FE1-B285-33A7482F5E15}" type="slidenum">
              <a:rPr b="0" lang="sl-SI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CVS IN SLOVENI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eaeaea"/>
                </a:solidFill>
                <a:latin typeface="Verdana"/>
              </a:rPr>
              <a:t>Tatjana Škrbe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580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CISION OF ESTIMATES – INFORMATION FOR DATA US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For some target variables – with the Sudaan 7.0 softw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For other published data – with the help of the mod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Error crite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under 0,10 were published without limit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between 0,10 and 0,15 were published in single parenthe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between 0,15 and 0,30 were published in double parenthe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over 0,30 were not published, but each one is substituted by a do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SEMINATION OF DA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The results of the survey were presente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In bi-lingual (Slovenene-English) publications of S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Rapid reports (September 2001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Results of surveys – together with the data from criminal justice statistics (March 2002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At the press conference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(september 200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Deindividualised micro data were transsmited to the Archive of sociological data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(fre acces for researchers, student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Micro data were also sent to Unicri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(October 200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MAIN CONCLUS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The sample size was too small to allow more in-depth analysis of data at a sufficient level of reliability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Computer assisted telephone interviewing was provenas a good method for this type of survey – this is an advantage because it is also the chiepest method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LANS FOR FUTURE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Preparatory work for nw CVS is planned to start in the year 200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Sample size will be exten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AND DISADVANTAGES OF CARRYING OUT ICVS WITHIN STATISTICAL OFFICE/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Regular financial sour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Technology and know-how already avalilabl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Standard rules for accepted for carrying out household sample surveys must be follow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(sufficient sample size; sampling, weighting methods, information about quality of data, documentation)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AND DISADVANTAGES OF CARRYING OUT ICVS WITHIN STATISTICAL OFFICE/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Dis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Big organisation system – planning and preparatory work must start months before the field work start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Limited resources – the priority of crime statistics in comparison with some other fields of statistics is rather low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Internationaly harmonised household/population crime wictims surveys – easiest method for reaching international comparability of data in the field of crime statistic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Priorities on the field of crime statistics within national Statistical Office/s in line with future priorities of EU – Eurostat in this field of statistics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cc"/>
                </a:solidFill>
                <a:latin typeface="Arial"/>
              </a:rPr>
              <a:t>Content of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Short histo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Crime victim survey 2001 within S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Methodology and content  of questionnai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Organisation of surve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Sampling method, weighting, precision of estim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Dissemin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Main conclusions after ICVS 2001; plans for fut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Advantages and disadvantages of carrying out ICVS within statistical office-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HORT HI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ICVS was carried out three tim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inSloven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6600"/>
                </a:solidFill>
                <a:latin typeface="Verdana"/>
              </a:rPr>
              <a:t>Within Institute of Criminology at the Faculty of Law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 1992 (net sample size: 1000 household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 1997 (net sample size: 2053 households; 1033 for Ljubljana; 1020 for other parts of Sloven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6600"/>
                </a:solidFill>
                <a:latin typeface="Verdana"/>
              </a:rPr>
              <a:t>Within SOR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 2001 included in National programe of statistical survey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VS 2001 WITHIN SOR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OLOGY AND CONTENT OF QUESTIONNAIRE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In line with ICVS questionnaire and methodology and with standard rules for carrying out household sample survey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Only minor changes were implemented in Slovene version of questionnai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questions about the opinion on possibility to prevent crime were add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questions about corruption were kep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order of some questions was chang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possible answers within the block of demographic questions were harmonised with other surveys – but still in line with ICVS dema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GANISATION OF THE SURVE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6600"/>
                </a:solidFill>
                <a:latin typeface="Verdana"/>
              </a:rPr>
              <a:t>Preparatory work during year 2000 and beginning of year 200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Team of people involved in ICVS within SORS was appoin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Methodological and technical instructions for interweavers were prepar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18 interweavers (yust female) were chosen and train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Sample for pilot and main survey was prepar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structions and programmes for processing and tabulations of data were prepa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GANISATION OF THE SURVE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6600"/>
                </a:solidFill>
                <a:latin typeface="Verdana"/>
              </a:rPr>
              <a:t>Pilot survey in November 2000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300 telephone numbers/households were chosen in the samp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Two versions of questionnaire were tes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SATION OF THE SURVE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Main survey – from 22 January until 22 Mar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Advance letter, together with presentation of the survey was sent to the chosen househol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Method used for the survey was computer assisted telephone intervewing (CATI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Respondents, older than 16 years was selected within household members according to the “last birthday” metho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Gross sample size for the survey was 6000 thelephone numbers/households (responce rate at the and was 66,8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Documentation was finished after the end of the survey for all phases of work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AMPLING METHO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Sample frame – directory of private telephone subscrib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The sample was stratified, systematic and rand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Strata were defined with statistical regions (12 regions) and type of settlement within the region (6 types) – in each stratum we sampled independent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number of units in each stratum was proportional to the share of people aged 16 years or more living in certain type of settlement in certain reg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The city of Ljubljana was over sampled to ensure comparability with the data from 1992 and 199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EIGHTING OF THE SURVEY DA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Basic weight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according to the household size was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Additional weighting (calibratio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was used for adjustment of the control variables (sex, age, level of education, household size, statistical region and type of settlement)to the known population structu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0:58:31Z</dcterms:created>
  <dc:creator>Skrbec Tatjana</dc:creator>
  <dc:description/>
  <dc:language>en-US</dc:language>
  <cp:lastModifiedBy>UNECE</cp:lastModifiedBy>
  <dcterms:modified xsi:type="dcterms:W3CDTF">2004-11-03T08:57:32Z</dcterms:modified>
  <cp:revision>10</cp:revision>
  <dc:subject/>
  <dc:title>ICVS IN SLOVENIA</dc:title>
</cp:coreProperties>
</file>