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4A7-33C3-4570-9DEA-5CEE7507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A67-0AAD-49F9-8937-B81FA52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693-8146-4E0A-B8E8-DB1AE94E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C57-8345-46D8-880C-33441366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496-6E54-4A26-B0DE-D8BDD771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48CE-9436-4B4D-92FB-C5084C9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5B1B-71C0-4628-BC37-6B1BAE0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21D-158C-4CAF-9E65-0302E4A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046-D3B7-4F99-B87C-5A78191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5BBC-6C41-424E-9E1D-35A38B4F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F74-E085-45AD-811A-C8CE62B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BBA-2D71-47E9-912F-40154CA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640C-E9BD-4623-A4F4-FB6D747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C2C-E904-4111-9E40-5DEA715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5A30-FC8B-4522-B55B-C3813AE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F20-64AB-46D1-81AB-9B1E047D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6FAD-11BE-4EEC-9F8C-5FFF9C18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1DA-B70F-49FB-B3B1-FF07E97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713-4C72-4706-9FAC-3DB84671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132-31F9-4DB4-B4EE-996D15B0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FFF-603A-498C-9F33-0D8E6AD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7F0-B555-49EA-8468-F9CF561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F9F-F9ED-4E19-A4C5-D5040B7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988-F045-4387-BD2C-B6CF347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C0E-0C0C-405D-8E1E-25D4012BE299}" type="slidenum">
              <a:rPr b="0" lang="sl-SI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551-57B7-42FE-8757-E833F64E56CC}" type="slidenum">
              <a:rPr b="0" lang="sl-SI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CVS IN SLOVENI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eaeaea"/>
                </a:solidFill>
                <a:latin typeface="Verdana"/>
              </a:rPr>
              <a:t>Tatjana Škrb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580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CISION OF ESTIMATES – INFORMATION FOR DATA US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For some target variables – with the Sudaan 7.0 softw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For other published data – with the help of the mod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Error crite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under 0,10 were published without limit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between 0,10 and 0,15 were published in single parenthe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between 0,15 and 0,30 were published in double parenthe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Estimates with the coefficient of variation over 0,30 were not published, but each one is substituted by a do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SEMINATION OF DA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he results of the survey were presente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In bi-lingual (Slovenene-English) publications of S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apid reports (September 2001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esults of surveys – together with the data from criminal justice statistics (March 2002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At the press conference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september 200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Deindividualised micro data were transsmited to the Archive of sociological data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fre acces for researchers, studen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Micro data were also sent to Unicri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(October 200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MAIN CONCLUS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The sample size was too small to allow more in-depth analysis of data at a sufficient level of reliability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Computer assisted telephone interviewing was provenas a good method for this type of survey – this is an advantage because it is also the chiepest method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LANS FOR FUTURE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Preparatory work for nw CVS is planned to start in the year 200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Sample size will be exten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AND DISADVANTAGES OF CARRYING OUT ICVS WITHIN STATISTICAL OFFICE/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Regular financial sour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echnology and know-how already avalilabl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tandard rules for accepted for carrying out household sample surveys must be follow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(sufficient sample size; sampling, weighting methods, information about quality of data, documentation)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AND DISADVANTAGES OF CARRYING OUT ICVS WITHIN STATISTICAL OFFICE/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Big organisation system – planning and preparatory work must start months before the field work start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Limited resources – the priority of crime statistics in comparison with some other fields of statistics is rather low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nternationaly harmonised household/population crime wictims surveys – easiest method for reaching international comparability of data in the field of crime statistic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Priorities on the field of crime statistics within national Statistical Office/s in line with future priorities of EU – Eurostat in this field of statistics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cc"/>
                </a:solidFill>
                <a:latin typeface="Arial"/>
              </a:rPr>
              <a:t>Content of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hort his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Crime victim survey 2001 within S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ethodology and content  of questionnai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Organisation of surve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Sampling method, weighting, precision of estim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Dissemin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ain conclusions after ICVS 2001; plans for fu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Advantages and disadvantages of carrying out ICVS within statistical office-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ORT 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CVS was carried out three tim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inSloven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Within Institute of Criminology at the Faculty of Law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1992 (net sample size: 1000 household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1997 (net sample size: 2053 households; 1033 for Ljubljana; 1020 for other parts of Sloven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Within SOR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 2001 included in National programe of statistical survey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VS 2001 WITHIN SOR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OLOGY AND CONTENT OF QUESTIONNAIRE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In line with ICVS questionnaire and methodology and with standard rules for carrying out household sample survey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Only minor changes were implemented in Slovene version of questionnai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questions about the opinion on possibility to prevent crime were add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questions about corruption were kep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order of some questions was change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possible answers within the block of demographic questions were harmonised with other surveys – but still in line with ICVS dema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6600"/>
                </a:solidFill>
                <a:latin typeface="Verdana"/>
              </a:rPr>
              <a:t>Preparatory work during year 2000 and beginning of year 200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Team of people involved in ICVS within SORS was appoin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Methodological and technical instructions for interweavers were prepa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18 interweavers (yust female) were chosen and train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Sample for pilot and main survey was prepa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Verdana"/>
              </a:rPr>
              <a:t>Instructions and programmes for processing and tabulations of data were prepa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6600"/>
                </a:solidFill>
                <a:latin typeface="Verdana"/>
              </a:rPr>
              <a:t>Pilot survey in November 20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300 telephone numbers/households were chosen in the samp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Verdana"/>
              </a:rPr>
              <a:t>Two versions of questionnaire were tes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SATION OF THE SURVE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Main survey – from 22 January until 22 Mar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Advance letter, together with presentation of the survey was sent to the chosen househol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Method used for the survey was computer assisted telephone intervewing (CATI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Respondents, older than 16 years was selected within household members according to the “last birthday” metho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Gross sample size for the survey was 6000 thelephone numbers/households (responce rate at the and was 66,8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6600"/>
                </a:solidFill>
                <a:latin typeface="Verdana"/>
              </a:rPr>
              <a:t>Documentation was finished after the end of the survey for all phases of work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AMPLING METHO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Sample frame – directory of private telephone subscrib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The sample was stratified, systematic and rand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Strata were defined with statistical regions (12 regions) and type of settlement within the region (6 types) – in each stratum we sampled independent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Verdana"/>
              </a:rPr>
              <a:t>The number of units in each stratum was proportional to the share of people aged 16 years or more living in certain type of settlement in certain reg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00"/>
                </a:solidFill>
                <a:latin typeface="Verdana"/>
              </a:rPr>
              <a:t>The city of Ljubljana was over sampled to ensure comparability with the data from 1992 and 199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CVS 2001 WITHIN SOR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EIGHTING OF THE SURVEY DA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Basic weight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according to the household size was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Verdana"/>
              </a:rPr>
              <a:t>Additional weighting (calibratio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l-SI" sz="2800" spc="-1" strike="noStrike">
                <a:solidFill>
                  <a:srgbClr val="eaeaea"/>
                </a:solidFill>
                <a:latin typeface="Verdana"/>
              </a:rPr>
              <a:t>was used for adjustment of the control variables (sex, age, level of education, household size, statistical region and type of settlement)to the known population struc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0:58:31Z</dcterms:created>
  <dc:creator>Skrbec Tatjana</dc:creator>
  <dc:description/>
  <dc:language>en-US</dc:language>
  <cp:lastModifiedBy>UNECE</cp:lastModifiedBy>
  <dcterms:modified xsi:type="dcterms:W3CDTF">2004-11-03T08:57:32Z</dcterms:modified>
  <cp:revision>10</cp:revision>
  <dc:subject/>
  <dc:title>ICVS IN SLOVENIA</dc:title>
</cp:coreProperties>
</file>