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BREMS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7621588"/>
  <p:notesSz cx="67818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7B148-CDB7-43F6-B93C-A1AEB82948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41440" y="1260360"/>
            <a:ext cx="827712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MetaNormalLF-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945800"/>
            <a:ext cx="8278560" cy="238500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4557600"/>
            <a:ext cx="8278560" cy="238500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0B460-BE78-4D09-8D83-825EF23E2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41440" y="1260360"/>
            <a:ext cx="827712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MetaNormalLF-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945800"/>
            <a:ext cx="4039920" cy="238500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75760" y="1945800"/>
            <a:ext cx="4039920" cy="238500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4557600"/>
            <a:ext cx="4039920" cy="238500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75760" y="4557600"/>
            <a:ext cx="4039920" cy="238500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19D61-088F-4387-85B9-B0D4058A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41440" y="1260360"/>
            <a:ext cx="827712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MetaNormalLF-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945800"/>
            <a:ext cx="2665440" cy="238500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32520" y="1945800"/>
            <a:ext cx="2665440" cy="238500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1880" y="1945800"/>
            <a:ext cx="2665440" cy="238500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4557600"/>
            <a:ext cx="2665440" cy="238500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32520" y="4557600"/>
            <a:ext cx="2665440" cy="238500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1880" y="4557600"/>
            <a:ext cx="2665440" cy="238500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FF705-EB12-4CDC-8A49-85E7A2CCBF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5CE9-095D-4435-B49E-B16FE211756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41440" y="1260360"/>
            <a:ext cx="827712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MetaNormalLF-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520" y="1945800"/>
            <a:ext cx="827856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CFAA-8601-427D-B074-461416FCC46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1440" y="1260360"/>
            <a:ext cx="827712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MetaNormalLF-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945800"/>
            <a:ext cx="8278560" cy="50007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C289-905E-404A-86D9-5573D24191D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1440" y="1260360"/>
            <a:ext cx="827712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MetaNormalLF-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945800"/>
            <a:ext cx="4039920" cy="50007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5760" y="1945800"/>
            <a:ext cx="4039920" cy="50007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3698-4982-48D0-9BC9-DBA3ECF0C90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1440" y="1260360"/>
            <a:ext cx="827712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2829-92CE-436D-A504-F687F2DDAB5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41440" y="1260360"/>
            <a:ext cx="8277120" cy="46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D98E-2B7C-4EBA-9E46-392858B0549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41440" y="1260360"/>
            <a:ext cx="827712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MetaNormalLF-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945800"/>
            <a:ext cx="4039920" cy="238500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75760" y="1945800"/>
            <a:ext cx="4039920" cy="50007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520" y="4557600"/>
            <a:ext cx="4039920" cy="238500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D6A5-80F2-4383-89BA-A66BE88844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1440" y="1260360"/>
            <a:ext cx="827712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MetaNormalLF-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945800"/>
            <a:ext cx="827856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C01C1-0056-42BC-9232-F4AD6FF90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41440" y="1260360"/>
            <a:ext cx="827712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MetaNormalLF-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945800"/>
            <a:ext cx="4039920" cy="50007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75760" y="1945800"/>
            <a:ext cx="4039920" cy="238500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75760" y="4557600"/>
            <a:ext cx="4039920" cy="238500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43FF-A61B-4C0E-993B-6E62BAC4D46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41440" y="1260360"/>
            <a:ext cx="827712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MetaNormalLF-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945800"/>
            <a:ext cx="4039920" cy="238500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75760" y="1945800"/>
            <a:ext cx="4039920" cy="238500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4557600"/>
            <a:ext cx="8278560" cy="238500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9C0D-00AA-4538-BE32-07E59A1406B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41440" y="1260360"/>
            <a:ext cx="827712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MetaNormalLF-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945800"/>
            <a:ext cx="8278560" cy="238500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520" y="4557600"/>
            <a:ext cx="8278560" cy="238500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8606-8542-4686-AD5A-AE75FDF7448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1440" y="1260360"/>
            <a:ext cx="827712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MetaNormalLF-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945800"/>
            <a:ext cx="4039920" cy="238500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75760" y="1945800"/>
            <a:ext cx="4039920" cy="238500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4557600"/>
            <a:ext cx="4039920" cy="238500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75760" y="4557600"/>
            <a:ext cx="4039920" cy="238500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AD47-72C0-4343-9454-564C849555C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41440" y="1260360"/>
            <a:ext cx="827712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MetaNormalLF-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945800"/>
            <a:ext cx="2665440" cy="238500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32520" y="1945800"/>
            <a:ext cx="2665440" cy="238500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31880" y="1945800"/>
            <a:ext cx="2665440" cy="238500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3520" y="4557600"/>
            <a:ext cx="2665440" cy="238500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32520" y="4557600"/>
            <a:ext cx="2665440" cy="238500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31880" y="4557600"/>
            <a:ext cx="2665440" cy="238500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0598-BCA0-4F5A-8BED-E6539D8B30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41440" y="1260360"/>
            <a:ext cx="827712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MetaNormalLF-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945800"/>
            <a:ext cx="8278560" cy="50007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9E6E7-138D-41C5-B042-34CBC4278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41440" y="1260360"/>
            <a:ext cx="827712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MetaNormalLF-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945800"/>
            <a:ext cx="4039920" cy="50007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75760" y="1945800"/>
            <a:ext cx="4039920" cy="50007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3710A-F22D-4A30-9430-A753C108E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41440" y="1260360"/>
            <a:ext cx="827712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FD2B3-E829-4C5E-81B0-2825BD62B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41440" y="1260360"/>
            <a:ext cx="8277120" cy="46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9A17A-68C6-4AFD-9DBB-70E6C19E0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1440" y="1260360"/>
            <a:ext cx="827712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MetaNormalLF-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945800"/>
            <a:ext cx="4039920" cy="238500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75760" y="1945800"/>
            <a:ext cx="4039920" cy="50007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4557600"/>
            <a:ext cx="4039920" cy="238500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FE574-9436-4B45-B641-DDC70FAE0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1440" y="1260360"/>
            <a:ext cx="827712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MetaNormalLF-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945800"/>
            <a:ext cx="4039920" cy="50007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75760" y="1945800"/>
            <a:ext cx="4039920" cy="238500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75760" y="4557600"/>
            <a:ext cx="4039920" cy="238500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E0AA8-4C30-4797-B5DA-231047122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1440" y="1260360"/>
            <a:ext cx="827712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600" spc="-1" strike="noStrike">
              <a:solidFill>
                <a:srgbClr val="666666"/>
              </a:solidFill>
              <a:latin typeface="MetaNormalLF-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945800"/>
            <a:ext cx="4039920" cy="238500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75760" y="1945800"/>
            <a:ext cx="4039920" cy="238500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4557600"/>
            <a:ext cx="8278560" cy="238500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F5C37-28C6-4631-A8F1-5A585A497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2560" cy="90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41440" y="1260360"/>
            <a:ext cx="827712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600" spc="-1" strike="noStrike">
                <a:solidFill>
                  <a:srgbClr val="666666"/>
                </a:solidFill>
                <a:latin typeface="MetaNormalLF-Roman"/>
              </a:rPr>
              <a:t>Click to edit the title text format</a:t>
            </a:r>
            <a:endParaRPr b="1" lang="en-US" sz="3600" spc="-1" strike="noStrike">
              <a:solidFill>
                <a:srgbClr val="666666"/>
              </a:solidFill>
              <a:latin typeface="MetaNormalLF-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1945800"/>
            <a:ext cx="8278560" cy="500076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575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MetaNormalLF-Roman"/>
              </a:rPr>
              <a:t>Click to edit the outline text format</a:t>
            </a: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190440" indent="20520">
              <a:spcBef>
                <a:spcPts val="575"/>
              </a:spcBef>
              <a:buClr>
                <a:srgbClr val="cc0033"/>
              </a:buClr>
              <a:buSzPct val="80000"/>
              <a:buFont typeface="Wingdings" charset="2"/>
              <a:buChar char="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MetaNormalLF-Roman"/>
              </a:rPr>
              <a:t>Second Outline Level</a:t>
            </a: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  <a:p>
            <a:pPr lvl="2" marL="1333440" indent="-239760">
              <a:spcBef>
                <a:spcPts val="575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MetaNormalLF-Roman"/>
              </a:rPr>
              <a:t>Third Outline Level</a:t>
            </a: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  <a:p>
            <a:pPr lvl="3" marL="1773360" indent="-239760">
              <a:spcBef>
                <a:spcPts val="575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MetaNormalLF-Roman"/>
              </a:rPr>
              <a:t>Fourth Outline Level</a:t>
            </a: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  <a:p>
            <a:pPr lvl="4" marL="2211480" indent="-238320">
              <a:spcBef>
                <a:spcPts val="575"/>
              </a:spcBef>
              <a:buClr>
                <a:srgbClr val="990033"/>
              </a:buClr>
              <a:buFont typeface="MetaNormalLF-Roman"/>
              <a:buChar char="•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MetaNormalLF-Roman"/>
              </a:rPr>
              <a:t>Fifth Outline Level</a:t>
            </a: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  <a:p>
            <a:pPr lvl="5" marL="2211480" indent="-238320">
              <a:spcBef>
                <a:spcPts val="575"/>
              </a:spcBef>
              <a:buClr>
                <a:srgbClr val="000000"/>
              </a:buClr>
              <a:buFont typeface="MetaNormalLF-Roman"/>
              <a:buChar char="•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MetaNormalLF-Roman"/>
              </a:rPr>
              <a:t>Sixth Outline Level</a:t>
            </a: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  <a:p>
            <a:pPr lvl="6" marL="2211480" indent="-238320">
              <a:spcBef>
                <a:spcPts val="575"/>
              </a:spcBef>
              <a:buClr>
                <a:srgbClr val="000000"/>
              </a:buClr>
              <a:buFont typeface="MetaNormalLF-Roman"/>
              <a:buChar char="•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MetaNormalLF-Roman"/>
              </a:rPr>
              <a:t>Seventh Outline Level</a:t>
            </a: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09920" y="7002360"/>
            <a:ext cx="10782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77280" anchor="b">
            <a:noAutofit/>
          </a:bodyPr>
          <a:lstStyle>
            <a:lvl1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E4494B4-C4C7-4FA4-AEAF-CC2E9286B46A}" type="datetime"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31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229600" y="7002360"/>
            <a:ext cx="70488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77280" anchor="b">
            <a:noAutofit/>
          </a:bodyPr>
          <a:lstStyle>
            <a:lvl1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Folie </a:t>
            </a:r>
            <a:fld id="{884B939F-8CE9-4575-98E9-2B1ED4FE8E65}" type="slidenum"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57280" y="7056360"/>
            <a:ext cx="612144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77280" anchor="b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6" name=""/>
          <p:cNvSpPr/>
          <p:nvPr/>
        </p:nvSpPr>
        <p:spPr>
          <a:xfrm>
            <a:off x="393480" y="7056360"/>
            <a:ext cx="24631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MetaNormalLF-Roman"/>
              </a:rPr>
              <a:t>© Statistisches Bundesamt,  VI A</a:t>
            </a:r>
            <a:endParaRPr b="0" lang="en-US" sz="11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45705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8000" rIns="0" tIns="0" bIns="75600" anchor="b">
            <a:no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MetaNormalLF-Roman"/>
              </a:rPr>
              <a:t>Statistisches Bundesamt</a:t>
            </a:r>
            <a:endParaRPr b="0" lang="en-US" sz="2100" spc="-1" strike="noStrike">
              <a:solidFill>
                <a:srgbClr val="000000"/>
              </a:solidFill>
              <a:latin typeface="MetaNormalLF-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7015320" y="0"/>
            <a:ext cx="2128680" cy="901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41440" y="1558440"/>
            <a:ext cx="827712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5000" spc="-1" strike="noStrike">
                <a:solidFill>
                  <a:srgbClr val="666666"/>
                </a:solidFill>
                <a:latin typeface="Agfa Rotis Semisans Ex Bold"/>
              </a:rPr>
              <a:t>Click to edit the title text format</a:t>
            </a:r>
            <a:endParaRPr b="1" lang="en-US" sz="5000" spc="-1" strike="noStrike">
              <a:solidFill>
                <a:srgbClr val="666666"/>
              </a:solidFill>
              <a:latin typeface="Agfa Rotis Semisans Ex Bold"/>
            </a:endParaRPr>
          </a:p>
        </p:txBody>
      </p:sp>
      <p:sp>
        <p:nvSpPr>
          <p:cNvPr id="46" name=""/>
          <p:cNvSpPr/>
          <p:nvPr/>
        </p:nvSpPr>
        <p:spPr>
          <a:xfrm>
            <a:off x="541440" y="7056360"/>
            <a:ext cx="575604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77280" anchor="b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MetaNormalLF-Roman"/>
              </a:rPr>
              <a:t>© Statistisches Bundesamt, VI A</a:t>
            </a:r>
            <a:endParaRPr b="0" lang="en-US" sz="11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2560" cy="90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05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8000" rIns="0" tIns="0" bIns="75600" anchor="b">
            <a:no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MetaNormalLF-Roman"/>
              </a:rPr>
              <a:t>Statistisches Bundesamt</a:t>
            </a:r>
            <a:endParaRPr b="0" lang="en-US" sz="2100" spc="-1" strike="noStrike">
              <a:solidFill>
                <a:srgbClr val="000000"/>
              </a:solidFill>
              <a:latin typeface="MetaNormalLF-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015320" y="0"/>
            <a:ext cx="2128680" cy="9018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sldNum" idx="3"/>
          </p:nvPr>
        </p:nvSpPr>
        <p:spPr>
          <a:xfrm>
            <a:off x="6553080" y="6943320"/>
            <a:ext cx="19051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264D8-C03F-4BF3-B6D4-6FBFC4E13DD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783080"/>
            <a:ext cx="82292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MetaNormalLF-Roman"/>
              </a:rPr>
              <a:t>Click to edit the outline text format</a:t>
            </a: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210960" indent="0" algn="ctr">
              <a:spcBef>
                <a:spcPts val="4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MetaNormalLF-Roman"/>
              </a:rPr>
              <a:t>Second Outline Level</a:t>
            </a:r>
            <a:endParaRPr b="1" lang="en-US" sz="1900" spc="-1" strike="noStrike">
              <a:solidFill>
                <a:srgbClr val="000000"/>
              </a:solidFill>
              <a:latin typeface="MetaNormalLF-Roman"/>
            </a:endParaRPr>
          </a:p>
          <a:p>
            <a:pPr lvl="2" marL="957240" indent="136440" algn="ctr">
              <a:spcBef>
                <a:spcPts val="476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MetaNormalLF-Roman"/>
              </a:rPr>
              <a:t>Third Outline Level</a:t>
            </a:r>
            <a:endParaRPr b="1" lang="en-US" sz="1900" spc="-1" strike="noStrike">
              <a:solidFill>
                <a:srgbClr val="000000"/>
              </a:solidFill>
              <a:latin typeface="MetaNormalLF-Roman"/>
            </a:endParaRPr>
          </a:p>
          <a:p>
            <a:pPr lvl="3" marL="1436760" indent="96840" algn="ctr">
              <a:spcBef>
                <a:spcPts val="476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MetaNormalLF-Roman"/>
              </a:rPr>
              <a:t>Fourth Outline Level</a:t>
            </a:r>
            <a:endParaRPr b="1" lang="en-US" sz="1900" spc="-1" strike="noStrike">
              <a:solidFill>
                <a:srgbClr val="000000"/>
              </a:solidFill>
              <a:latin typeface="MetaNormalLF-Roman"/>
            </a:endParaRPr>
          </a:p>
          <a:p>
            <a:pPr lvl="4" marL="1916280" indent="56880" algn="ctr">
              <a:spcBef>
                <a:spcPts val="374"/>
              </a:spcBef>
              <a:buClr>
                <a:srgbClr val="990033"/>
              </a:buClr>
              <a:buFont typeface="MetaNormalLF-Roman"/>
              <a:buChar char="•"/>
              <a:tabLst>
                <a:tab algn="l" pos="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MetaNormalLF-Roman"/>
              </a:rPr>
              <a:t>Fifth Outline Level</a:t>
            </a:r>
            <a:endParaRPr b="1" lang="en-US" sz="1500" spc="-1" strike="noStrike">
              <a:solidFill>
                <a:srgbClr val="000000"/>
              </a:solidFill>
              <a:latin typeface="MetaNormalLF-Roman"/>
            </a:endParaRPr>
          </a:p>
          <a:p>
            <a:pPr lvl="5" marL="1916280" indent="56880">
              <a:spcBef>
                <a:spcPts val="374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MetaNormalLF-Roman"/>
              </a:rPr>
              <a:t>Sixth Outline Level</a:t>
            </a:r>
            <a:endParaRPr b="1" lang="en-US" sz="1500" spc="-1" strike="noStrike">
              <a:solidFill>
                <a:srgbClr val="000000"/>
              </a:solidFill>
              <a:latin typeface="MetaNormalLF-Roman"/>
            </a:endParaRPr>
          </a:p>
          <a:p>
            <a:pPr lvl="6" marL="1916280" indent="56880">
              <a:spcBef>
                <a:spcPts val="374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MetaNormalLF-Roman"/>
              </a:rPr>
              <a:t>Seventh Outline Level</a:t>
            </a:r>
            <a:endParaRPr b="1" lang="en-US" sz="15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BREMSE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031480"/>
            <a:ext cx="827712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5000" spc="-1" strike="noStrike">
                <a:solidFill>
                  <a:srgbClr val="666666"/>
                </a:solidFill>
                <a:latin typeface="Agfa Rotis Semisans Ex Bold"/>
              </a:rPr>
              <a:t>The new method of the next german Population census</a:t>
            </a:r>
            <a:endParaRPr b="1" lang="en-US" sz="5000" spc="-1" strike="noStrike">
              <a:solidFill>
                <a:srgbClr val="666666"/>
              </a:solidFill>
              <a:latin typeface="Agfa Rotis Semisans Ex 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41440" y="3809880"/>
            <a:ext cx="8277120" cy="28195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MetaNormalLF-Roman"/>
              </a:rPr>
              <a:t>Johann Szenzenstein, Federal Statistical Office, Germany</a:t>
            </a: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3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REM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930240"/>
            <a:ext cx="827712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800" spc="-1" strike="noStrike">
                <a:solidFill>
                  <a:srgbClr val="666666"/>
                </a:solidFill>
                <a:latin typeface="MetaNormalLF-Roman"/>
              </a:rPr>
              <a:t>Test survey for evaluating the quality of the register data (register test)</a:t>
            </a:r>
            <a:endParaRPr b="1" lang="en-US" sz="2800" spc="-1" strike="noStrike">
              <a:solidFill>
                <a:srgbClr val="666666"/>
              </a:solidFill>
              <a:latin typeface="MetaNormalLF-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9280" y="1938240"/>
            <a:ext cx="8786880" cy="46087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MetaNormalLF-Roman"/>
              </a:rPr>
              <a:t>Sampling method :</a:t>
            </a:r>
            <a:r>
              <a:rPr b="1" lang="en-GB" sz="24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MetaNormalLF-Roman"/>
              </a:rPr>
              <a:t>about 38 000 addresses (buildings) in </a:t>
            </a:r>
            <a:r>
              <a:rPr b="1" lang="en-GB" sz="24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MetaNormalLF-Roman"/>
              </a:rPr>
              <a:t>550 municipalities with about 250 000 </a:t>
            </a:r>
            <a:r>
              <a:rPr b="1" lang="en-GB" sz="24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MetaNormalLF-Roman"/>
              </a:rPr>
              <a:t>dwellings and </a:t>
            </a:r>
            <a:r>
              <a:rPr b="1" lang="en-GB" sz="24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MetaNormalLF-Roman"/>
              </a:rPr>
              <a:t>about 550 000 residents</a:t>
            </a:r>
            <a:endParaRPr b="1" lang="en-US" sz="2400" spc="-1" strike="noStrike">
              <a:solidFill>
                <a:srgbClr val="000000"/>
              </a:solidFill>
              <a:latin typeface="MetaNormalLF-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MetaNormalLF-Roman"/>
              </a:rPr>
              <a:t>Procedure:</a:t>
            </a:r>
            <a:endParaRPr b="1" lang="en-US" sz="2400" spc="-1" strike="noStrike">
              <a:solidFill>
                <a:srgbClr val="000000"/>
              </a:solidFill>
              <a:latin typeface="MetaNormalLF-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MetaNormalLF-Roman"/>
              </a:rPr>
              <a:t>      •</a:t>
            </a:r>
            <a:r>
              <a:rPr b="1" lang="en-GB" sz="24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MetaNormalLF-Roman"/>
              </a:rPr>
              <a:t>requesting PR records for all persons registered at the </a:t>
            </a:r>
            <a:r>
              <a:rPr b="1" lang="en-GB" sz="24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MetaNormalLF-Roman"/>
              </a:rPr>
              <a:t>selected addresses from the municipalities</a:t>
            </a:r>
            <a:endParaRPr b="1" lang="en-US" sz="2400" spc="-1" strike="noStrike">
              <a:solidFill>
                <a:srgbClr val="000000"/>
              </a:solidFill>
              <a:latin typeface="MetaNormalLF-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MetaNormalLF-Roman"/>
              </a:rPr>
              <a:t>      •</a:t>
            </a:r>
            <a:r>
              <a:rPr b="1" lang="en-GB" sz="24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MetaNormalLF-Roman"/>
              </a:rPr>
              <a:t>interviewing all households living in the selected </a:t>
            </a:r>
            <a:r>
              <a:rPr b="1" lang="en-GB" sz="24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MetaNormalLF-Roman"/>
              </a:rPr>
              <a:t>buildings by enumerators</a:t>
            </a:r>
            <a:endParaRPr b="1" lang="en-US" sz="2400" spc="-1" strike="noStrike">
              <a:solidFill>
                <a:srgbClr val="000000"/>
              </a:solidFill>
              <a:latin typeface="MetaNormalLF-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MetaNormalLF-Roman"/>
              </a:rPr>
              <a:t>      •</a:t>
            </a:r>
            <a:r>
              <a:rPr b="1" lang="en-GB" sz="24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MetaNormalLF-Roman"/>
              </a:rPr>
              <a:t>comparing PR records with data from household survey</a:t>
            </a:r>
            <a:endParaRPr b="1" lang="en-US" sz="2400" spc="-1" strike="noStrike">
              <a:solidFill>
                <a:srgbClr val="000000"/>
              </a:solidFill>
              <a:latin typeface="MetaNormalLF-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MetaNormalLF-Roman"/>
              </a:rPr>
              <a:t>Main objectives:    estimating the number of overcounts and </a:t>
            </a:r>
            <a:r>
              <a:rPr b="1" lang="en-GB" sz="24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MetaNormalLF-Roman"/>
              </a:rPr>
              <a:t>       undercounts of the PRs for all 16 federal </a:t>
            </a:r>
            <a:r>
              <a:rPr b="1" lang="en-GB" sz="24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MetaNormalLF-Roman"/>
              </a:rPr>
              <a:t>                      states and 4 municipality size classes </a:t>
            </a:r>
            <a:r>
              <a:rPr b="1" lang="en-GB" sz="24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MetaNormalLF-Roman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169200"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00"/>
              </a:solidFill>
              <a:latin typeface="MetaNormalLF-Roman"/>
            </a:endParaRPr>
          </a:p>
          <a:p>
            <a:pPr lvl="2" marL="1186560" indent="0">
              <a:spcBef>
                <a:spcPts val="601"/>
              </a:spcBef>
              <a:buNone/>
              <a:tabLst>
                <a:tab algn="l" pos="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653AC-7ED9-4911-9E9B-B1FBD3E334F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930240"/>
            <a:ext cx="827712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600" spc="-1" strike="noStrike">
                <a:solidFill>
                  <a:srgbClr val="666666"/>
                </a:solidFill>
                <a:latin typeface="MetaNormalLF-Roman"/>
              </a:rPr>
              <a:t>Results of the register test</a:t>
            </a:r>
            <a:br>
              <a:rPr sz="1600"/>
            </a:br>
            <a:r>
              <a:rPr b="1" lang="en-GB" sz="1600" spc="-1" strike="noStrike">
                <a:solidFill>
                  <a:srgbClr val="666666"/>
                </a:solidFill>
                <a:latin typeface="MetaNormalLF-Roman"/>
              </a:rPr>
              <a:t>Table 3.1</a:t>
            </a:r>
            <a:br>
              <a:rPr sz="1600"/>
            </a:br>
            <a:r>
              <a:rPr b="1" lang="en-GB" sz="1600" spc="-1" strike="noStrike">
                <a:solidFill>
                  <a:srgbClr val="666666"/>
                </a:solidFill>
                <a:latin typeface="MetaNormalLF-Roman"/>
              </a:rPr>
              <a:t>Overcounts and undercounts of the registers for persons at their main place of residence by municipality size classes.</a:t>
            </a:r>
            <a:endParaRPr b="1" lang="en-US" sz="1600" spc="-1" strike="noStrike">
              <a:solidFill>
                <a:srgbClr val="666666"/>
              </a:solidFill>
              <a:latin typeface="MetaNormalLF-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539640" y="2009880"/>
          <a:ext cx="8278920" cy="4398840"/>
        </p:xfrm>
        <a:graphic>
          <a:graphicData uri="http://schemas.openxmlformats.org/drawingml/2006/table">
            <a:tbl>
              <a:tblPr/>
              <a:tblGrid>
                <a:gridCol w="1944720"/>
                <a:gridCol w="1440000"/>
                <a:gridCol w="1368360"/>
                <a:gridCol w="1150920"/>
                <a:gridCol w="1225440"/>
                <a:gridCol w="1149480"/>
              </a:tblGrid>
              <a:tr h="3373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Municipa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size cl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(inhabitant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Pers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registered *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Inclu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95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undercou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overcou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1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1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perc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1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perc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under 10 0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22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22 947.5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22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303.6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i="1" lang="de-DE" sz="22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1.3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22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634.6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i="1" lang="de-DE" sz="22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2.8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10 000 – 49 99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22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26 112.7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22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348.4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i="1" lang="de-DE" sz="22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1.3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22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900.0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i="1" lang="de-DE" sz="22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3.5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50 000 – 799 99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22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23 944.5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22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509.3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i="1" lang="de-DE" sz="22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2.1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22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1 175.7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i="1" lang="de-DE" sz="22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4.9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800 000 and ove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22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  </a:t>
                      </a:r>
                      <a:r>
                        <a:rPr b="0" lang="de-DE" sz="22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6 980.5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22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207.1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i="1" lang="de-DE" sz="22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3.0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22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527.2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i="1" lang="de-DE" sz="22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7.6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 </a:t>
                      </a: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Tota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22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79 984.9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22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1 368.4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i="1" lang="de-DE" sz="22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1.7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22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3 237.5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i="1" lang="de-DE" sz="22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4.1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468360" y="6330960"/>
            <a:ext cx="4753080" cy="8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MetaNormalLF-Roman"/>
              </a:rPr>
              <a:t>________________</a:t>
            </a:r>
            <a:endParaRPr b="0" lang="en-US" sz="1200" spc="-1" strike="noStrike">
              <a:solidFill>
                <a:srgbClr val="000000"/>
              </a:solidFill>
              <a:latin typeface="MetaNormalLF-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MetaNormalLF-Roman"/>
              </a:rPr>
              <a:t>*) </a:t>
            </a:r>
            <a:r>
              <a:rPr b="0" lang="en-GB" sz="1400" spc="-1" strike="noStrike">
                <a:solidFill>
                  <a:srgbClr val="000000"/>
                </a:solidFill>
                <a:latin typeface="MetaNormalLF-Roman"/>
              </a:rPr>
              <a:t>Persons living in institutional households are excluded.</a:t>
            </a: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CF632-41F6-425F-A309-B041781FF76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280" y="1001520"/>
            <a:ext cx="827748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800" spc="-1" strike="noStrike">
                <a:solidFill>
                  <a:srgbClr val="666666"/>
                </a:solidFill>
                <a:latin typeface="MetaNormalLF-Roman"/>
              </a:rPr>
              <a:t>Test survey for identifying the double entries in the PRs (double-entry check)</a:t>
            </a:r>
            <a:endParaRPr b="1" lang="en-US" sz="2800" spc="-1" strike="noStrike">
              <a:solidFill>
                <a:srgbClr val="666666"/>
              </a:solidFill>
              <a:latin typeface="MetaNormalLF-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24000" y="2154240"/>
            <a:ext cx="8532720" cy="49687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 fontScale="94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MetaNormalLF-Roman"/>
              </a:rPr>
              <a:t>Sampling method:    all persons born on 1</a:t>
            </a:r>
            <a:r>
              <a:rPr b="1" lang="en-GB" sz="2000" spc="-1" strike="noStrike" baseline="30000">
                <a:solidFill>
                  <a:srgbClr val="000000"/>
                </a:solidFill>
                <a:latin typeface="MetaNormalLF-Roman"/>
              </a:rPr>
              <a:t>st</a:t>
            </a:r>
            <a:r>
              <a:rPr b="1" lang="en-GB" sz="2000" spc="-1" strike="noStrike">
                <a:solidFill>
                  <a:srgbClr val="000000"/>
                </a:solidFill>
                <a:latin typeface="MetaNormalLF-Roman"/>
              </a:rPr>
              <a:t> January, 15</a:t>
            </a:r>
            <a:r>
              <a:rPr b="1" lang="en-GB" sz="2000" spc="-1" strike="noStrike" baseline="30000">
                <a:solidFill>
                  <a:srgbClr val="000000"/>
                </a:solidFill>
                <a:latin typeface="MetaNormalLF-Roman"/>
              </a:rPr>
              <a:t>th</a:t>
            </a:r>
            <a:r>
              <a:rPr b="1" lang="en-GB" sz="2000" spc="-1" strike="noStrike">
                <a:solidFill>
                  <a:srgbClr val="000000"/>
                </a:solidFill>
                <a:latin typeface="MetaNormalLF-Roman"/>
              </a:rPr>
              <a:t> May, 15</a:t>
            </a:r>
            <a:r>
              <a:rPr b="1" lang="en-GB" sz="2000" spc="-1" strike="noStrike" baseline="30000">
                <a:solidFill>
                  <a:srgbClr val="000000"/>
                </a:solidFill>
                <a:latin typeface="MetaNormalLF-Roman"/>
              </a:rPr>
              <a:t>th </a:t>
            </a:r>
            <a:r>
              <a:rPr b="1" lang="en-GB" sz="2000" spc="-1" strike="noStrike" baseline="30000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2000" spc="-1" strike="noStrike" baseline="30000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2000" spc="-1" strike="noStrike" baseline="30000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2000" spc="-1" strike="noStrike" baseline="30000">
                <a:solidFill>
                  <a:srgbClr val="000000"/>
                </a:solidFill>
                <a:latin typeface="MetaNormalLF-Roman"/>
              </a:rPr>
              <a:t>         </a:t>
            </a:r>
            <a:r>
              <a:rPr b="1" lang="en-GB" sz="2000" spc="-1" strike="noStrike">
                <a:solidFill>
                  <a:srgbClr val="000000"/>
                </a:solidFill>
                <a:latin typeface="MetaNormalLF-Roman"/>
              </a:rPr>
              <a:t>September or with an incomplete date of birth </a:t>
            </a:r>
            <a:r>
              <a:rPr b="1" lang="en-GB" sz="20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MetaNormalLF-Roman"/>
              </a:rPr>
              <a:t>      (about 21,2% of the population) were sampled </a:t>
            </a:r>
            <a:endParaRPr b="1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MetaNormalLF-Roman"/>
              </a:rPr>
              <a:t>Procedure:</a:t>
            </a:r>
            <a:endParaRPr b="1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MetaNormalLF-Roman"/>
              </a:rPr>
              <a:t>•    </a:t>
            </a:r>
            <a:r>
              <a:rPr b="1" lang="en-GB" sz="2000" spc="-1" strike="noStrike">
                <a:solidFill>
                  <a:srgbClr val="000000"/>
                </a:solidFill>
                <a:latin typeface="MetaNormalLF-Roman"/>
              </a:rPr>
              <a:t>requesting PR records for all sampled persons from all </a:t>
            </a:r>
            <a:r>
              <a:rPr b="1" lang="en-GB" sz="20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MetaNormalLF-Roman"/>
              </a:rPr>
              <a:t>      municipalities (about 970 000 records)</a:t>
            </a:r>
            <a:endParaRPr b="1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MetaNormalLF-Roman"/>
              </a:rPr>
              <a:t>•    </a:t>
            </a:r>
            <a:r>
              <a:rPr b="1" lang="en-GB" sz="2000" spc="-1" strike="noStrike">
                <a:solidFill>
                  <a:srgbClr val="000000"/>
                </a:solidFill>
                <a:latin typeface="MetaNormalLF-Roman"/>
              </a:rPr>
              <a:t>checking for multiple entries with 6 different matching </a:t>
            </a:r>
            <a:r>
              <a:rPr b="1" lang="en-GB" sz="20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MetaNormalLF-Roman"/>
              </a:rPr>
              <a:t>      techniques for identifying duplicates</a:t>
            </a:r>
            <a:endParaRPr b="1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MetaNormalLF-Roman"/>
              </a:rPr>
              <a:t>•    </a:t>
            </a:r>
            <a:r>
              <a:rPr b="1" lang="en-GB" sz="2000" spc="-1" strike="noStrike">
                <a:solidFill>
                  <a:srgbClr val="000000"/>
                </a:solidFill>
                <a:latin typeface="MetaNormalLF-Roman"/>
              </a:rPr>
              <a:t>setting up unclear cases by phone, mail or by field interviews</a:t>
            </a:r>
            <a:endParaRPr b="1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MetaNormalLF-Roman"/>
              </a:rPr>
              <a:t>Main objectives:    </a:t>
            </a:r>
            <a:endParaRPr b="1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MetaNormalLF-Roman"/>
              </a:rPr>
              <a:t>•    </a:t>
            </a:r>
            <a:r>
              <a:rPr b="1" lang="en-GB" sz="2000" spc="-1" strike="noStrike">
                <a:solidFill>
                  <a:srgbClr val="000000"/>
                </a:solidFill>
                <a:latin typeface="MetaNormalLF-Roman"/>
              </a:rPr>
              <a:t>estimating the of number of persons with double entries in the </a:t>
            </a:r>
            <a:r>
              <a:rPr b="1" lang="en-GB" sz="20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MetaNormalLF-Roman"/>
              </a:rPr>
              <a:t>      population registers</a:t>
            </a:r>
            <a:endParaRPr b="1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MetaNormalLF-Roman"/>
              </a:rPr>
              <a:t>•    </a:t>
            </a:r>
            <a:r>
              <a:rPr b="1" lang="en-GB" sz="2000" spc="-1" strike="noStrike">
                <a:solidFill>
                  <a:srgbClr val="000000"/>
                </a:solidFill>
                <a:latin typeface="MetaNormalLF-Roman"/>
              </a:rPr>
              <a:t>improving the matching procedures</a:t>
            </a:r>
            <a:endParaRPr b="1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etaNormalLF-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2568D-EF46-4446-A8EF-74B5059A77D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930240"/>
            <a:ext cx="827712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600" spc="-1" strike="noStrike">
                <a:solidFill>
                  <a:srgbClr val="666666"/>
                </a:solidFill>
                <a:latin typeface="MetaNormalLF-Roman"/>
              </a:rPr>
              <a:t>Results of the double-entry check</a:t>
            </a:r>
            <a:br>
              <a:rPr sz="1600"/>
            </a:br>
            <a:r>
              <a:rPr b="1" lang="en-GB" sz="1600" spc="-1" strike="noStrike">
                <a:solidFill>
                  <a:srgbClr val="666666"/>
                </a:solidFill>
                <a:latin typeface="MetaNormalLF-Roman"/>
              </a:rPr>
              <a:t>Table 3.2</a:t>
            </a:r>
            <a:br>
              <a:rPr sz="1600"/>
            </a:br>
            <a:r>
              <a:rPr b="1" lang="en-GB" sz="1600" spc="-1" strike="noStrike">
                <a:solidFill>
                  <a:srgbClr val="666666"/>
                </a:solidFill>
                <a:latin typeface="MetaNormalLF-Roman"/>
              </a:rPr>
              <a:t>Overcounts in the CPR after checking for (permanent) double entries by municipality size classes (persons at their main place of residence).</a:t>
            </a:r>
            <a:endParaRPr b="1" lang="en-US" sz="1600" spc="-1" strike="noStrike">
              <a:solidFill>
                <a:srgbClr val="666666"/>
              </a:solidFill>
              <a:latin typeface="MetaNormalLF-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539640" y="2081160"/>
          <a:ext cx="8278920" cy="4321080"/>
        </p:xfrm>
        <a:graphic>
          <a:graphicData uri="http://schemas.openxmlformats.org/drawingml/2006/table">
            <a:tbl>
              <a:tblPr/>
              <a:tblGrid>
                <a:gridCol w="1584360"/>
                <a:gridCol w="1224000"/>
                <a:gridCol w="182520"/>
                <a:gridCol w="897120"/>
                <a:gridCol w="792000"/>
                <a:gridCol w="936720"/>
                <a:gridCol w="792000"/>
                <a:gridCol w="1079640"/>
                <a:gridCol w="790560"/>
              </a:tblGrid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Municipa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size cla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(inhabitant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Pers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registered*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Inclu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7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n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Overcount**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cleared up b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double-entry che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remain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overcou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3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1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1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1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under 10 000</a:t>
                      </a:r>
                      <a:r>
                        <a:rPr b="0" lang="de-DE" sz="22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22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23 071.0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22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459.5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i="1" lang="de-DE" sz="22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2.0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22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149.9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i="1" lang="de-DE" sz="22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0.7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22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309.6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i="1" lang="de-DE" sz="22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1.4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10 000 - 49 99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22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26 928.1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22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643.4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i="1" lang="de-DE" sz="22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2.5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22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153.3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i="1" lang="de-DE" sz="22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0.6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22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490.1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i="1" lang="de-DE" sz="22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1.9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50 000 - 799 9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22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24 839.1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22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801.6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i="1" lang="de-DE" sz="22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3.4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22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139.3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i="1" lang="de-DE" sz="22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0.6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22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662.3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i="1" lang="de-DE" sz="22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2.8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800 000 and ove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22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7 342.0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22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416.3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i="1" lang="de-DE" sz="22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6.0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22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43.0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i="1" lang="de-DE" sz="22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0.6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22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373.3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i="1" lang="de-DE" sz="22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5.4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Tot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22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82 180.0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22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2 320.8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i="1" lang="de-DE" sz="22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2.9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22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485.5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i="1" lang="de-DE" sz="22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0.6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22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1 835.3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i="1" lang="de-DE" sz="2200" spc="-1" strike="noStrike">
                          <a:solidFill>
                            <a:srgbClr val="000000"/>
                          </a:solidFill>
                          <a:latin typeface="MetaNormalLF-Roman"/>
                        </a:rPr>
                        <a:t>2.3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MetaNormalLF-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539640" y="6473880"/>
            <a:ext cx="8425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6402240"/>
            <a:ext cx="8280360" cy="6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MetaNormalLF-Roman"/>
              </a:rPr>
              <a:t>_____________</a:t>
            </a:r>
            <a:endParaRPr b="0" lang="en-US" sz="1200" spc="-1" strike="noStrike">
              <a:solidFill>
                <a:srgbClr val="000000"/>
              </a:solidFill>
              <a:latin typeface="MetaNormalLF-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MetaNormalLF-Roman"/>
              </a:rPr>
              <a:t>*) Persons living in institutional households are included. **) Excluding “ temporary“ overcounts.</a:t>
            </a: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006C2-7E12-458F-A322-50AED7EA28C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1072800"/>
            <a:ext cx="827712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400" spc="-1" strike="noStrike">
                <a:solidFill>
                  <a:srgbClr val="666666"/>
                </a:solidFill>
                <a:latin typeface="MetaNormalLF-Roman"/>
              </a:rPr>
              <a:t>Main conclusions from the test surveys:</a:t>
            </a:r>
            <a:endParaRPr b="1" lang="en-US" sz="2400" spc="-1" strike="noStrike">
              <a:solidFill>
                <a:srgbClr val="666666"/>
              </a:solidFill>
              <a:latin typeface="MetaNormalLF-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4920" y="1649520"/>
            <a:ext cx="8278920" cy="525600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 fontScale="93000"/>
          </a:bodyPr>
          <a:p>
            <a:pPr lvl="1" marL="176760" indent="19080">
              <a:lnSpc>
                <a:spcPct val="90000"/>
              </a:lnSpc>
              <a:spcBef>
                <a:spcPts val="476"/>
              </a:spcBef>
              <a:buClr>
                <a:srgbClr val="cc0033"/>
              </a:buClr>
              <a:buSzPct val="80000"/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MetaNormalLF-Roman"/>
              </a:rPr>
              <a:t>   </a:t>
            </a:r>
            <a:r>
              <a:rPr b="1" lang="de-DE" sz="19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1900" spc="-1" strike="noStrike">
                <a:solidFill>
                  <a:srgbClr val="000000"/>
                </a:solidFill>
                <a:latin typeface="MetaNormalLF-Roman"/>
              </a:rPr>
              <a:t>As census results (number of inhabitants) are used for the </a:t>
            </a:r>
            <a:r>
              <a:rPr b="1" lang="en-GB" sz="19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1900" spc="-1" strike="noStrike">
                <a:solidFill>
                  <a:srgbClr val="000000"/>
                </a:solidFill>
                <a:latin typeface="MetaNormalLF-Roman"/>
              </a:rPr>
              <a:t>distribution of funds among the municipalities census results of </a:t>
            </a:r>
            <a:r>
              <a:rPr b="1" lang="en-GB" sz="19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1900" spc="-1" strike="noStrike">
                <a:solidFill>
                  <a:srgbClr val="000000"/>
                </a:solidFill>
                <a:latin typeface="MetaNormalLF-Roman"/>
              </a:rPr>
              <a:t>high accuracy are needed.</a:t>
            </a:r>
            <a:endParaRPr b="1" lang="en-US" sz="19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176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1900" spc="-1" strike="noStrike">
                <a:solidFill>
                  <a:srgbClr val="000000"/>
                </a:solidFill>
                <a:latin typeface="MetaNormalLF-Roman"/>
              </a:rPr>
              <a:t>The test surveys have shown that inhabitant numbers deduced </a:t>
            </a:r>
            <a:r>
              <a:rPr b="1" lang="en-GB" sz="19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1900" spc="-1" strike="noStrike">
                <a:solidFill>
                  <a:srgbClr val="000000"/>
                </a:solidFill>
                <a:latin typeface="MetaNormalLF-Roman"/>
              </a:rPr>
              <a:t>from adjusted PR cannot meet the required accuracy standards: </a:t>
            </a:r>
            <a:endParaRPr b="1" lang="en-US" sz="19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176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1900" spc="-1" strike="noStrike">
                <a:solidFill>
                  <a:srgbClr val="000000"/>
                </a:solidFill>
                <a:latin typeface="MetaNormalLF-Roman"/>
              </a:rPr>
              <a:t>the overcount- undercount rates vary considerably between small </a:t>
            </a:r>
            <a:r>
              <a:rPr b="1" lang="en-GB" sz="19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1900" spc="-1" strike="noStrike">
                <a:solidFill>
                  <a:srgbClr val="000000"/>
                </a:solidFill>
                <a:latin typeface="MetaNormalLF-Roman"/>
              </a:rPr>
              <a:t>towns and big cities.</a:t>
            </a:r>
            <a:endParaRPr b="1" lang="en-US" sz="19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176760" indent="19080">
              <a:lnSpc>
                <a:spcPct val="90000"/>
              </a:lnSpc>
              <a:spcBef>
                <a:spcPts val="476"/>
              </a:spcBef>
              <a:buClr>
                <a:srgbClr val="cc0033"/>
              </a:buClr>
              <a:buSzPct val="80000"/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MetaNormalLF-Roman"/>
              </a:rPr>
              <a:t>   </a:t>
            </a:r>
            <a:r>
              <a:rPr b="1" lang="en-GB" sz="19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1900" spc="-1" strike="noStrike">
                <a:solidFill>
                  <a:srgbClr val="000000"/>
                </a:solidFill>
                <a:latin typeface="MetaNormalLF-Roman"/>
              </a:rPr>
              <a:t>It is therefore proposed to complete the tested model of a register-</a:t>
            </a:r>
            <a:r>
              <a:rPr b="1" lang="en-GB" sz="19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1900" spc="-1" strike="noStrike">
                <a:solidFill>
                  <a:srgbClr val="000000"/>
                </a:solidFill>
                <a:latin typeface="MetaNormalLF-Roman"/>
              </a:rPr>
              <a:t>based census with a sample survey. This supplementary sample </a:t>
            </a:r>
            <a:r>
              <a:rPr b="1" lang="en-GB" sz="19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1900" spc="-1" strike="noStrike">
                <a:solidFill>
                  <a:srgbClr val="000000"/>
                </a:solidFill>
                <a:latin typeface="MetaNormalLF-Roman"/>
              </a:rPr>
              <a:t>survey has to serve 2 purposes: </a:t>
            </a:r>
            <a:endParaRPr b="1" lang="en-US" sz="1900" spc="-1" strike="noStrike">
              <a:solidFill>
                <a:srgbClr val="000000"/>
              </a:solidFill>
              <a:latin typeface="MetaNormalLF-Roman"/>
            </a:endParaRPr>
          </a:p>
          <a:p>
            <a:pPr lvl="2" marL="1239840" indent="-222840">
              <a:lnSpc>
                <a:spcPct val="90000"/>
              </a:lnSpc>
              <a:spcBef>
                <a:spcPts val="476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MetaNormalLF-Roman"/>
              </a:rPr>
              <a:t>Estimation of the number of overcounts and undercounts for each municipality (with an accuracy of at least +-1%, given a probability of 95%)</a:t>
            </a:r>
            <a:endParaRPr b="1" lang="en-US" sz="1900" spc="-1" strike="noStrike">
              <a:solidFill>
                <a:srgbClr val="000000"/>
              </a:solidFill>
              <a:latin typeface="MetaNormalLF-Roman"/>
            </a:endParaRPr>
          </a:p>
          <a:p>
            <a:pPr lvl="2" marL="1239840" indent="-222840">
              <a:lnSpc>
                <a:spcPct val="90000"/>
              </a:lnSpc>
              <a:spcBef>
                <a:spcPts val="476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MetaNormalLF-Roman"/>
              </a:rPr>
              <a:t>Collection of additional census variables missing in the registers</a:t>
            </a:r>
            <a:endParaRPr b="1" lang="en-US" sz="19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176760" indent="19080">
              <a:lnSpc>
                <a:spcPct val="90000"/>
              </a:lnSpc>
              <a:spcBef>
                <a:spcPts val="476"/>
              </a:spcBef>
              <a:buClr>
                <a:srgbClr val="cc0033"/>
              </a:buClr>
              <a:buSzPct val="80000"/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MetaNormalLF-Roman"/>
              </a:rPr>
              <a:t>           </a:t>
            </a:r>
            <a:r>
              <a:rPr b="1" lang="en-GB" sz="1900" spc="-1" strike="noStrike">
                <a:solidFill>
                  <a:srgbClr val="000000"/>
                </a:solidFill>
                <a:latin typeface="MetaNormalLF-Roman"/>
              </a:rPr>
              <a:t>It is suggested that the sample survey should provide reliable </a:t>
            </a:r>
            <a:r>
              <a:rPr b="1" lang="en-GB" sz="19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1900" spc="-1" strike="noStrike">
                <a:solidFill>
                  <a:srgbClr val="000000"/>
                </a:solidFill>
                <a:latin typeface="MetaNormalLF-Roman"/>
              </a:rPr>
              <a:t>results only for municipalities with 10 000 and more inhabitants</a:t>
            </a:r>
            <a:endParaRPr b="1" lang="en-US" sz="19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176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1900" spc="-1" strike="noStrike">
                <a:solidFill>
                  <a:srgbClr val="000000"/>
                </a:solidFill>
                <a:latin typeface="MetaNormalLF-Roman"/>
              </a:rPr>
              <a:t>(necessary sample size: about 6 mill. persons) </a:t>
            </a:r>
            <a:endParaRPr b="1" lang="en-US" sz="1900" spc="-1" strike="noStrike">
              <a:solidFill>
                <a:srgbClr val="000000"/>
              </a:solidFill>
              <a:latin typeface="MetaNormalLF-Roman"/>
            </a:endParaRPr>
          </a:p>
          <a:p>
            <a:pPr lvl="3" marL="16491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9E957-0317-4EFD-AA49-4923408F7DD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92120" y="1015920"/>
            <a:ext cx="8299440" cy="64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MetaNormalLF-Roman"/>
              </a:rPr>
              <a:t>Strengths and weaknesses of the new census method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MetaNormalLF-Roman"/>
              </a:rPr>
              <a:t>Strengths</a:t>
            </a:r>
            <a:r>
              <a:rPr b="0" lang="en-GB" sz="2200" spc="-1" strike="noStrike">
                <a:solidFill>
                  <a:srgbClr val="000000"/>
                </a:solidFill>
                <a:latin typeface="MetaNormalLF-Roman"/>
              </a:rPr>
              <a:t>:         </a:t>
            </a:r>
            <a:r>
              <a:rPr b="1" lang="en-GB" sz="2200" spc="-1" strike="noStrike">
                <a:solidFill>
                  <a:srgbClr val="000000"/>
                </a:solidFill>
                <a:latin typeface="MetaNormalLF-Roman"/>
              </a:rPr>
              <a:t>•  the new data collection method will be much </a:t>
            </a:r>
            <a:r>
              <a:rPr b="1" lang="en-GB" sz="22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MetaNormalLF-Roman"/>
              </a:rPr>
              <a:t>    cheaper (estimated costs: EUR 336 million, of   </a:t>
            </a:r>
            <a:r>
              <a:rPr b="1" lang="en-GB" sz="22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MetaNormalLF-Roman"/>
              </a:rPr>
              <a:t>    which costs for the housing census: EUR 250 </a:t>
            </a:r>
            <a:r>
              <a:rPr b="1" lang="en-GB" sz="22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MetaNormalLF-Roman"/>
              </a:rPr>
              <a:t>    million) than a traditional census (estimated </a:t>
            </a:r>
            <a:r>
              <a:rPr b="1" lang="en-GB" sz="22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MetaNormalLF-Roman"/>
              </a:rPr>
              <a:t>    costs: EUR 1 020 million)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MetaNormalLF-Roman"/>
              </a:rPr>
              <a:t>              •  </a:t>
            </a:r>
            <a:r>
              <a:rPr b="1" lang="en-GB" sz="2200" spc="-1" strike="noStrike">
                <a:solidFill>
                  <a:srgbClr val="000000"/>
                </a:solidFill>
                <a:latin typeface="MetaNormalLF-Roman"/>
              </a:rPr>
              <a:t>the new approach will involve a much smaller </a:t>
            </a:r>
            <a:r>
              <a:rPr b="1" lang="en-GB" sz="22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MetaNormalLF-Roman"/>
              </a:rPr>
              <a:t>    response burden on the citizens (in total about 27 </a:t>
            </a:r>
            <a:r>
              <a:rPr b="1" lang="en-GB" sz="22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MetaNormalLF-Roman"/>
              </a:rPr>
              <a:t>    million respondents) than a complete </a:t>
            </a:r>
            <a:r>
              <a:rPr b="1" lang="en-GB" sz="22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MetaNormalLF-Roman"/>
              </a:rPr>
              <a:t>    enumeration of the population (about 82 million </a:t>
            </a:r>
            <a:r>
              <a:rPr b="1" lang="en-GB" sz="22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MetaNormalLF-Roman"/>
              </a:rPr>
              <a:t>    respondents)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MetaNormalLF-Roman"/>
              </a:rPr>
              <a:t>Weaknesses:     • the main disadvantage of the new approach is </a:t>
            </a:r>
            <a:r>
              <a:rPr b="1" lang="en-GB" sz="22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MetaNormalLF-Roman"/>
              </a:rPr>
              <a:t>    that it cannot guarantee full census information </a:t>
            </a:r>
            <a:r>
              <a:rPr b="1" lang="en-GB" sz="22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MetaNormalLF-Roman"/>
              </a:rPr>
              <a:t>    for small municipalities and reliable </a:t>
            </a:r>
            <a:r>
              <a:rPr b="1" lang="en-GB" sz="2000" spc="-1" strike="noStrike">
                <a:solidFill>
                  <a:srgbClr val="000000"/>
                </a:solidFill>
                <a:latin typeface="MetaNormalLF-Roman"/>
              </a:rPr>
              <a:t>census</a:t>
            </a:r>
            <a:r>
              <a:rPr b="1" lang="en-GB" sz="22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MetaNormalLF-Roman"/>
              </a:rPr>
              <a:t>   </a:t>
            </a:r>
            <a:r>
              <a:rPr b="1" lang="en-GB" sz="22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MetaNormalLF-Roman"/>
              </a:rPr>
              <a:t>    results for local units below the municipality level.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MetaNormalLF-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C5D9A-FFF5-46B5-A79D-CB6D4E7D2BD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52440" y="1523880"/>
            <a:ext cx="8299440" cy="48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MetaNormalLF-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MetaNormalLF-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NormalLF-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MetaNormalLF-Roman"/>
              </a:rPr>
              <a:t>very much for</a:t>
            </a:r>
            <a:r>
              <a:rPr b="1" lang="en-GB" sz="3600" spc="-1" strike="noStrike">
                <a:solidFill>
                  <a:srgbClr val="000000"/>
                </a:solidFill>
                <a:latin typeface="MetaNormalLF-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MetaNormalLF-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etaNormalLF-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MetaNormalLF-Roman"/>
              </a:rPr>
              <a:t>your attention</a:t>
            </a:r>
            <a:endParaRPr b="0" lang="en-US" sz="40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0D477-F017-4A32-B898-A201BA74642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28600" y="1015920"/>
            <a:ext cx="8686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640" y="1001520"/>
            <a:ext cx="806472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3200" spc="-1" strike="noStrike">
                <a:solidFill>
                  <a:srgbClr val="666666"/>
                </a:solidFill>
                <a:latin typeface="MetaNormalLF-Roman"/>
              </a:rPr>
              <a:t>Census variables stored in the </a:t>
            </a:r>
            <a:br>
              <a:rPr sz="3200"/>
            </a:br>
            <a:r>
              <a:rPr b="1" lang="en-GB" sz="3200" spc="-1" strike="noStrike">
                <a:solidFill>
                  <a:srgbClr val="666666"/>
                </a:solidFill>
                <a:latin typeface="MetaNormalLF-Roman"/>
              </a:rPr>
              <a:t>Population Registers</a:t>
            </a:r>
            <a:endParaRPr b="1" lang="en-US" sz="3200" spc="-1" strike="noStrike">
              <a:solidFill>
                <a:srgbClr val="666666"/>
              </a:solidFill>
              <a:latin typeface="MetaNormalLF-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000" y="2153880"/>
            <a:ext cx="8278920" cy="475308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MetaNormalLF-Roman"/>
              </a:rPr>
              <a:t>•    </a:t>
            </a:r>
            <a:r>
              <a:rPr b="1" lang="en-GB" sz="2400" spc="-1" strike="noStrike">
                <a:solidFill>
                  <a:srgbClr val="000000"/>
                </a:solidFill>
                <a:latin typeface="MetaNormalLF-Roman"/>
              </a:rPr>
              <a:t>Demographic variables:</a:t>
            </a:r>
            <a:endParaRPr b="1" lang="en-US" sz="2400" spc="-1" strike="noStrike">
              <a:solidFill>
                <a:srgbClr val="000000"/>
              </a:solidFill>
              <a:latin typeface="MetaNormalLF-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MetaNormalLF-Roman"/>
              </a:rPr>
              <a:t>•    </a:t>
            </a:r>
            <a:r>
              <a:rPr b="1" lang="en-GB" sz="2400" spc="-1" strike="noStrike">
                <a:solidFill>
                  <a:srgbClr val="000000"/>
                </a:solidFill>
                <a:latin typeface="MetaNormalLF-Roman"/>
              </a:rPr>
              <a:t>sex</a:t>
            </a:r>
            <a:endParaRPr b="1" lang="en-US" sz="2400" spc="-1" strike="noStrike">
              <a:solidFill>
                <a:srgbClr val="000000"/>
              </a:solidFill>
              <a:latin typeface="MetaNormalLF-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MetaNormalLF-Roman"/>
              </a:rPr>
              <a:t>•    </a:t>
            </a:r>
            <a:r>
              <a:rPr b="1" lang="en-GB" sz="2400" spc="-1" strike="noStrike">
                <a:solidFill>
                  <a:srgbClr val="000000"/>
                </a:solidFill>
                <a:latin typeface="MetaNormalLF-Roman"/>
              </a:rPr>
              <a:t>age</a:t>
            </a:r>
            <a:endParaRPr b="1" lang="en-US" sz="2400" spc="-1" strike="noStrike">
              <a:solidFill>
                <a:srgbClr val="000000"/>
              </a:solidFill>
              <a:latin typeface="MetaNormalLF-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MetaNormalLF-Roman"/>
              </a:rPr>
              <a:t>•    </a:t>
            </a:r>
            <a:r>
              <a:rPr b="1" lang="en-GB" sz="2400" spc="-1" strike="noStrike">
                <a:solidFill>
                  <a:srgbClr val="000000"/>
                </a:solidFill>
                <a:latin typeface="MetaNormalLF-Roman"/>
              </a:rPr>
              <a:t>legal marital status</a:t>
            </a:r>
            <a:endParaRPr b="1" lang="en-US" sz="2400" spc="-1" strike="noStrike">
              <a:solidFill>
                <a:srgbClr val="000000"/>
              </a:solidFill>
              <a:latin typeface="MetaNormalLF-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MetaNormalLF-Roman"/>
              </a:rPr>
              <a:t>•    </a:t>
            </a:r>
            <a:r>
              <a:rPr b="1" lang="en-GB" sz="2400" spc="-1" strike="noStrike">
                <a:solidFill>
                  <a:srgbClr val="000000"/>
                </a:solidFill>
                <a:latin typeface="MetaNormalLF-Roman"/>
              </a:rPr>
              <a:t>country of citizenship</a:t>
            </a:r>
            <a:endParaRPr b="1" lang="en-US" sz="2400" spc="-1" strike="noStrike">
              <a:solidFill>
                <a:srgbClr val="000000"/>
              </a:solidFill>
              <a:latin typeface="MetaNormalLF-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MetaNormalLF-Roman"/>
              </a:rPr>
              <a:t>•    </a:t>
            </a:r>
            <a:r>
              <a:rPr b="1" lang="en-GB" sz="2400" spc="-1" strike="noStrike">
                <a:solidFill>
                  <a:srgbClr val="000000"/>
                </a:solidFill>
                <a:latin typeface="MetaNormalLF-Roman"/>
              </a:rPr>
              <a:t>country/place of birth</a:t>
            </a:r>
            <a:endParaRPr b="1" lang="en-US" sz="2400" spc="-1" strike="noStrike">
              <a:solidFill>
                <a:srgbClr val="000000"/>
              </a:solidFill>
              <a:latin typeface="MetaNormalLF-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MetaNormalLF-Roman"/>
              </a:rPr>
              <a:t>•    </a:t>
            </a:r>
            <a:r>
              <a:rPr b="1" lang="en-GB" sz="2400" spc="-1" strike="noStrike">
                <a:solidFill>
                  <a:srgbClr val="000000"/>
                </a:solidFill>
                <a:latin typeface="MetaNormalLF-Roman"/>
              </a:rPr>
              <a:t>religious affiliation</a:t>
            </a:r>
            <a:endParaRPr b="1" lang="en-US" sz="2400" spc="-1" strike="noStrike">
              <a:solidFill>
                <a:srgbClr val="000000"/>
              </a:solidFill>
              <a:latin typeface="MetaNormalLF-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00"/>
              </a:solidFill>
              <a:latin typeface="MetaNormalLF-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MetaNormalLF-Roman"/>
              </a:rPr>
              <a:t>•    </a:t>
            </a:r>
            <a:r>
              <a:rPr b="1" lang="en-GB" sz="2400" spc="-1" strike="noStrike">
                <a:solidFill>
                  <a:srgbClr val="000000"/>
                </a:solidFill>
                <a:latin typeface="MetaNormalLF-Roman"/>
              </a:rPr>
              <a:t>Geographic variables</a:t>
            </a:r>
            <a:endParaRPr b="1" lang="en-US" sz="2400" spc="-1" strike="noStrike">
              <a:solidFill>
                <a:srgbClr val="000000"/>
              </a:solidFill>
              <a:latin typeface="MetaNormalLF-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MetaNormalLF-Roman"/>
              </a:rPr>
              <a:t>•    </a:t>
            </a:r>
            <a:r>
              <a:rPr b="1" lang="en-GB" sz="2400" spc="-1" strike="noStrike">
                <a:solidFill>
                  <a:srgbClr val="000000"/>
                </a:solidFill>
                <a:latin typeface="MetaNormalLF-Roman"/>
              </a:rPr>
              <a:t>place of usual residence </a:t>
            </a:r>
            <a:r>
              <a:rPr b="1" lang="de-DE" sz="1500" spc="-1" strike="noStrike">
                <a:solidFill>
                  <a:srgbClr val="000000"/>
                </a:solidFill>
                <a:latin typeface="MetaNormalLF-Roman"/>
              </a:rPr>
              <a:t>	</a:t>
            </a:r>
            <a:endParaRPr b="1" lang="en-US" sz="15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7578B-FAC8-460A-9414-2A1541EF4BF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1001880"/>
            <a:ext cx="84247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800" spc="-1" strike="noStrike">
                <a:solidFill>
                  <a:srgbClr val="666666"/>
                </a:solidFill>
                <a:latin typeface="MetaNormalLF-Roman"/>
              </a:rPr>
              <a:t>The most important element of the German census method is the use of a combination of administrative registers and surveys as data sources</a:t>
            </a:r>
            <a:br>
              <a:rPr sz="2800"/>
            </a:br>
            <a:endParaRPr b="1" lang="en-US" sz="2800" spc="-1" strike="noStrike">
              <a:solidFill>
                <a:srgbClr val="666666"/>
              </a:solidFill>
              <a:latin typeface="MetaNormalLF-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9280" y="3017880"/>
            <a:ext cx="7489800" cy="375768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 fontScale="94000"/>
          </a:bodyPr>
          <a:p>
            <a:pPr indent="0">
              <a:spcBef>
                <a:spcPts val="9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MetaNormalLF-Roman"/>
              </a:rPr>
              <a:t>The main data sources are:</a:t>
            </a:r>
            <a:endParaRPr b="1" lang="en-US" sz="3800" spc="-1" strike="noStrike">
              <a:solidFill>
                <a:srgbClr val="000000"/>
              </a:solidFill>
              <a:latin typeface="MetaNormalLF-Roman"/>
            </a:endParaRPr>
          </a:p>
          <a:p>
            <a:pPr indent="0">
              <a:spcBef>
                <a:spcPts val="9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MetaNormalLF-Roman"/>
              </a:rPr>
              <a:t>•    </a:t>
            </a:r>
            <a:r>
              <a:rPr b="1" lang="en-GB" sz="3800" spc="-1" strike="noStrike">
                <a:solidFill>
                  <a:srgbClr val="000000"/>
                </a:solidFill>
                <a:latin typeface="MetaNormalLF-Roman"/>
              </a:rPr>
              <a:t>Population registers</a:t>
            </a:r>
            <a:endParaRPr b="1" lang="en-US" sz="3800" spc="-1" strike="noStrike">
              <a:solidFill>
                <a:srgbClr val="000000"/>
              </a:solidFill>
              <a:latin typeface="MetaNormalLF-Roman"/>
            </a:endParaRPr>
          </a:p>
          <a:p>
            <a:pPr indent="0">
              <a:spcBef>
                <a:spcPts val="9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MetaNormalLF-Roman"/>
              </a:rPr>
              <a:t>•    </a:t>
            </a:r>
            <a:r>
              <a:rPr b="1" lang="en-GB" sz="3800" spc="-1" strike="noStrike">
                <a:solidFill>
                  <a:srgbClr val="000000"/>
                </a:solidFill>
                <a:latin typeface="MetaNormalLF-Roman"/>
              </a:rPr>
              <a:t>Employees registers</a:t>
            </a:r>
            <a:endParaRPr b="1" lang="en-US" sz="3800" spc="-1" strike="noStrike">
              <a:solidFill>
                <a:srgbClr val="000000"/>
              </a:solidFill>
              <a:latin typeface="MetaNormalLF-Roman"/>
            </a:endParaRPr>
          </a:p>
          <a:p>
            <a:pPr indent="0">
              <a:spcBef>
                <a:spcPts val="9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MetaNormalLF-Roman"/>
              </a:rPr>
              <a:t>•    </a:t>
            </a:r>
            <a:r>
              <a:rPr b="1" lang="en-GB" sz="3800" spc="-1" strike="noStrike">
                <a:solidFill>
                  <a:srgbClr val="000000"/>
                </a:solidFill>
                <a:latin typeface="MetaNormalLF-Roman"/>
              </a:rPr>
              <a:t>Housing census (postal survey)</a:t>
            </a:r>
            <a:endParaRPr b="1" lang="en-US" sz="3800" spc="-1" strike="noStrike">
              <a:solidFill>
                <a:srgbClr val="000000"/>
              </a:solidFill>
              <a:latin typeface="MetaNormalLF-Roman"/>
            </a:endParaRPr>
          </a:p>
          <a:p>
            <a:pPr indent="0">
              <a:spcBef>
                <a:spcPts val="9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MetaNormalLF-Roman"/>
              </a:rPr>
              <a:t>•    </a:t>
            </a:r>
            <a:r>
              <a:rPr b="1" lang="en-GB" sz="3800" spc="-1" strike="noStrike">
                <a:solidFill>
                  <a:srgbClr val="000000"/>
                </a:solidFill>
                <a:latin typeface="MetaNormalLF-Roman"/>
              </a:rPr>
              <a:t>Sample survey</a:t>
            </a:r>
            <a:endParaRPr b="1" lang="en-US" sz="3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D2825-06F7-4214-AF1A-E529C84912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217520"/>
            <a:ext cx="827712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3200" spc="-1" strike="noStrike">
                <a:solidFill>
                  <a:srgbClr val="666666"/>
                </a:solidFill>
                <a:latin typeface="MetaNormalLF-Roman"/>
              </a:rPr>
              <a:t>The main features of the Population Registers</a:t>
            </a:r>
            <a:endParaRPr b="1" lang="en-US" sz="3200" spc="-1" strike="noStrike">
              <a:solidFill>
                <a:srgbClr val="666666"/>
              </a:solidFill>
              <a:latin typeface="MetaNormalLF-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2009880"/>
            <a:ext cx="9144000" cy="440352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 fontScale="89000"/>
          </a:bodyPr>
          <a:p>
            <a:pPr marL="430920" indent="0">
              <a:spcBef>
                <a:spcPts val="75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MetaNormalLF-Roman"/>
              </a:rPr>
              <a:t>•</a:t>
            </a:r>
            <a:r>
              <a:rPr b="1" lang="en-GB" sz="30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MetaNormalLF-Roman"/>
              </a:rPr>
              <a:t>Population registers (PRs) are kept decentrally by the municipalities (about 13 500 municipalities).</a:t>
            </a:r>
            <a:endParaRPr b="1" lang="en-US" sz="3000" spc="-1" strike="noStrike">
              <a:solidFill>
                <a:srgbClr val="000000"/>
              </a:solidFill>
              <a:latin typeface="MetaNormalLF-Roman"/>
            </a:endParaRPr>
          </a:p>
          <a:p>
            <a:pPr marL="430920" indent="0">
              <a:spcBef>
                <a:spcPts val="75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MetaNormalLF-Roman"/>
              </a:rPr>
              <a:t>•</a:t>
            </a:r>
            <a:r>
              <a:rPr b="1" lang="en-GB" sz="30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MetaNormalLF-Roman"/>
              </a:rPr>
              <a:t>Every person living in a municipality is legally obliged to register in the PR </a:t>
            </a:r>
            <a:endParaRPr b="1" lang="en-US" sz="3000" spc="-1" strike="noStrike">
              <a:solidFill>
                <a:srgbClr val="000000"/>
              </a:solidFill>
              <a:latin typeface="MetaNormalLF-Roman"/>
            </a:endParaRPr>
          </a:p>
          <a:p>
            <a:pPr marL="430920" indent="0">
              <a:spcBef>
                <a:spcPts val="75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MetaNormalLF-Roman"/>
              </a:rPr>
              <a:t>• </a:t>
            </a:r>
            <a:r>
              <a:rPr b="1" lang="en-GB" sz="30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MetaNormalLF-Roman"/>
              </a:rPr>
              <a:t>There is no central population register.</a:t>
            </a:r>
            <a:endParaRPr b="1" lang="en-US" sz="3000" spc="-1" strike="noStrike">
              <a:solidFill>
                <a:srgbClr val="000000"/>
              </a:solidFill>
              <a:latin typeface="MetaNormalLF-Roman"/>
            </a:endParaRPr>
          </a:p>
          <a:p>
            <a:pPr marL="430920" indent="0">
              <a:spcBef>
                <a:spcPts val="75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MetaNormalLF-Roman"/>
              </a:rPr>
              <a:t>•</a:t>
            </a:r>
            <a:r>
              <a:rPr b="1" lang="en-GB" sz="30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MetaNormalLF-Roman"/>
              </a:rPr>
              <a:t>There is no ID-number stored in the PRs.</a:t>
            </a:r>
            <a:endParaRPr b="1" lang="en-US" sz="3000" spc="-1" strike="noStrike">
              <a:solidFill>
                <a:srgbClr val="000000"/>
              </a:solidFill>
              <a:latin typeface="MetaNormalLF-Roman"/>
            </a:endParaRPr>
          </a:p>
          <a:p>
            <a:pPr marL="430920" indent="0">
              <a:spcBef>
                <a:spcPts val="75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MetaNormalLF-Roman"/>
              </a:rPr>
              <a:t>•</a:t>
            </a:r>
            <a:r>
              <a:rPr b="1" lang="en-GB" sz="30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MetaNormalLF-Roman"/>
              </a:rPr>
              <a:t>Most of the characteristics and their values stored in the PRs are standardised by federal law.</a:t>
            </a:r>
            <a:endParaRPr b="1" lang="en-US" sz="30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67144-EC9A-4465-BBC4-E4F4FDB385C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79280" y="930240"/>
            <a:ext cx="878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MetaNormalLF-Roman"/>
              </a:rPr>
              <a:t>Additional variables stored in the PRs which can be used to group persons together to form families/households</a:t>
            </a: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2657520"/>
            <a:ext cx="9144000" cy="48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76280" indent="-32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MetaNormalLF-Roman"/>
              </a:rPr>
              <a:t>family name, first names and date of birth of the </a:t>
            </a:r>
            <a:r>
              <a:rPr b="0" lang="en-GB" sz="28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MetaNormalLF-Roman"/>
              </a:rPr>
              <a:t>spouse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476280" indent="-32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MetaNormalLF-Roman"/>
              </a:rPr>
              <a:t>family name, first names and date of birth of the </a:t>
            </a:r>
            <a:r>
              <a:rPr b="0" lang="en-GB" sz="28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MetaNormalLF-Roman"/>
              </a:rPr>
              <a:t>children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476280" indent="-32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MetaNormalLF-Roman"/>
              </a:rPr>
              <a:t>only for children (aged under 27 years): family name, </a:t>
            </a:r>
            <a:r>
              <a:rPr b="0" lang="en-GB" sz="28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MetaNormalLF-Roman"/>
              </a:rPr>
              <a:t>first names and date of birth of the parents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476280" indent="-32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MetaNormalLF-Roman"/>
              </a:rPr>
              <a:t>address of the previous place of residence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476280" indent="-32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MetaNormalLF-Roman"/>
              </a:rPr>
              <a:t>date of moving to the current dwelling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05656-4E04-4B6B-B816-A511555DF03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838080" y="5538960"/>
            <a:ext cx="611028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spcBef>
                <a:spcPts val="1375"/>
              </a:spcBef>
              <a:buClr>
                <a:srgbClr val="000000"/>
              </a:buClr>
              <a:buFont typeface="MetaNormalLF-Roman"/>
              <a:buChar char="•"/>
              <a:tabLst>
                <a:tab algn="l" pos="27936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MetaNormalLF-Roman"/>
              </a:rPr>
              <a:t>Civil servants, army personnel and judges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279360" indent="-279360">
              <a:spcBef>
                <a:spcPts val="1375"/>
              </a:spcBef>
              <a:tabLst>
                <a:tab algn="l" pos="0"/>
                <a:tab algn="l" pos="27936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825480"/>
            <a:ext cx="8458200" cy="15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MetaNormalLF-Roman"/>
              </a:rPr>
              <a:t>Coverage of the employees registers</a:t>
            </a: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  <a:p>
            <a:pPr marL="380880" indent="-3808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MetaNormalLF-Roman"/>
              </a:rPr>
              <a:t>A. </a:t>
            </a:r>
            <a:r>
              <a:rPr b="1" lang="en-GB" sz="26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2600" spc="-1" strike="noStrike">
                <a:solidFill>
                  <a:srgbClr val="000000"/>
                </a:solidFill>
                <a:latin typeface="MetaNormalLF-Roman"/>
              </a:rPr>
              <a:t>Employees Registers maintained by the Federal Employment Agency (FEA)</a:t>
            </a:r>
            <a:endParaRPr b="0" lang="en-US" sz="26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2422440"/>
            <a:ext cx="769644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375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MetaNormalLF-Roman"/>
              </a:rPr>
              <a:t>All employed persons subject to obligatory insurance contributions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285840" indent="-285840">
              <a:spcBef>
                <a:spcPts val="1375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MetaNormalLF-Roman"/>
              </a:rPr>
              <a:t>All persons registered as unemployed at the labour administration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285840" indent="-285840">
              <a:spcBef>
                <a:spcPts val="1375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MetaNormalLF-Roman"/>
              </a:rPr>
              <a:t>All persons attending a vocational training programme of the German  Federal Employment Agency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4962600"/>
            <a:ext cx="842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MetaNormalLF-Roman"/>
              </a:rPr>
              <a:t>B.</a:t>
            </a:r>
            <a:r>
              <a:rPr b="1" lang="en-GB" sz="26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2600" spc="-1" strike="noStrike">
                <a:solidFill>
                  <a:srgbClr val="000000"/>
                </a:solidFill>
                <a:latin typeface="MetaNormalLF-Roman"/>
              </a:rPr>
              <a:t>Other administrative employees registers</a:t>
            </a:r>
            <a:endParaRPr b="0" lang="en-US" sz="26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6095880"/>
            <a:ext cx="8458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25760" indent="-1625760">
              <a:spcBef>
                <a:spcPts val="13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00000"/>
                </a:solidFill>
                <a:uFillTx/>
                <a:latin typeface="MetaNormalLF-Roman"/>
              </a:rPr>
              <a:t>Not covered</a:t>
            </a:r>
            <a:r>
              <a:rPr b="1" lang="en-GB" sz="2200" spc="-1" strike="noStrike">
                <a:solidFill>
                  <a:srgbClr val="000000"/>
                </a:solidFill>
                <a:latin typeface="MetaNormalLF-Roman"/>
              </a:rPr>
              <a:t>: </a:t>
            </a:r>
            <a:r>
              <a:rPr b="1" lang="en-GB" sz="22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MetaNormalLF-Roman"/>
              </a:rPr>
              <a:t>self-employed persons and contributing family workers (= 10% of economically active population)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A87A5-981C-4ED1-A59B-74C5E37C152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28600" y="990720"/>
            <a:ext cx="8686800" cy="57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MetaNormalLF-Roman"/>
              </a:rPr>
              <a:t>A. </a:t>
            </a:r>
            <a:r>
              <a:rPr b="1" lang="en-GB" sz="24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MetaNormalLF-Roman"/>
              </a:rPr>
              <a:t>Census variables which can be obtained from the employees registers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781200" indent="-2095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MetaNormalLF-Roman"/>
              </a:rPr>
              <a:t>Economic variables</a:t>
            </a:r>
            <a:endParaRPr b="0" lang="en-US" sz="1800" spc="-1" strike="noStrike">
              <a:solidFill>
                <a:srgbClr val="000000"/>
              </a:solidFill>
              <a:latin typeface="MetaNormalLF-Roman"/>
            </a:endParaRPr>
          </a:p>
          <a:p>
            <a:pPr lvl="2" marL="1047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etaNormalLF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MetaNormalLF-Roman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MetaNormalLF-Roman"/>
              </a:rPr>
              <a:t>current activity status (employed, unemployed) </a:t>
            </a:r>
            <a:endParaRPr b="0" lang="en-US" sz="1600" spc="-1" strike="noStrike">
              <a:solidFill>
                <a:srgbClr val="000000"/>
              </a:solidFill>
              <a:latin typeface="MetaNormalLF-Roman"/>
            </a:endParaRPr>
          </a:p>
          <a:p>
            <a:pPr lvl="2" marL="1047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etaNormalLF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MetaNormalLF-Roman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MetaNormalLF-Roman"/>
              </a:rPr>
              <a:t>occupation</a:t>
            </a:r>
            <a:endParaRPr b="0" lang="en-US" sz="1600" spc="-1" strike="noStrike">
              <a:solidFill>
                <a:srgbClr val="000000"/>
              </a:solidFill>
              <a:latin typeface="MetaNormalLF-Roman"/>
            </a:endParaRPr>
          </a:p>
          <a:p>
            <a:pPr lvl="2" marL="1047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etaNormalLF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MetaNormalLF-Roman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MetaNormalLF-Roman"/>
              </a:rPr>
              <a:t>industry </a:t>
            </a:r>
            <a:endParaRPr b="0" lang="en-US" sz="1600" spc="-1" strike="noStrike">
              <a:solidFill>
                <a:srgbClr val="000000"/>
              </a:solidFill>
              <a:latin typeface="MetaNormalLF-Roman"/>
            </a:endParaRPr>
          </a:p>
          <a:p>
            <a:pPr lvl="2" marL="1047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etaNormalLF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MetaNormalLF-Roman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MetaNormalLF-Roman"/>
              </a:rPr>
              <a:t>time usually worked (full/part time) </a:t>
            </a:r>
            <a:endParaRPr b="0" lang="en-US" sz="1600" spc="-1" strike="noStrike">
              <a:solidFill>
                <a:srgbClr val="000000"/>
              </a:solidFill>
              <a:latin typeface="MetaNormalLF-Roman"/>
            </a:endParaRPr>
          </a:p>
          <a:p>
            <a:pPr lvl="2" marL="1047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etaNormalLF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MetaNormalLF-Roman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MetaNormalLF-Roman"/>
              </a:rPr>
              <a:t>status in employment (apprentice, wage earner, salaried employee) </a:t>
            </a:r>
            <a:endParaRPr b="0" lang="en-US" sz="1600" spc="-1" strike="noStrike">
              <a:solidFill>
                <a:srgbClr val="000000"/>
              </a:solidFill>
              <a:latin typeface="MetaNormalLF-Roman"/>
            </a:endParaRPr>
          </a:p>
          <a:p>
            <a:pPr lvl="2" marL="1047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etaNormalLF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MetaNormalLF-Roman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MetaNormalLF-Roman"/>
              </a:rPr>
              <a:t>place of work </a:t>
            </a:r>
            <a:endParaRPr b="0" lang="en-US" sz="16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781200" indent="-2095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MetaNormalLF-Roman"/>
              </a:rPr>
              <a:t>Educational variable</a:t>
            </a:r>
            <a:endParaRPr b="0" lang="en-US" sz="1800" spc="-1" strike="noStrike">
              <a:solidFill>
                <a:srgbClr val="000000"/>
              </a:solidFill>
              <a:latin typeface="MetaNormalLF-Roman"/>
            </a:endParaRPr>
          </a:p>
          <a:p>
            <a:pPr lvl="2" marL="1047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etaNormalLF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MetaNormalLF-Roman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MetaNormalLF-Roman"/>
              </a:rPr>
              <a:t>educational attainment</a:t>
            </a:r>
            <a:endParaRPr b="0" lang="en-US" sz="16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781200" indent="-2095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MetaNormalLF-Roman"/>
              </a:rPr>
              <a:t>Variables used for exact record linkage to the CPR records </a:t>
            </a:r>
            <a:endParaRPr b="0" lang="en-US" sz="1800" spc="-1" strike="noStrike">
              <a:solidFill>
                <a:srgbClr val="000000"/>
              </a:solidFill>
              <a:latin typeface="MetaNormalLF-Roman"/>
            </a:endParaRPr>
          </a:p>
          <a:p>
            <a:pPr lvl="2" marL="1047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etaNormalLF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MetaNormalLF-Roman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MetaNormalLF-Roman"/>
              </a:rPr>
              <a:t>family name, surnames  </a:t>
            </a:r>
            <a:endParaRPr b="0" lang="en-US" sz="1600" spc="-1" strike="noStrike">
              <a:solidFill>
                <a:srgbClr val="000000"/>
              </a:solidFill>
              <a:latin typeface="MetaNormalLF-Roman"/>
            </a:endParaRPr>
          </a:p>
          <a:p>
            <a:pPr lvl="2" marL="1047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etaNormalLF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MetaNormalLF-Roman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MetaNormalLF-Roman"/>
              </a:rPr>
              <a:t>date of birth </a:t>
            </a:r>
            <a:endParaRPr b="0" lang="en-US" sz="1600" spc="-1" strike="noStrike">
              <a:solidFill>
                <a:srgbClr val="000000"/>
              </a:solidFill>
              <a:latin typeface="MetaNormalLF-Roman"/>
            </a:endParaRPr>
          </a:p>
          <a:p>
            <a:pPr lvl="2" marL="1047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etaNormalLF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MetaNormalLF-Roman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MetaNormalLF-Roman"/>
              </a:rPr>
              <a:t>place of residence</a:t>
            </a:r>
            <a:endParaRPr b="0" lang="en-US" sz="16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1F4F9-DB30-4F75-B8E0-93034A76E9B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79280" y="1793880"/>
            <a:ext cx="8763120" cy="57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1500"/>
              </a:spcBef>
              <a:buClr>
                <a:srgbClr val="000000"/>
              </a:buClr>
              <a:buFont typeface="MetaNormalLF-Roman"/>
              <a:buChar char="•"/>
              <a:tabLst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MetaNormalLF-Roman"/>
              </a:rPr>
              <a:t>Housing variables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857160" indent="-2854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MetaNormalLF-Roman"/>
              <a:buChar char="•"/>
              <a:tabLst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MetaNormalLF-Roman"/>
              </a:rPr>
              <a:t>for buildings: period of construction, type of building, number of dwellings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857160" indent="-2854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MetaNormalLF-Roman"/>
              <a:buChar char="•"/>
              <a:tabLst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MetaNormalLF-Roman"/>
              </a:rPr>
              <a:t>for dwellings: occupancy status, tenure status, number of rooms, living floor space, kitchen, bathing/toilet facilities, type of heating, main type of heating, monthly (gross and net) rent.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380880" indent="-380880">
              <a:spcBef>
                <a:spcPts val="1500"/>
              </a:spcBef>
              <a:buClr>
                <a:srgbClr val="000000"/>
              </a:buClr>
              <a:buFont typeface="MetaNormalLF-Roman"/>
              <a:buChar char="•"/>
              <a:tabLst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MetaNormalLF-Roman"/>
              </a:rPr>
              <a:t>Variables which can be used to generate private households (these variables have to be provided for each occupied dwelling):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857160" indent="-2854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MetaNormalLF-Roman"/>
              <a:buChar char="•"/>
              <a:tabLst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MetaNormalLF-Roman"/>
              </a:rPr>
              <a:t>the number of occupants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857160" indent="-2854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MetaNormalLF-Roman"/>
              <a:buChar char="•"/>
              <a:tabLst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MetaNormalLF-Roman"/>
              </a:rPr>
              <a:t>the names of one or two occupants and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857160" indent="-2854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MetaNormalLF-Roman"/>
              <a:buChar char="•"/>
              <a:tabLst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MetaNormalLF-Roman"/>
              </a:rPr>
              <a:t>their dates of moving to the dwelling.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857160" indent="-2854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990720"/>
            <a:ext cx="85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MetaNormalLF-Roman"/>
              </a:rPr>
              <a:t>Census variables collected from the owners of the buildings by a postal survey.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DC394-3DB6-4CDC-BC94-A6573ABACB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31640" y="930240"/>
            <a:ext cx="8278920" cy="62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728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taNormalLF-Roman"/>
                <a:ea typeface="Times New Roman"/>
              </a:rPr>
              <a:t>(Simplified) Model of a Register-based Census in Germany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038480" y="1523880"/>
            <a:ext cx="1219320" cy="641520"/>
          </a:xfrm>
          <a:prstGeom prst="flowChartMulti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MetaNormalLF-Roman"/>
              </a:rPr>
              <a:t>Housing</a:t>
            </a:r>
            <a:endParaRPr b="0" lang="en-US" sz="10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MetaNormalLF-Roman"/>
              </a:rPr>
              <a:t>census</a:t>
            </a:r>
            <a:endParaRPr b="0" lang="en-US" sz="10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MetaNormalLF-Roman"/>
              </a:rPr>
              <a:t>(questionnaires)</a:t>
            </a:r>
            <a:endParaRPr b="0" lang="en-US" sz="10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2371680"/>
            <a:ext cx="1143000" cy="60012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MetaNormalLF-Roman"/>
              </a:rPr>
              <a:t>(Technical)</a:t>
            </a:r>
            <a:endParaRPr b="0" lang="en-US" sz="10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MetaNormalLF-Roman"/>
              </a:rPr>
              <a:t>Standardisation</a:t>
            </a:r>
            <a:endParaRPr b="0" lang="en-US" sz="10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MetaNormalLF-Roman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MetaNormalLF-Roman"/>
              </a:rPr>
              <a:t>Merging</a:t>
            </a:r>
            <a:endParaRPr b="0" lang="en-US" sz="10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3216240"/>
            <a:ext cx="1219320" cy="561960"/>
          </a:xfrm>
          <a:prstGeom prst="flowChartMagneticDrum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MetaNormalLF-Roman"/>
              </a:rPr>
              <a:t>   </a:t>
            </a:r>
            <a:r>
              <a:rPr b="1" lang="en-GB" sz="1000" spc="-1" strike="noStrike">
                <a:solidFill>
                  <a:srgbClr val="000000"/>
                </a:solidFill>
                <a:latin typeface="MetaNormalLF-Roman"/>
              </a:rPr>
              <a:t>Central       </a:t>
            </a:r>
            <a:endParaRPr b="0" lang="en-US" sz="10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MetaNormalLF-Roman"/>
              </a:rPr>
              <a:t>Population    </a:t>
            </a:r>
            <a:endParaRPr b="0" lang="en-US" sz="10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MetaNormalLF-Roman"/>
              </a:rPr>
              <a:t>Register</a:t>
            </a:r>
            <a:r>
              <a:rPr b="1" lang="en-GB" sz="900" spc="-1" strike="noStrike">
                <a:solidFill>
                  <a:srgbClr val="000000"/>
                </a:solidFill>
                <a:latin typeface="MetaNormalLF-Roman"/>
              </a:rPr>
              <a:t> (CPR)  </a:t>
            </a:r>
            <a:r>
              <a:rPr b="1" lang="en-GB" sz="1000" spc="-1" strike="noStrike">
                <a:solidFill>
                  <a:srgbClr val="000000"/>
                </a:solidFill>
                <a:latin typeface="MetaNormalLF-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38480" y="2371680"/>
            <a:ext cx="1067040" cy="55872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MetaNormalLF-Roman"/>
              </a:rPr>
              <a:t>Checking for</a:t>
            </a:r>
            <a:endParaRPr b="0" lang="en-US" sz="10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MetaNormalLF-Roman"/>
              </a:rPr>
              <a:t>completeness +</a:t>
            </a:r>
            <a:endParaRPr b="0" lang="en-US" sz="10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MetaNormalLF-Roman"/>
              </a:rPr>
              <a:t> </a:t>
            </a:r>
            <a:r>
              <a:rPr b="1" lang="en-GB" sz="1000" spc="-1" strike="noStrike">
                <a:solidFill>
                  <a:srgbClr val="000000"/>
                </a:solidFill>
                <a:latin typeface="MetaNormalLF-Roman"/>
              </a:rPr>
              <a:t>plausibility</a:t>
            </a:r>
            <a:endParaRPr b="0" lang="en-US" sz="10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MetaNormalLF-Roman"/>
              </a:rPr>
              <a:t>checks</a:t>
            </a:r>
            <a:endParaRPr b="0" lang="en-US" sz="10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38480" y="3216240"/>
            <a:ext cx="1067040" cy="561960"/>
          </a:xfrm>
          <a:prstGeom prst="flowChartMagneticDrum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MetaNormalLF-Roman"/>
              </a:rPr>
              <a:t>Records for</a:t>
            </a:r>
            <a:endParaRPr b="0" lang="en-US" sz="10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MetaNormalLF-Roman"/>
              </a:rPr>
              <a:t>buildings </a:t>
            </a:r>
            <a:endParaRPr b="0" lang="en-US" sz="10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MetaNormalLF-Roman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MetaNormalLF-Roman"/>
              </a:rPr>
              <a:t>dwellings</a:t>
            </a:r>
            <a:r>
              <a:rPr b="0" lang="en-GB" sz="1000" spc="-1" strike="noStrike">
                <a:solidFill>
                  <a:srgbClr val="000000"/>
                </a:solidFill>
                <a:latin typeface="MetaNormalLF-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216240"/>
            <a:ext cx="1143000" cy="561960"/>
          </a:xfrm>
          <a:prstGeom prst="flowChartMagneticDrum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MetaNormalLF-Roman"/>
              </a:rPr>
              <a:t>Records for </a:t>
            </a:r>
            <a:endParaRPr b="0" lang="en-US" sz="10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MetaNormalLF-Roman"/>
              </a:rPr>
              <a:t>persons:</a:t>
            </a:r>
            <a:endParaRPr b="0" lang="en-US" sz="10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MetaNormalLF-Roman"/>
              </a:rPr>
              <a:t>economic </a:t>
            </a:r>
            <a:endParaRPr b="0" lang="en-US" sz="10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MetaNormalLF-Roman"/>
              </a:rPr>
              <a:t>variables</a:t>
            </a:r>
            <a:endParaRPr b="0" lang="en-US" sz="10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43000" y="4911840"/>
            <a:ext cx="1143000" cy="558720"/>
          </a:xfrm>
          <a:prstGeom prst="flowChartMagneticDrum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MetaNormalLF-Roman"/>
              </a:rPr>
              <a:t>Adjusted </a:t>
            </a:r>
            <a:endParaRPr b="0" lang="en-US" sz="10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MetaNormalLF-Roman"/>
              </a:rPr>
              <a:t>CPR;</a:t>
            </a:r>
            <a:endParaRPr b="0" lang="en-US" sz="10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MetaNormalLF-Roman"/>
              </a:rPr>
              <a:t>records for </a:t>
            </a:r>
            <a:endParaRPr b="0" lang="en-US" sz="10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MetaNormalLF-Roman"/>
              </a:rPr>
              <a:t>persons</a:t>
            </a:r>
            <a:endParaRPr b="0" lang="en-US" sz="10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4054320"/>
            <a:ext cx="1143000" cy="60336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MetaNormalLF-Roman"/>
              </a:rPr>
              <a:t>Checking for</a:t>
            </a:r>
            <a:endParaRPr b="0" lang="en-US" sz="10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MetaNormalLF-Roman"/>
              </a:rPr>
              <a:t>multiple entries</a:t>
            </a:r>
            <a:endParaRPr b="0" lang="en-US" sz="10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MetaNormalLF-Roman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MetaNormalLF-Roman"/>
              </a:rPr>
              <a:t>adjusting for</a:t>
            </a:r>
            <a:endParaRPr b="0" lang="en-US" sz="10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MetaNormalLF-Roman"/>
              </a:rPr>
              <a:t>overcounts</a:t>
            </a:r>
            <a:endParaRPr b="0" lang="en-US" sz="10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38480" y="4826160"/>
            <a:ext cx="1067040" cy="64440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MetaNormalLF-Roman"/>
              </a:rPr>
              <a:t>Generating</a:t>
            </a:r>
            <a:endParaRPr b="0" lang="en-US" sz="1000" spc="-1" strike="noStrike">
              <a:solidFill>
                <a:srgbClr val="000000"/>
              </a:solidFill>
              <a:latin typeface="MetaNormalLF-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MetaNormalLF-Roman"/>
              </a:rPr>
              <a:t>(private) </a:t>
            </a:r>
            <a:endParaRPr b="0" lang="en-US" sz="1000" spc="-1" strike="noStrike">
              <a:solidFill>
                <a:srgbClr val="000000"/>
              </a:solidFill>
              <a:latin typeface="MetaNormalLF-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MetaNormalLF-Roman"/>
              </a:rPr>
              <a:t>households +</a:t>
            </a:r>
            <a:endParaRPr b="0" lang="en-US" sz="1000" spc="-1" strike="noStrike">
              <a:solidFill>
                <a:srgbClr val="000000"/>
              </a:solidFill>
              <a:latin typeface="MetaNormalLF-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MetaNormalLF-Roman"/>
              </a:rPr>
              <a:t>adjusting for </a:t>
            </a:r>
            <a:endParaRPr b="0" lang="en-US" sz="1000" spc="-1" strike="noStrike">
              <a:solidFill>
                <a:srgbClr val="000000"/>
              </a:solidFill>
              <a:latin typeface="MetaNormalLF-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MetaNormalLF-Roman"/>
              </a:rPr>
              <a:t>errors in the </a:t>
            </a:r>
            <a:endParaRPr b="0" lang="en-US" sz="1000" spc="-1" strike="noStrike">
              <a:solidFill>
                <a:srgbClr val="000000"/>
              </a:solidFill>
              <a:latin typeface="MetaNormalLF-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MetaNormalLF-Roman"/>
              </a:rPr>
              <a:t>overcounts</a:t>
            </a:r>
            <a:endParaRPr b="0" lang="en-US" sz="10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0" y="5756400"/>
            <a:ext cx="1143000" cy="56196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MetaNormalLF-Roman"/>
              </a:rPr>
              <a:t>Linking CPR </a:t>
            </a:r>
            <a:endParaRPr b="0" lang="en-US" sz="10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MetaNormalLF-Roman"/>
              </a:rPr>
              <a:t>records to</a:t>
            </a:r>
            <a:endParaRPr b="0" lang="en-US" sz="10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MetaNormalLF-Roman"/>
              </a:rPr>
              <a:t>records from ERs</a:t>
            </a:r>
            <a:endParaRPr b="0" lang="en-US" sz="10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04000" y="6546960"/>
            <a:ext cx="1371600" cy="847440"/>
          </a:xfrm>
          <a:prstGeom prst="flowChartMagneticDrum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MetaNormalLF-Roman"/>
              </a:rPr>
              <a:t>Completed     </a:t>
            </a:r>
            <a:endParaRPr b="0" lang="en-US" sz="1000" spc="-1" strike="noStrike">
              <a:solidFill>
                <a:srgbClr val="000000"/>
              </a:solidFill>
              <a:latin typeface="MetaNormalLF-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MetaNormalLF-Roman"/>
              </a:rPr>
              <a:t>records  for </a:t>
            </a:r>
            <a:endParaRPr b="0" lang="en-US" sz="1000" spc="-1" strike="noStrike">
              <a:solidFill>
                <a:srgbClr val="000000"/>
              </a:solidFill>
              <a:latin typeface="MetaNormalLF-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MetaNormalLF-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MetaNormalLF-Roman"/>
              </a:rPr>
              <a:t>persons </a:t>
            </a:r>
            <a:endParaRPr b="0" lang="en-US" sz="1000" spc="-1" strike="noStrike">
              <a:solidFill>
                <a:srgbClr val="000000"/>
              </a:solidFill>
              <a:latin typeface="MetaNormalLF-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MetaNormalLF-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MetaNormalLF-Roman"/>
              </a:rPr>
              <a:t>households</a:t>
            </a:r>
            <a:endParaRPr b="0" lang="en-US" sz="1000" spc="-1" strike="noStrike">
              <a:solidFill>
                <a:srgbClr val="000000"/>
              </a:solidFill>
              <a:latin typeface="MetaNormalLF-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MetaNormalLF-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MetaNormalLF-Roman"/>
              </a:rPr>
              <a:t>buildings</a:t>
            </a:r>
            <a:endParaRPr b="0" lang="en-US" sz="10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95640" y="5897520"/>
            <a:ext cx="1440000" cy="649440"/>
          </a:xfrm>
          <a:prstGeom prst="flowChartMagneticDrum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MetaNormalLF-Roman"/>
              </a:rPr>
              <a:t>Records for        </a:t>
            </a:r>
            <a:endParaRPr b="0" lang="en-US" sz="1000" spc="-1" strike="noStrike">
              <a:solidFill>
                <a:srgbClr val="000000"/>
              </a:solidFill>
              <a:latin typeface="MetaNormalLF-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MetaNormalLF-Roman"/>
              </a:rPr>
              <a:t>- persons </a:t>
            </a:r>
            <a:endParaRPr b="0" lang="en-US" sz="1000" spc="-1" strike="noStrike">
              <a:solidFill>
                <a:srgbClr val="000000"/>
              </a:solidFill>
              <a:latin typeface="MetaNormalLF-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MetaNormalLF-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MetaNormalLF-Roman"/>
              </a:rPr>
              <a:t> </a:t>
            </a:r>
            <a:r>
              <a:rPr b="1" lang="en-GB" sz="1000" spc="-1" strike="noStrike">
                <a:solidFill>
                  <a:srgbClr val="000000"/>
                </a:solidFill>
                <a:latin typeface="MetaNormalLF-Roman"/>
              </a:rPr>
              <a:t>private households</a:t>
            </a:r>
            <a:endParaRPr b="0" lang="en-US" sz="1000" spc="-1" strike="noStrike">
              <a:solidFill>
                <a:srgbClr val="000000"/>
              </a:solidFill>
              <a:latin typeface="MetaNormalLF-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MetaNormalLF-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MetaNormalLF-Roman"/>
              </a:rPr>
              <a:t> </a:t>
            </a:r>
            <a:r>
              <a:rPr b="1" lang="en-GB" sz="1000" spc="-1" strike="noStrike">
                <a:solidFill>
                  <a:srgbClr val="000000"/>
                </a:solidFill>
                <a:latin typeface="MetaNormalLF-Roman"/>
              </a:rPr>
              <a:t>buildings</a:t>
            </a:r>
            <a:endParaRPr b="0" lang="en-US" sz="1000" spc="-1" strike="noStrike">
              <a:solidFill>
                <a:srgbClr val="000000"/>
              </a:solidFill>
              <a:latin typeface="MetaNormalLF-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MetaNormalLF-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MetaNormalLF-Roman"/>
              </a:rPr>
              <a:t> </a:t>
            </a:r>
            <a:r>
              <a:rPr b="1" lang="en-GB" sz="1000" spc="-1" strike="noStrike">
                <a:solidFill>
                  <a:srgbClr val="000000"/>
                </a:solidFill>
                <a:latin typeface="MetaNormalLF-Roman"/>
              </a:rPr>
              <a:t>dwellings</a:t>
            </a:r>
            <a:endParaRPr b="0" lang="en-US" sz="10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76520" y="2989440"/>
            <a:ext cx="1440" cy="220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76520" y="3809880"/>
            <a:ext cx="1440" cy="24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76520" y="4657680"/>
            <a:ext cx="1440" cy="23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81360" y="2962440"/>
            <a:ext cx="1800" cy="241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2200320"/>
            <a:ext cx="1440" cy="162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3881520"/>
            <a:ext cx="1440" cy="90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516564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0" y="5538960"/>
            <a:ext cx="1440" cy="384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431120" y="2962440"/>
            <a:ext cx="1440" cy="241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451640" y="3881520"/>
            <a:ext cx="0" cy="1800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431120" y="2117880"/>
            <a:ext cx="1440" cy="23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51640" y="6330960"/>
            <a:ext cx="1800" cy="241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508720" y="6114960"/>
            <a:ext cx="132084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76520" y="2117880"/>
            <a:ext cx="1440" cy="23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066680" y="1438200"/>
            <a:ext cx="1219320" cy="730080"/>
            <a:chOff x="1066680" y="1438200"/>
            <a:chExt cx="1219320" cy="730080"/>
          </a:xfrm>
        </p:grpSpPr>
        <p:sp>
          <p:nvSpPr>
            <p:cNvPr id="132" name=""/>
            <p:cNvSpPr/>
            <p:nvPr/>
          </p:nvSpPr>
          <p:spPr>
            <a:xfrm>
              <a:off x="1143000" y="1438200"/>
              <a:ext cx="1143000" cy="634320"/>
            </a:xfrm>
            <a:prstGeom prst="flowChartMagneticTap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092240" y="1486080"/>
              <a:ext cx="1143000" cy="634320"/>
            </a:xfrm>
            <a:prstGeom prst="flowChartMagneticTap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066680" y="1533960"/>
              <a:ext cx="1143000" cy="634320"/>
            </a:xfrm>
            <a:prstGeom prst="flowChartMagneticTap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MetaNormalLF-Roman"/>
                </a:rPr>
                <a:t>Municipal</a:t>
              </a:r>
              <a:endParaRPr b="0" lang="en-US" sz="1000" spc="-1" strike="noStrike">
                <a:solidFill>
                  <a:srgbClr val="000000"/>
                </a:solidFill>
                <a:latin typeface="MetaNormalLF-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MetaNormalLF-Roman"/>
                </a:rPr>
                <a:t>Population</a:t>
              </a:r>
              <a:endParaRPr b="0" lang="en-US" sz="1000" spc="-1" strike="noStrike">
                <a:solidFill>
                  <a:srgbClr val="000000"/>
                </a:solidFill>
                <a:latin typeface="MetaNormalLF-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MetaNormalLF-Roman"/>
                </a:rPr>
                <a:t>Registers</a:t>
              </a:r>
              <a:endParaRPr b="0" lang="en-US" sz="1000" spc="-1" strike="noStrike">
                <a:solidFill>
                  <a:srgbClr val="000000"/>
                </a:solidFill>
                <a:latin typeface="MetaNormalLF-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6858000" y="2371680"/>
            <a:ext cx="1143000" cy="60012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MetaNormalLF-Roman"/>
              </a:rPr>
              <a:t>(Technical)</a:t>
            </a:r>
            <a:endParaRPr b="0" lang="en-US" sz="10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MetaNormalLF-Roman"/>
              </a:rPr>
              <a:t>Standardisation</a:t>
            </a:r>
            <a:endParaRPr b="0" lang="en-US" sz="10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MetaNormalLF-Roman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MetaNormalLF-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MetaNormalLF-Roman"/>
              </a:rPr>
              <a:t>Merging</a:t>
            </a:r>
            <a:endParaRPr b="0" lang="en-US" sz="10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086600" y="7280280"/>
            <a:ext cx="8380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58000" rIns="0" tIns="0" bIns="75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05520" y="6858000"/>
            <a:ext cx="990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58000" rIns="0" tIns="0" bIns="75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819840" y="1406520"/>
            <a:ext cx="1219320" cy="729720"/>
            <a:chOff x="6819840" y="1406520"/>
            <a:chExt cx="1219320" cy="729720"/>
          </a:xfrm>
        </p:grpSpPr>
        <p:sp>
          <p:nvSpPr>
            <p:cNvPr id="139" name=""/>
            <p:cNvSpPr/>
            <p:nvPr/>
          </p:nvSpPr>
          <p:spPr>
            <a:xfrm>
              <a:off x="6896160" y="1406520"/>
              <a:ext cx="1143000" cy="633960"/>
            </a:xfrm>
            <a:prstGeom prst="flowChartMagneticTap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845400" y="1454400"/>
              <a:ext cx="1143000" cy="633960"/>
            </a:xfrm>
            <a:prstGeom prst="flowChartMagneticTap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19840" y="1502280"/>
              <a:ext cx="1143000" cy="633960"/>
            </a:xfrm>
            <a:prstGeom prst="flowChartMagneticTap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MetaNormalLF-Roman"/>
                </a:rPr>
                <a:t>Employee</a:t>
              </a:r>
              <a:endParaRPr b="0" lang="en-US" sz="1000" spc="-1" strike="noStrike">
                <a:solidFill>
                  <a:srgbClr val="000000"/>
                </a:solidFill>
                <a:latin typeface="MetaNormalLF-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MetaNormalLF-Roman"/>
                </a:rPr>
                <a:t>registers</a:t>
              </a:r>
              <a:endParaRPr b="0" lang="en-US" sz="1000" spc="-1" strike="noStrike">
                <a:solidFill>
                  <a:srgbClr val="000000"/>
                </a:solidFill>
                <a:latin typeface="MetaNormalLF-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6948360" y="4746600"/>
            <a:ext cx="1008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00499-21ED-41AC-BC81-5FCBF57BCDB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001520"/>
            <a:ext cx="827712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400" spc="-1" strike="noStrike">
                <a:solidFill>
                  <a:srgbClr val="666666"/>
                </a:solidFill>
                <a:latin typeface="MetaNormalLF-Roman"/>
              </a:rPr>
              <a:t>Test surveys to prepare a register-based census in Germany (carried out for the reference day, 5</a:t>
            </a:r>
            <a:r>
              <a:rPr b="1" lang="en-GB" sz="2400" spc="-1" strike="noStrike" baseline="30000">
                <a:solidFill>
                  <a:srgbClr val="666666"/>
                </a:solidFill>
                <a:latin typeface="MetaNormalLF-Roman"/>
              </a:rPr>
              <a:t>th</a:t>
            </a:r>
            <a:r>
              <a:rPr b="1" lang="en-GB" sz="2400" spc="-1" strike="noStrike">
                <a:solidFill>
                  <a:srgbClr val="666666"/>
                </a:solidFill>
                <a:latin typeface="MetaNormalLF-Roman"/>
              </a:rPr>
              <a:t> December 2001)</a:t>
            </a:r>
            <a:endParaRPr b="1" lang="en-US" sz="2400" spc="-1" strike="noStrike">
              <a:solidFill>
                <a:srgbClr val="666666"/>
              </a:solidFill>
              <a:latin typeface="MetaNormalLF-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2009880"/>
            <a:ext cx="8278920" cy="500040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rmAutofit fontScale="9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MetaNormalLF-Roman"/>
              </a:rPr>
              <a:t>•    </a:t>
            </a:r>
            <a:r>
              <a:rPr b="1" lang="en-GB" sz="24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MetaNormalLF-Roman"/>
              </a:rPr>
              <a:t>evaluating the quality of the population registers              </a:t>
            </a:r>
            <a:r>
              <a:rPr b="1" lang="en-GB" sz="24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MetaNormalLF-Roman"/>
              </a:rPr>
              <a:t>(overcounts/undercounts)</a:t>
            </a:r>
            <a:endParaRPr b="1" lang="en-US" sz="2400" spc="-1" strike="noStrike">
              <a:solidFill>
                <a:srgbClr val="000000"/>
              </a:solidFill>
              <a:latin typeface="MetaNormalLF-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MetaNormalLF-Roman"/>
              </a:rPr>
              <a:t>•   </a:t>
            </a:r>
            <a:r>
              <a:rPr b="1" lang="en-GB" sz="24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MetaNormalLF-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MetaNormalLF-Roman"/>
              </a:rPr>
              <a:t>testing the efficiency of different matching </a:t>
            </a:r>
            <a:r>
              <a:rPr b="1" lang="en-GB" sz="24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MetaNormalLF-Roman"/>
              </a:rPr>
              <a:t>techniques to identify double (or multiple) entries in </a:t>
            </a:r>
            <a:r>
              <a:rPr b="1" lang="en-GB" sz="24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MetaNormalLF-Roman"/>
              </a:rPr>
              <a:t>the (central) population register</a:t>
            </a:r>
            <a:endParaRPr b="1" lang="en-US" sz="2400" spc="-1" strike="noStrike">
              <a:solidFill>
                <a:srgbClr val="000000"/>
              </a:solidFill>
              <a:latin typeface="MetaNormalLF-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MetaNormalLF-Roman"/>
              </a:rPr>
              <a:t>•    </a:t>
            </a:r>
            <a:r>
              <a:rPr b="1" lang="en-GB" sz="24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MetaNormalLF-Roman"/>
              </a:rPr>
              <a:t>establishing the efficiency of the newly developed </a:t>
            </a:r>
            <a:r>
              <a:rPr b="1" lang="en-GB" sz="24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MetaNormalLF-Roman"/>
              </a:rPr>
              <a:t>algorithm for generating households </a:t>
            </a:r>
            <a:endParaRPr b="1" lang="en-US" sz="2400" spc="-1" strike="noStrike">
              <a:solidFill>
                <a:srgbClr val="000000"/>
              </a:solidFill>
              <a:latin typeface="MetaNormalLF-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MetaNormalLF-Roman"/>
              </a:rPr>
              <a:t>•    </a:t>
            </a:r>
            <a:r>
              <a:rPr b="1" lang="en-GB" sz="24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MetaNormalLF-Roman"/>
              </a:rPr>
              <a:t>testing the feasibility of microdata linkage between </a:t>
            </a:r>
            <a:r>
              <a:rPr b="1" lang="en-GB" sz="24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MetaNormalLF-Roman"/>
              </a:rPr>
              <a:t>different data sources without uniform ID-numbers</a:t>
            </a:r>
            <a:endParaRPr b="1" lang="en-US" sz="2400" spc="-1" strike="noStrike">
              <a:solidFill>
                <a:srgbClr val="000000"/>
              </a:solidFill>
              <a:latin typeface="MetaNormalLF-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MetaNormalLF-Roman"/>
              </a:rPr>
              <a:t>•    </a:t>
            </a:r>
            <a:r>
              <a:rPr b="1" lang="en-GB" sz="24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MetaNormalLF-Roman"/>
              </a:rPr>
              <a:t>evaluating the quality of housing census data </a:t>
            </a:r>
            <a:r>
              <a:rPr b="1" lang="en-GB" sz="24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MetaNormalLF-Roman"/>
              </a:rPr>
              <a:t>collected from the owners of the buildings by a </a:t>
            </a:r>
            <a:r>
              <a:rPr b="1" lang="en-GB" sz="24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MetaNormalLF-Roman"/>
              </a:rPr>
              <a:t>postal survey</a:t>
            </a:r>
            <a:endParaRPr b="1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82B8C-36B2-4ED6-995E-5CC50511EBF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0T09:32:48Z</dcterms:created>
  <dc:creator>neeb-c</dc:creator>
  <dc:description/>
  <dc:language>en-US</dc:language>
  <cp:lastModifiedBy>UNECE</cp:lastModifiedBy>
  <cp:lastPrinted>2004-09-07T13:16:21Z</cp:lastPrinted>
  <dcterms:modified xsi:type="dcterms:W3CDTF">2004-11-22T14:01:49Z</dcterms:modified>
  <cp:revision>236</cp:revision>
  <dc:subject/>
  <dc:title>Kein Folientitel</dc:title>
</cp:coreProperties>
</file>