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DDA-CB6C-4792-B901-E5335665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C67-4A4C-4E41-9400-26EE0EA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7AC-5AA7-49F0-BB94-BF1E9BCF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0EE-0423-4669-87A1-74E49BC0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CCA-1995-4DA3-8A74-8B633291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A2D-AA65-4C9D-8EB4-1DB0409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691-2AB0-4262-8DEF-37F6D82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4DE-1A7E-426F-B15F-2A548B03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05B-410E-4B88-BF9E-DFF728D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709-849D-4F4A-819D-74814D9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9AF-4EB3-4B89-8E80-BEA05AA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054-D362-4B2C-9FA2-4BC2858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F41F33-5FA4-4F32-B73A-92006C2040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bs.nl/en/publications/articles/general/census-2001/census-2001.htm" TargetMode="External"/><Relationship Id="rId2" Type="http://schemas.openxmlformats.org/officeDocument/2006/relationships/hyperlink" Target="http://www.cbs.nl/en/publications/recent/census-2001/b-57-2001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23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Dutch Virtual Census of 2001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A New Approach by Combining</a:t>
            </a: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Different Sources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3249720"/>
            <a:ext cx="755964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8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ECE Census meeting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Geneva, 22-26 November 2004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5280" y="6516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sus tables (3), 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360" y="730080"/>
            <a:ext cx="9288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hnicity:</a:t>
            </a:r>
            <a:r>
              <a:rPr b="0" lang="en-GB" sz="2000" spc="-1" strike="noStrike">
                <a:solidFill>
                  <a:srgbClr val="99ff66"/>
                </a:solidFill>
                <a:latin typeface="Arial"/>
              </a:rPr>
              <a:t>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ucation:</a:t>
            </a:r>
            <a:r>
              <a:rPr b="0" lang="en-GB" sz="2000" spc="-1" strike="noStrike">
                <a:solidFill>
                  <a:srgbClr val="99ff66"/>
                </a:solidFill>
                <a:latin typeface="Arial"/>
              </a:rPr>
              <a:t> survey 1 and survey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ployment status: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survey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stimate: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T1: educ x ethnic and  T2: educ x empl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76720" y="2023920"/>
            <a:ext cx="3816000" cy="4471920"/>
            <a:chOff x="4176720" y="2023920"/>
            <a:chExt cx="3816000" cy="4471920"/>
          </a:xfrm>
        </p:grpSpPr>
        <p:grpSp>
          <p:nvGrpSpPr>
            <p:cNvPr id="64" name=""/>
            <p:cNvGrpSpPr/>
            <p:nvPr/>
          </p:nvGrpSpPr>
          <p:grpSpPr>
            <a:xfrm>
              <a:off x="5327640" y="2536560"/>
              <a:ext cx="2449440" cy="1728720"/>
              <a:chOff x="5327640" y="2536560"/>
              <a:chExt cx="2449440" cy="1728720"/>
            </a:xfrm>
          </p:grpSpPr>
          <p:sp>
            <p:nvSpPr>
              <p:cNvPr id="65" name=""/>
              <p:cNvSpPr/>
              <p:nvPr/>
            </p:nvSpPr>
            <p:spPr>
              <a:xfrm>
                <a:off x="5327640" y="2536560"/>
                <a:ext cx="12236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27640" y="3400200"/>
                <a:ext cx="24494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27640" y="253656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27640" y="340020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176720" y="2023920"/>
              <a:ext cx="3816000" cy="4471920"/>
              <a:chOff x="4176720" y="2023920"/>
              <a:chExt cx="3816000" cy="44719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4176720" y="2535120"/>
                <a:ext cx="1152360" cy="3960720"/>
                <a:chOff x="4176720" y="2535120"/>
                <a:chExt cx="1152360" cy="3960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176720" y="2535120"/>
                  <a:ext cx="1152360" cy="3960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76720" y="2535120"/>
                  <a:ext cx="115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Arial"/>
                    </a:rPr>
                    <a:t>Regist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176720" y="2023920"/>
                <a:ext cx="3816000" cy="577800"/>
                <a:chOff x="4176720" y="2023920"/>
                <a:chExt cx="3816000" cy="5778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176720" y="2023920"/>
                  <a:ext cx="1081080" cy="53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ethnic</a:t>
                  </a:r>
                  <a:r>
                    <a:rPr b="1" lang="en-GB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1...k</a:t>
                  </a: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5329080" y="2023920"/>
                  <a:ext cx="2663640" cy="577800"/>
                  <a:chOff x="5329080" y="2023920"/>
                  <a:chExt cx="2663640" cy="577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5329080" y="2023920"/>
                    <a:ext cx="1224000" cy="536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6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duc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Lo</a:t>
                    </a:r>
                    <a:r>
                      <a:rPr b="1" i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H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624360" y="2023920"/>
                    <a:ext cx="1368360" cy="57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6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mploy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1...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78" name=""/>
          <p:cNvGraphicFramePr/>
          <p:nvPr/>
        </p:nvGraphicFramePr>
        <p:xfrm>
          <a:off x="838080" y="3313080"/>
          <a:ext cx="2448000" cy="156348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576360"/>
                <a:gridCol w="611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 x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759280" y="5029200"/>
          <a:ext cx="3241800" cy="1604880"/>
        </p:xfrm>
        <a:graphic>
          <a:graphicData uri="http://schemas.openxmlformats.org/drawingml/2006/table">
            <a:tbl>
              <a:tblPr/>
              <a:tblGrid>
                <a:gridCol w="679680"/>
                <a:gridCol w="904680"/>
                <a:gridCol w="847800"/>
                <a:gridCol w="80964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edu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rot="16200000">
            <a:off x="2872440" y="3926160"/>
            <a:ext cx="2094120" cy="349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941560" y="3809880"/>
            <a:ext cx="6049800" cy="2628360"/>
            <a:chOff x="2941560" y="3809880"/>
            <a:chExt cx="6049800" cy="2628360"/>
          </a:xfrm>
        </p:grpSpPr>
        <p:grpSp>
          <p:nvGrpSpPr>
            <p:cNvPr id="82" name=""/>
            <p:cNvGrpSpPr/>
            <p:nvPr/>
          </p:nvGrpSpPr>
          <p:grpSpPr>
            <a:xfrm>
              <a:off x="2941560" y="3809880"/>
              <a:ext cx="351720" cy="922680"/>
              <a:chOff x="2941560" y="3809880"/>
              <a:chExt cx="351720" cy="922680"/>
            </a:xfrm>
          </p:grpSpPr>
          <p:sp>
            <p:nvSpPr>
              <p:cNvPr id="83" name=""/>
              <p:cNvSpPr/>
              <p:nvPr/>
            </p:nvSpPr>
            <p:spPr>
              <a:xfrm>
                <a:off x="2941560" y="380988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41560" y="409320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41560" y="444924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639640" y="5515560"/>
              <a:ext cx="351720" cy="922680"/>
              <a:chOff x="8639640" y="5515560"/>
              <a:chExt cx="351720" cy="922680"/>
            </a:xfrm>
          </p:grpSpPr>
          <p:sp>
            <p:nvSpPr>
              <p:cNvPr id="87" name=""/>
              <p:cNvSpPr/>
              <p:nvPr/>
            </p:nvSpPr>
            <p:spPr>
              <a:xfrm>
                <a:off x="8639640" y="551556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639640" y="579888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639640" y="615492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66880" y="3125880"/>
            <a:ext cx="1509840" cy="150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76720" y="2529000"/>
            <a:ext cx="2376360" cy="17287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76720" y="2543040"/>
            <a:ext cx="2806560" cy="1231920"/>
            <a:chOff x="4176720" y="2543040"/>
            <a:chExt cx="2806560" cy="1231920"/>
          </a:xfrm>
        </p:grpSpPr>
        <p:sp>
          <p:nvSpPr>
            <p:cNvPr id="94" name=""/>
            <p:cNvSpPr/>
            <p:nvPr/>
          </p:nvSpPr>
          <p:spPr>
            <a:xfrm>
              <a:off x="4176720" y="25430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27640" y="25430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27640" y="34066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9080" y="4278240"/>
            <a:ext cx="432000" cy="71928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76720" y="3392640"/>
            <a:ext cx="3600360" cy="899640"/>
            <a:chOff x="4176720" y="3392640"/>
            <a:chExt cx="3600360" cy="899640"/>
          </a:xfrm>
        </p:grpSpPr>
        <p:sp>
          <p:nvSpPr>
            <p:cNvPr id="102" name=""/>
            <p:cNvSpPr/>
            <p:nvPr/>
          </p:nvSpPr>
          <p:spPr>
            <a:xfrm>
              <a:off x="4176720" y="3392640"/>
              <a:ext cx="3600360" cy="899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3392640"/>
              <a:ext cx="1224000" cy="899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29080" y="3406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rve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329080" y="25495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29080" y="33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14560" y="5410080"/>
            <a:ext cx="1728720" cy="841320"/>
            <a:chOff x="1114560" y="5410080"/>
            <a:chExt cx="1728720" cy="841320"/>
          </a:xfrm>
        </p:grpSpPr>
        <p:sp>
          <p:nvSpPr>
            <p:cNvPr id="108" name=""/>
            <p:cNvSpPr/>
            <p:nvPr/>
          </p:nvSpPr>
          <p:spPr>
            <a:xfrm>
              <a:off x="2268360" y="5867280"/>
              <a:ext cx="5749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24040" y="5867280"/>
              <a:ext cx="5443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4560" y="5867280"/>
              <a:ext cx="60948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8360" y="5410080"/>
              <a:ext cx="57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24040" y="5410080"/>
              <a:ext cx="544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-N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4560" y="54100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thn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4560" y="5410080"/>
              <a:ext cx="172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5867280"/>
              <a:ext cx="172872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6251400"/>
              <a:ext cx="172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1456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24040" y="5410080"/>
              <a:ext cx="0" cy="8413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6836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4328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2815920" y="5410080"/>
            <a:ext cx="137484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C7E-0C85-4536-9AE4-26F0D6057A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2536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ensus tables (4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467480" cy="54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peated Weighting (RW) :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tool to achieve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numerical consistency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VRD-softwar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sic principles of RW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stimate table on most reliable source (mostly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source with most records, e.g. register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stimate tables by calibrating on common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margins of the current table and tables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already estimated (auxiliary information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peatedly use of regression estimator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-  initial weights (e.g. survey weights)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     calibrated as minimal as possible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-  lower varianc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-  no excessive increase of (non-response)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     bias (as long as cell size&gt;&gt;0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ach table own set of weigh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0ED-96D9-4F19-A24A-C237C1788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sus tables (5), example contin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57800" y="1765440"/>
            <a:ext cx="3816000" cy="4471920"/>
            <a:chOff x="4357800" y="1765440"/>
            <a:chExt cx="3816000" cy="4471920"/>
          </a:xfrm>
        </p:grpSpPr>
        <p:grpSp>
          <p:nvGrpSpPr>
            <p:cNvPr id="126" name=""/>
            <p:cNvGrpSpPr/>
            <p:nvPr/>
          </p:nvGrpSpPr>
          <p:grpSpPr>
            <a:xfrm>
              <a:off x="5508720" y="2278080"/>
              <a:ext cx="2449440" cy="1728720"/>
              <a:chOff x="5508720" y="2278080"/>
              <a:chExt cx="2449440" cy="1728720"/>
            </a:xfrm>
          </p:grpSpPr>
          <p:sp>
            <p:nvSpPr>
              <p:cNvPr id="127" name=""/>
              <p:cNvSpPr/>
              <p:nvPr/>
            </p:nvSpPr>
            <p:spPr>
              <a:xfrm>
                <a:off x="5508720" y="2278080"/>
                <a:ext cx="12236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8720" y="3141720"/>
                <a:ext cx="24494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08720" y="227808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08720" y="314172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57800" y="1765440"/>
              <a:ext cx="3816000" cy="4471920"/>
              <a:chOff x="4357800" y="1765440"/>
              <a:chExt cx="3816000" cy="44719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357800" y="2276640"/>
                <a:ext cx="1152360" cy="3960720"/>
                <a:chOff x="4357800" y="2276640"/>
                <a:chExt cx="1152360" cy="39607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57800" y="2276640"/>
                  <a:ext cx="1152360" cy="3960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57800" y="2276640"/>
                  <a:ext cx="115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Arial"/>
                    </a:rPr>
                    <a:t>Regist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57800" y="1765440"/>
                <a:ext cx="3816000" cy="396360"/>
                <a:chOff x="4357800" y="1765440"/>
                <a:chExt cx="3816000" cy="3963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57800" y="1765440"/>
                  <a:ext cx="10810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ethnic</a:t>
                  </a:r>
                  <a:r>
                    <a:rPr b="1" lang="en-GB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1...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5510160" y="1765440"/>
                  <a:ext cx="2663640" cy="396360"/>
                  <a:chOff x="5510160" y="1765440"/>
                  <a:chExt cx="2663640" cy="3963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5510160" y="1765440"/>
                    <a:ext cx="122400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duc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Lo</a:t>
                    </a:r>
                    <a:r>
                      <a:rPr b="1" i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H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805440" y="1765440"/>
                    <a:ext cx="136836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mploy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16200000">
            <a:off x="3053520" y="3653640"/>
            <a:ext cx="2093760" cy="349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44360" y="2239920"/>
            <a:ext cx="3889800" cy="1728720"/>
            <a:chOff x="2844360" y="2239920"/>
            <a:chExt cx="3889800" cy="1728720"/>
          </a:xfrm>
        </p:grpSpPr>
        <p:sp>
          <p:nvSpPr>
            <p:cNvPr id="143" name=""/>
            <p:cNvSpPr/>
            <p:nvPr/>
          </p:nvSpPr>
          <p:spPr>
            <a:xfrm flipH="1">
              <a:off x="2844360" y="2815920"/>
              <a:ext cx="1513080" cy="2890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2239920"/>
              <a:ext cx="2376360" cy="17287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357800" y="2270160"/>
            <a:ext cx="2806560" cy="1231920"/>
            <a:chOff x="4357800" y="2270160"/>
            <a:chExt cx="2806560" cy="1231920"/>
          </a:xfrm>
        </p:grpSpPr>
        <p:sp>
          <p:nvSpPr>
            <p:cNvPr id="146" name=""/>
            <p:cNvSpPr/>
            <p:nvPr/>
          </p:nvSpPr>
          <p:spPr>
            <a:xfrm>
              <a:off x="4357800" y="22701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8720" y="22701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720" y="3133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56000" y="3141720"/>
            <a:ext cx="3600360" cy="1582560"/>
            <a:chOff x="4356000" y="3141720"/>
            <a:chExt cx="3600360" cy="1582560"/>
          </a:xfrm>
        </p:grpSpPr>
        <p:sp>
          <p:nvSpPr>
            <p:cNvPr id="153" name=""/>
            <p:cNvSpPr/>
            <p:nvPr/>
          </p:nvSpPr>
          <p:spPr>
            <a:xfrm>
              <a:off x="6948360" y="4005360"/>
              <a:ext cx="431640" cy="7189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6000" y="3141720"/>
              <a:ext cx="360036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2360" y="3141720"/>
              <a:ext cx="1224000" cy="86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10160" y="3133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rve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508720" y="2133360"/>
            <a:ext cx="1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8720" y="3141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8160" y="5877000"/>
            <a:ext cx="503280" cy="136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2560" y="3213000"/>
          <a:ext cx="2341800" cy="1571760"/>
        </p:xfrm>
        <a:graphic>
          <a:graphicData uri="http://schemas.openxmlformats.org/drawingml/2006/table">
            <a:tbl>
              <a:tblPr/>
              <a:tblGrid>
                <a:gridCol w="662400"/>
                <a:gridCol w="508320"/>
                <a:gridCol w="585360"/>
                <a:gridCol w="585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 x 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59280" y="4834080"/>
          <a:ext cx="3024360" cy="1563480"/>
        </p:xfrm>
        <a:graphic>
          <a:graphicData uri="http://schemas.openxmlformats.org/drawingml/2006/table">
            <a:tbl>
              <a:tblPr/>
              <a:tblGrid>
                <a:gridCol w="676440"/>
                <a:gridCol w="871560"/>
                <a:gridCol w="871560"/>
                <a:gridCol w="60480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edu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834080"/>
          <a:ext cx="3060720" cy="1584360"/>
        </p:xfrm>
        <a:graphic>
          <a:graphicData uri="http://schemas.openxmlformats.org/drawingml/2006/table">
            <a:tbl>
              <a:tblPr/>
              <a:tblGrid>
                <a:gridCol w="684360"/>
                <a:gridCol w="900000"/>
                <a:gridCol w="863640"/>
                <a:gridCol w="6127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4834080"/>
          <a:ext cx="3060720" cy="1582560"/>
        </p:xfrm>
        <a:graphic>
          <a:graphicData uri="http://schemas.openxmlformats.org/drawingml/2006/table">
            <a:tbl>
              <a:tblPr/>
              <a:tblGrid>
                <a:gridCol w="711360"/>
                <a:gridCol w="873000"/>
                <a:gridCol w="863640"/>
                <a:gridCol w="6127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117440" y="5445000"/>
          <a:ext cx="1729080" cy="841680"/>
        </p:xfrm>
        <a:graphic>
          <a:graphicData uri="http://schemas.openxmlformats.org/drawingml/2006/table">
            <a:tbl>
              <a:tblPr/>
              <a:tblGrid>
                <a:gridCol w="601920"/>
                <a:gridCol w="550800"/>
                <a:gridCol w="576360"/>
              </a:tblGrid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85800" y="3200400"/>
          <a:ext cx="2340000" cy="1600200"/>
        </p:xfrm>
        <a:graphic>
          <a:graphicData uri="http://schemas.openxmlformats.org/drawingml/2006/table">
            <a:tbl>
              <a:tblPr/>
              <a:tblGrid>
                <a:gridCol w="582480"/>
                <a:gridCol w="568440"/>
                <a:gridCol w="612720"/>
                <a:gridCol w="5763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85800" y="3200400"/>
          <a:ext cx="2341440" cy="1584360"/>
        </p:xfrm>
        <a:graphic>
          <a:graphicData uri="http://schemas.openxmlformats.org/drawingml/2006/table">
            <a:tbl>
              <a:tblPr/>
              <a:tblGrid>
                <a:gridCol w="574560"/>
                <a:gridCol w="576000"/>
                <a:gridCol w="614520"/>
                <a:gridCol w="576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14560" y="5445000"/>
          <a:ext cx="1728720" cy="841320"/>
        </p:xfrm>
        <a:graphic>
          <a:graphicData uri="http://schemas.openxmlformats.org/drawingml/2006/table">
            <a:tbl>
              <a:tblPr/>
              <a:tblGrid>
                <a:gridCol w="609480"/>
                <a:gridCol w="544320"/>
                <a:gridCol w="574920"/>
              </a:tblGrid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84360" y="3179880"/>
          <a:ext cx="2340000" cy="1620720"/>
        </p:xfrm>
        <a:graphic>
          <a:graphicData uri="http://schemas.openxmlformats.org/drawingml/2006/table">
            <a:tbl>
              <a:tblPr/>
              <a:tblGrid>
                <a:gridCol w="601560"/>
                <a:gridCol w="550800"/>
                <a:gridCol w="611280"/>
                <a:gridCol w="5763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684360" y="907920"/>
            <a:ext cx="6337080" cy="4563720"/>
            <a:chOff x="684360" y="907920"/>
            <a:chExt cx="6337080" cy="4563720"/>
          </a:xfrm>
        </p:grpSpPr>
        <p:sp>
          <p:nvSpPr>
            <p:cNvPr id="170" name=""/>
            <p:cNvSpPr/>
            <p:nvPr/>
          </p:nvSpPr>
          <p:spPr>
            <a:xfrm>
              <a:off x="3925800" y="4941720"/>
              <a:ext cx="43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6360" y="907920"/>
              <a:ext cx="43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270828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4720" y="501336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89800" y="434016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124000" y="981000"/>
            <a:ext cx="49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ibrate on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ethn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then on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educ x eth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81D-F2B6-47DF-B893-4F4114AF5D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istory of the Dutch Cens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9280" y="1218960"/>
            <a:ext cx="752472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RADITIONAL CENSU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stry of Home Affair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29, 1839, 1849, 1859, 1869, 1879 and 1889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tatistics Netherland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99, 1909, 1920, 1930, 1947, 1960 and 1971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9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Unwillingness (non-response) and reduction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expenses </a:t>
            </a:r>
            <a:r>
              <a:rPr b="1" lang="en-GB" sz="2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no more Traditional Census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LTERNATIVE: VIRTUAL CENSU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81 and 1991: Population Register and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evelopment 90’s: more registers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2001: integrated set of registers and surveys, SSD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591-B5C8-4177-8AE6-48D6B5945C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152280"/>
            <a:ext cx="7524720" cy="13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arison with Censuses in</a:t>
            </a:r>
            <a:br>
              <a:rPr sz="3600"/>
            </a:b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other count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55280" y="1449360"/>
            <a:ext cx="748836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ditional Census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complete or partial enumeration):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 Most countries (Estonia, Slovenia, Greece and the UK)</a:t>
            </a: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xture of traditional Census and Register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Some countries (Norway and Switzerland)</a:t>
            </a: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rely or largely register-based Censu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A few Nordic countries (Sweden and Finland)</a:t>
            </a: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tual Censu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The Netherlands</a:t>
            </a:r>
            <a:endParaRPr b="1" lang="en-US" sz="16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Tables: </a:t>
            </a:r>
            <a:r>
              <a:rPr b="1" lang="en-GB" sz="1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cbs.nl/en/publications/articles/general/census-2001/census-2001.htm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Book: </a:t>
            </a:r>
            <a:r>
              <a:rPr b="1" lang="en-GB" sz="18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www.cbs.nl/en/publications/recent/census-2001/b-57-2001.htm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B6A-8D09-490D-A690-50F0EA3876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19280" y="1233000"/>
            <a:ext cx="7524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The Dutch Virtual Census 2001 was successful</a:t>
            </a:r>
            <a:br>
              <a:rPr sz="26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with its innovative approach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new source: SSD, integration of registers and surveys (micro-integration remains important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new methodology for consistent estimation was implemente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’s: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latively cheap (cost per inhabitant) and quick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’s: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ublication of small subpopulations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       sometimes difficult or even impossible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       because of limited inform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lutions for Con’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mall area estimation (synthetic estimators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91A-CA81-4B7B-B2DB-AC0FADCF1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Introduction Censu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ata sourc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ombining data sources: micro-linkage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ombining sources: micro-integr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ocial Statistical Database (SSD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ensus tabl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History of the Dutch Censu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omparison with Censuses in other countri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96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96F-D6E5-4940-A445-6120842F0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 Cens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y a Census 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13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Statistical information for research and policy purposes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kind of information 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Size of (sub)population(s)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Demographic and socio-economic characteristics, 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at national and regional level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tlemen’s agreemen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Eurostat: co-ordinator of EU, accesion and EFTA   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countries in the 2001 Census Round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Census Table Programme, every 10 years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720-D389-4D4F-BB2A-9950B8516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524720" cy="65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907920"/>
            <a:ext cx="7524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opulation Register (PR),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6 million records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emographic variables: sex, age, household status etc.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Jobs file,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employees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5 million records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nd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self-employed persons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90 thousand record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ates of job, branch of economic activity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Fiscal administration (FIBASE)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s,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.2 million record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nd </a:t>
            </a:r>
            <a:br>
              <a:rPr sz="2000"/>
            </a:b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ensions and life insurance benefit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7 million records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ocial Security administration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 million record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uxiliary information integration proces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 on Employment and Earning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(SEE),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million record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working hours, place of work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Labour Force Survey (LFS)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 years: 230.000 records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ducation, occupation, (economic) activit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64E-671A-4CFE-9545-316F6A998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4360" y="476280"/>
            <a:ext cx="755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bining sources: micro-lin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305000"/>
            <a:ext cx="759636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: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gister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ocial security and Fiscal number (SoFi), unique</a:t>
            </a:r>
            <a:br>
              <a:rPr sz="20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s    </a:t>
            </a:r>
            <a:br>
              <a:rPr sz="22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ex, date of birth,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 address (postal code and house number)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 replaced by RIN-person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strategy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Optimizing number of matche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mizing number of mismatches and missed match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9AD-0BB2-4AC2-9A64-02AE7778A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812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bining sources: micro-integ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52472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5000"/>
              </a:lnSpc>
              <a:spcBef>
                <a:spcPts val="913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llecting data from several sources 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more comprehensive and coherent information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on aspects of person’s life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76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are sourc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   -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coverage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     - conflicting information (reliability of sources)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ration ru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- checks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    - adjustments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    - imputations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al use of inform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quality improv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62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job period vs. benefit period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2C4-0508-4810-B56D-6A3054637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441360"/>
            <a:ext cx="748836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Statistical Database (SS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19280" y="1484280"/>
            <a:ext cx="7524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 Statistical Database (SSD)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Set of integrated micro-data files with coherent </a:t>
            </a:r>
            <a:br>
              <a:rPr sz="2200"/>
            </a:b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 and detailed demographic and socio-economic </a:t>
            </a:r>
            <a:br>
              <a:rPr sz="2200"/>
            </a:b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 data on persons, households, jobs and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No remaining internal conflicting inform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D-set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Population Register (back bone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Integrated jobs file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Integrated file of (social and other)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Surveys, e.g. LFS</a:t>
            </a: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ing element: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RIN-pers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D45-8AE9-4D65-A853-BF3D5AC7DC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ensus tables (1)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219320"/>
            <a:ext cx="66866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liminary work before tabulating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ensus Programme definitions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not always clear and unambiguous,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e.g. economic activit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riority rul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characteristics of) main job (highest wag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mployee or employer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(partially) unemploy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attending educ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retir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ngaged in family duties or retir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ge restrictio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bulating register variables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simply straightforward counting from </a:t>
            </a:r>
            <a:br>
              <a:rPr sz="2100"/>
            </a:br>
            <a:r>
              <a:rPr b="1" lang="en-GB" sz="2100" spc="-1" strike="noStrike">
                <a:solidFill>
                  <a:srgbClr val="33cc33"/>
                </a:solidFill>
                <a:latin typeface="Arial"/>
              </a:rPr>
              <a:t>  SSD-register data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87B-FB60-444E-972E-CABA74CB8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ensus tables (2)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9280" y="1088640"/>
            <a:ext cx="752472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bulating survey (and register) variab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8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ass imputation?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reproducible results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’s: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danger of oddities in estimates (e.g. high </a:t>
            </a:r>
            <a:br>
              <a:rPr sz="2100"/>
            </a:b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             educated baby)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Traditional Weighting?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simple, reproducible results (if same </a:t>
            </a:r>
            <a:br>
              <a:rPr sz="2100"/>
            </a:b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     micro-data and weights) 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no overall numerical consistency between </a:t>
            </a:r>
            <a:br>
              <a:rPr sz="2100"/>
            </a:b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     survey and register estimates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 lvl="1" marL="39168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1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mand for overall numerical consistency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1 figure for 1 phenomenon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all tables based on different sources (e.g. surveys)   </a:t>
            </a:r>
            <a:br>
              <a:rPr sz="2100"/>
            </a:b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 should be mutually consistent </a:t>
            </a:r>
            <a:br>
              <a:rPr sz="2100"/>
            </a:br>
            <a:r>
              <a:rPr b="1" lang="en-GB" sz="21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1" lang="en-US" sz="21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223-EABA-4611-9DB7-F84168C26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4-10-15T10:15:03Z</dcterms:modified>
  <cp:revision>178</cp:revision>
  <dc:subject>VT2001</dc:subject>
  <dc:title>The Dutch Virtual Census 20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316401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Papers and presentations for the Seminar on new methods for population censuses</vt:lpwstr>
  </property>
</Properties>
</file>