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877-91A8-431C-A24E-49F32B60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BCE-0C9D-4FBF-8A23-76945775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3BF-C8E0-4C30-BEA9-28784F17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C9A-0A5F-4CB1-8758-7ECE4762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EEF-DCC9-406C-A0F8-A6C30696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693-B994-4DC0-9BE2-5B9C383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4D1-003B-4505-ABD3-9AE67559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AD6-C9D8-421F-83D0-ABA1ED54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38F-A1A3-4EC9-80F8-94EAF3A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32D-CA8D-4136-B08C-5D037CF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5BC-502B-46AA-9A81-ECF36D93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223-9B16-4A9F-9937-6C1E34A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F87-EC88-4702-A127-93901FF4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15560" y="609480"/>
            <a:ext cx="744228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3333cc"/>
                </a:solidFill>
                <a:latin typeface="Times New Roman"/>
              </a:rPr>
              <a:t>Joint</a:t>
            </a:r>
            <a:r>
              <a:rPr b="0" lang="fi-FI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fi-FI" sz="2000" spc="-1" strike="noStrike">
                <a:solidFill>
                  <a:srgbClr val="3333cc"/>
                </a:solidFill>
                <a:latin typeface="Times New Roman"/>
              </a:rPr>
              <a:t>UNECE-Eurostat Work Session </a:t>
            </a:r>
            <a:br>
              <a:rPr sz="2000"/>
            </a:br>
            <a:r>
              <a:rPr b="1" i="1" lang="fi-FI" sz="2000" spc="-1" strike="noStrike">
                <a:solidFill>
                  <a:srgbClr val="3333cc"/>
                </a:solidFill>
                <a:latin typeface="Times New Roman"/>
              </a:rPr>
              <a:t>on Housing Censuses</a:t>
            </a:r>
            <a:br>
              <a:rPr sz="2000"/>
            </a:br>
            <a:br>
              <a:rPr sz="2000"/>
            </a:br>
            <a:r>
              <a:rPr b="1" i="1" lang="fi-FI" sz="2000" spc="-1" strike="noStrike">
                <a:solidFill>
                  <a:srgbClr val="3333cc"/>
                </a:solidFill>
                <a:latin typeface="Times New Roman"/>
              </a:rPr>
              <a:t>Geneva, 26 November 2004</a:t>
            </a:r>
            <a:br>
              <a:rPr sz="20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fi-FI" sz="2200" spc="-1" strike="noStrike">
                <a:solidFill>
                  <a:srgbClr val="ff0066"/>
                </a:solidFill>
                <a:latin typeface="Times New Roman"/>
              </a:rPr>
              <a:t>COMMENTS ON THE 2000 RECOMMENDATIONS ON HOUSING CENSUSES AND PROPOSALS FOR THE 2010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9000" y="4686480"/>
            <a:ext cx="188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9900"/>
                </a:solidFill>
                <a:latin typeface="Times New Roman"/>
              </a:rPr>
              <a:t>Martti Luja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ype of own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class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wner-occupied dwellings (old category 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Rented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In private ownership (old category 2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Owned by the local or central government and/or by housing non-profit associations and/or by other social landlords (old category 2.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Dwellings in cooperative ownership (mainly old category 2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Dwellings in other types of ownership (rest of old category 2.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ype of ownership (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ontinue…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present classification,  cooperative ownership is not ap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ed dwellings are not mentioned in the present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9480" y="685800"/>
          <a:ext cx="8001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3520" y="685800"/>
          <a:ext cx="8229600" cy="52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82296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umber of 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a ro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size, min. 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is not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umber of 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a ro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size, min. 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ght 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is not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tchen should be included with the number of rooms (countries could additionally report the number of rooms with kitchen exclu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nimum size of the kitchen should be the same as for the other 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Useful floo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loor space vs. living flo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floor space should be a core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ing floor space is an artificial way to describe the size of a dwelling and should not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85840"/>
            <a:ext cx="787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ype of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 recommendation read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wellings in residential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 one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85840"/>
            <a:ext cx="787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ype of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 recommendation read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wellings in residential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 one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In two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85840"/>
            <a:ext cx="787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ype of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 recommendation read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wellings in residential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 one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In two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In three-or-more 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ain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ied conventional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ellings should be used as the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or concerning the term d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85840"/>
            <a:ext cx="787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ype of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 recommendation read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wellings in residential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 one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In two-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In three-or-more dwelling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1 Dwellings in ground-oriented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2 Dwellings in other ho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Dwellings in non-residential buildings and in buildings consisting mainly of living quar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an housing units (e.g. hot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.1 Dwellings in non-residential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.2 Dwellings in buildings consisting mainly of living quarters oth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hous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This classification is basic at the two-digit level and optional at the three-digit level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11360" y="1085400"/>
            <a:ext cx="777240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class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etached houses (old category 1.1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Semi-detached houses (old category 1.2.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ow houses (terraced houses) (old category 1.3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Apartment buildings (blocks of flats) (old category 1.3.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Dwellings in other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11360" y="343080"/>
            <a:ext cx="77724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ype of building (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ontinue…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11360" y="1085400"/>
            <a:ext cx="777240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class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Detached houses (old category 1.1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Semi-detached houses (old category 1.2.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ow houses (terraced houses) (old category 1.3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Apartment buildings (blocks of flats) (old category 1.3.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Dwellings in other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present classification, the class of apartment buildings is not ap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classification is basically a reordering of the present class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11360" y="343080"/>
            <a:ext cx="77724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ype of building (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ontinue…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ain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ied conventional 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ellings should be used as the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or concerning the term d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occupied dwellings is needed when counting issues concerning housing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statistics could be reported when available. Especially information about vacant dwellings </a:t>
            </a:r>
            <a:r>
              <a:rPr b="0" lang="en-GB" sz="28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is very useful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1360" y="2858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ccupied conventional permanent dwel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0265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guarantee comparability of housing statistic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ountries collect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1360" y="2858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ccupied conventional permanent dwel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0265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guarantee comparability of housing statistic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ountries collect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other countries,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is often of poo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1360" y="2858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ccupied conventional permanent dwel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0265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guarantee comparability of housing statistic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ountries collect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other countries,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is often of poo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e present recommendations,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dwellings reserved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for seasonal or secondary use, but fit for habitation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year-roun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ncluded in the dwelling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360" y="2858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ccupied conventional permanent dwel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02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guarantee comparability of housing statistics betwee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ountries collect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other countries, information about vac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s is often of poo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e present recommendations,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dwellings reserved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for seasonal or secondary use, but fit for habitation 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year-roun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ncluded in the dwelling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untries, however, exclude these from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elling stock; it is also operationally difficult to dec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se dwellings are fit for habitation yea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920" y="1143000"/>
          <a:ext cx="85341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3962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04920" y="2970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s of accommodation included in dwelling stock (Housing Statistics in the European Union 2003, p. 36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819520"/>
            <a:ext cx="6400800" cy="14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057400"/>
            <a:ext cx="64008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NewRomanPSMT"/>
              </a:rPr>
              <a:t>Vacant dwellings</a:t>
            </a:r>
            <a:r>
              <a:rPr b="0" lang="fi-FI" sz="2200" spc="-1" strike="noStrike">
                <a:solidFill>
                  <a:srgbClr val="000000"/>
                </a:solidFill>
                <a:latin typeface="TimesNewRomanPS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64008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Dwellings in seasonal or secondary use</a:t>
            </a:r>
            <a:r>
              <a:rPr b="0" lang="fi-FI" sz="2400" spc="-1" strike="noStrike">
                <a:solidFill>
                  <a:srgbClr val="000000"/>
                </a:solidFill>
                <a:latin typeface="TimesNewRomanPS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0640" y="335268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Occupied conventional permanent dwel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1581120"/>
            <a:ext cx="203040" cy="1162080"/>
          </a:xfrm>
          <a:custGeom>
            <a:avLst/>
            <a:gdLst>
              <a:gd name="textAreaLeft" fmla="*/ 0 w 203040"/>
              <a:gd name="textAreaRight" fmla="*/ 73440 w 203040"/>
              <a:gd name="textAreaTop" fmla="*/ 30240 h 1162080"/>
              <a:gd name="textAreaBottom" fmla="*/ 113184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2240" y="19051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895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971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Reported statis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 all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049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mposition of dwelling stock (conventional dwelling) and the new way of reporting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9:54:58Z</dcterms:created>
  <dc:creator>atk</dc:creator>
  <dc:description/>
  <dc:language>en-US</dc:language>
  <cp:lastModifiedBy>atk</cp:lastModifiedBy>
  <dcterms:modified xsi:type="dcterms:W3CDTF">2004-11-25T12:27:46Z</dcterms:modified>
  <cp:revision>41</cp:revision>
  <dc:subject/>
  <dc:title>Main proposal </dc:title>
</cp:coreProperties>
</file>