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3440160" y="6241680"/>
            <a:ext cx="31017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© Copyright 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0800" y="318960"/>
            <a:ext cx="727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Housing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6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old"/>
              </a:rPr>
              <a:t>Joint ECE/EUROSTAT work session on Housing Censuses</a:t>
            </a:r>
            <a:br>
              <a:rPr sz="3200"/>
            </a:br>
            <a:r>
              <a:rPr b="0" lang="en-GB" sz="2400" spc="-1" strike="noStrike">
                <a:solidFill>
                  <a:srgbClr val="333399"/>
                </a:solidFill>
                <a:latin typeface="Arial Bold"/>
              </a:rPr>
              <a:t>Geneva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old"/>
              </a:rPr>
              <a:t>26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5240" y="3716280"/>
            <a:ext cx="8381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ritten by Ian White 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sented by Ian Mát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Register Office for Scot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1371600"/>
            <a:ext cx="60958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0800" y="318960"/>
            <a:ext cx="727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Housing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6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08240" y="1413000"/>
          <a:ext cx="6554880" cy="4814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8240" y="1413000"/>
                    <a:ext cx="655488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0800" y="304920"/>
            <a:ext cx="727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Housing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6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371600"/>
            <a:ext cx="55623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08240" y="1425600"/>
          <a:ext cx="5945040" cy="47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8240" y="1425600"/>
                    <a:ext cx="59450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1371600"/>
            <a:ext cx="57150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08240" y="1601640"/>
          <a:ext cx="6097680" cy="4056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8240" y="1601640"/>
                    <a:ext cx="609768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60800" y="304920"/>
            <a:ext cx="7278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Housing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6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09:34:52Z</dcterms:created>
  <dc:creator>Louise Davies</dc:creator>
  <dc:description/>
  <dc:language>en-US</dc:language>
  <cp:lastModifiedBy>Ian Máté</cp:lastModifiedBy>
  <cp:lastPrinted>2004-11-16T12:22:11Z</cp:lastPrinted>
  <dcterms:modified xsi:type="dcterms:W3CDTF">2004-11-16T13:35:59Z</dcterms:modified>
  <cp:revision>33</cp:revision>
  <dc:subject/>
  <dc:title>No Slide Title</dc:title>
</cp:coreProperties>
</file>