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PlaceHolder 3"/>
            <p:cNvSpPr>
              <a:spLocks noGrp="1"/>
            </p:cNvSpPr>
            <p:nvPr>
              <p:ph type="dt" idx="1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700040" y="61722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6964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view of national practices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n the 2000 round of housing censuses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n the ECE region 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43653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aolo 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Population Censu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a, 23-25 Novem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-topic “Type of building”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n the 2000 recommendations: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34656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nclus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060640"/>
            <a:ext cx="8424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1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060640"/>
            <a:ext cx="7239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1)</a:t>
            </a: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Presentation by Mr. Lujanen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2)</a:t>
            </a: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Cooperation with housing statistics experts and users is urgently needed!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he 2000 round of housing censuses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n the ECE reg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916280"/>
            <a:ext cx="8305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formation on housing collected in virtually all countries where a population census was taken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most countries, information was collected at the time of the population census, using census forms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formation compiled exclusively from registers in Denmark and Finland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4 countries, information from registers was complemented with additional information from sample surveys or  with traditional censu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 topics covered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by ECE countries in the 2000 round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76360" y="1773360"/>
          <a:ext cx="6048360" cy="4817880"/>
        </p:xfrm>
        <a:graphic>
          <a:graphicData uri="http://schemas.openxmlformats.org/drawingml/2006/table">
            <a:tbl>
              <a:tblPr/>
              <a:tblGrid>
                <a:gridCol w="4753080"/>
                <a:gridCol w="1295280"/>
              </a:tblGrid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e topics sorted by number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RO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OWNE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 OF LIVING QUAR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LIVING QUAR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HE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OCCUP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THING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IOD OF CONSTRUCTION (building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ILET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SUPPLY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T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UPANCY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BUILDING (building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Non-core topics covered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by ECE countries in the 2000 round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47640" y="1700280"/>
          <a:ext cx="6048360" cy="4761000"/>
        </p:xfrm>
        <a:graphic>
          <a:graphicData uri="http://schemas.openxmlformats.org/drawingml/2006/table">
            <a:tbl>
              <a:tblPr/>
              <a:tblGrid>
                <a:gridCol w="4573440"/>
                <a:gridCol w="1474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core topics sorted by number of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ful and/or living floor 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sewage disposal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 type of energy used for hea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 w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tr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d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 of which specific parts of the building are constructed (buildin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 Fac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 of dwelling in the buil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floors (buildin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t (buildin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upancy by one or more 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 of repair (buildin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of vac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-topic “Occupancy status”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n the 2000 recommendations: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060640"/>
            <a:ext cx="87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1.0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Dwellings which are the usual residence of at least one person at the time of the census (occupied dwellings)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2.0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Dwellings reserved for seasonal or secondary use but fit for habitation all the year round (regardless of whether or not they are occupied at the time of the census).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3.0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Vacant dwellings (i.e. dwellings which have no usual residents at the time of the census but are available to become the usual residence of at least one person)</a:t>
            </a:r>
            <a:br>
              <a:rPr sz="2600"/>
            </a:br>
            <a:br>
              <a:rPr sz="1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-topic “Occupancy status”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ractices followed by countries in 2000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060640"/>
            <a:ext cx="8424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n almost all countries, occupied dwellings (category 1.0) have been defined following the recommendations</a:t>
            </a:r>
            <a:br>
              <a:rPr sz="2600"/>
            </a:br>
            <a:br>
              <a:rPr sz="14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Several countries adopted the term “main residence”</a:t>
            </a:r>
            <a:br>
              <a:rPr sz="2600"/>
            </a:br>
            <a:br>
              <a:rPr sz="14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ategory 2.0 “</a:t>
            </a: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Dwelling reserved for seasonal or secondary use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” is also considered by most countries, but no reference to the requirement “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Times New Roman"/>
              </a:rPr>
              <a:t>to be fit for habitation all the year round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”</a:t>
            </a:r>
            <a:br>
              <a:rPr sz="2600"/>
            </a:br>
            <a:br>
              <a:rPr sz="14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any countries considered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various reasons for vacancy </a:t>
            </a:r>
            <a:br>
              <a:rPr sz="2600"/>
            </a:br>
            <a:br>
              <a:rPr sz="1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-topic “Occupancy status” 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7724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28160" y="2133720"/>
            <a:ext cx="51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Garamond"/>
              </a:rPr>
              <a:t>An example: Portu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-topic “Type of building”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n the 2000 recommendations: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060640"/>
            <a:ext cx="87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457200"/>
                <a:tab algn="l" pos="628560"/>
                <a:tab algn="l" pos="9907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residential building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 one-dwelling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1.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ground-oriented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1.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other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 two-dwelling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2.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ground-oriented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2.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other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3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 three-or-more dwelling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3.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ground-oriented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1.3.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other house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.0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non-residential buildings and in buildings consisting mainly of living quarters other than housing units (e.g. hotels)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.0.1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non-residential buildings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.0.2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Dwellings in buildings consisting mainly of living quarters other than housing uni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re-topic “Type of building”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 Practices followed by countries in 2000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2060640"/>
            <a:ext cx="82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n most countries a different classification was adopted, or it was followed with the categories in different order and with other terms than “ground-oriented houses”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n the majority of countries, a classification was used like... </a:t>
            </a:r>
            <a:br>
              <a:rPr sz="2600"/>
            </a:br>
            <a:br>
              <a:rPr sz="1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UNECE</cp:lastModifiedBy>
  <dcterms:modified xsi:type="dcterms:W3CDTF">2004-11-26T08:22:34Z</dcterms:modified>
  <cp:revision>194</cp:revision>
  <dc:subject/>
  <dc:title>THE STATUS OF STATISTICS ON WOMEN AND MEN’S  ENTREPRENEURSHIP IN THE      UNECE REGION </dc:title>
</cp:coreProperties>
</file>