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International migration: </a:t>
            </a:r>
            <a:br>
              <a:rPr sz="4400"/>
            </a:b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practices of 2000 Round </a:t>
            </a:r>
            <a:br>
              <a:rPr sz="4400"/>
            </a:br>
            <a:r>
              <a:rPr b="1" lang="fr-CH" sz="4400" spc="-1" strike="noStrike">
                <a:solidFill>
                  <a:srgbClr val="a50021"/>
                </a:solidFill>
                <a:latin typeface="Times New Roman"/>
              </a:rPr>
              <a:t>and issues for 2010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43434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rico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Population Censu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a, 23-25 Novem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ich questions to include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lace of births of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itizenship at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both included in 2000 Recommendations as non-core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ome data from 2000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US immigrants in France (1999)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263760"/>
            <a:ext cx="77724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pecial population group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foreign workers with legal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ent foreigners without legal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lum see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uge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ily absent pers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pecial groups and population count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133720"/>
          <a:ext cx="80769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76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Refuge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Rec: 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clude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in resident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8 countries considered them as res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733920"/>
            <a:ext cx="746748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efinitional problems: 3 types of refug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951 Geneva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umanitarian refug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ass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oreigners without legal statu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000 Recomm: </a:t>
            </a: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specific pro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ensitiv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Very diverse approaches across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r 2010: is a common position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facto or legal appr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Flow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Two different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ere were you resident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years ago?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31 countries in 2000 Ro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en did you come to live here?          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29 countries in 2000 Rou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y census data on flow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l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Information on origin and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monitoring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Migration date </a:t>
            </a:r>
            <a:r>
              <a:rPr b="0" lang="fr-C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duration of res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ype A ques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rigin-destination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information on when the migration occu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Overview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to identify the stock of immi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speci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Which question(s) best capture mig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ason for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ype B ques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precise on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information on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mplications for 2010 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ype A better fit for internal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Type B better fit for international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wo approaches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did you come to live in this municipality from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did you come to live in this country and from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Reason for migra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mentioned in 2000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11 countries included this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emand from users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labour mig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ssues for 2010 Recommendati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General question, generic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200400"/>
            <a:ext cx="754380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More specific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fficial reason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istinguish between causes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Reason for selecting th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 clear definition of this group in the 2000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Focus on two related variables (core-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Place/country of birth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4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Citizenship </a:t>
            </a: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42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Stock of immigrants: </a:t>
            </a:r>
            <a:br>
              <a:rPr sz="4400"/>
            </a:b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the defini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Place of birth: the definition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Mother’s residence at the time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(2000 Recommend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429000"/>
            <a:ext cx="7696080" cy="2348280"/>
          </a:xfrm>
          <a:prstGeom prst="rect">
            <a:avLst/>
          </a:prstGeom>
          <a:solidFill>
            <a:srgbClr val="808080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000000"/>
                </a:solidFill>
                <a:latin typeface="Times New Roman"/>
              </a:rPr>
              <a:t>Some com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5 countries used the actual place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Higher non-response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3200" spc="-1" strike="noStrike">
                <a:solidFill>
                  <a:srgbClr val="000000"/>
                </a:solidFill>
                <a:latin typeface="Times New Roman"/>
              </a:rPr>
              <a:t>In Switzerland: 28% among CH born ab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Why data on stocks?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Monitor size and composition of population with foreign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</a:rPr>
              <a:t>having a long-term view on their integ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1240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ountry of birth: pros and c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Evidence of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Does not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Some ‘Nationals’ can be inclu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2nd generation ex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t ‘policy’ relev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Citizenship: pros and con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Legally 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ational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imes New Roman"/>
              </a:rPr>
              <a:t>Not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Indications from 2000 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9 Count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ked other questions on birth and/or citize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e citize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itizenship at birth/by natu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ountry of birth of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dddddd"/>
                </a:solidFill>
                <a:latin typeface="Garamond"/>
              </a:rPr>
              <a:t>A proposal: population with foreign backgroun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8483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UNECE</cp:lastModifiedBy>
  <dcterms:modified xsi:type="dcterms:W3CDTF">2004-11-24T09:03:52Z</dcterms:modified>
  <cp:revision>225</cp:revision>
  <dc:subject/>
  <dc:title>THE STATUS OF STATISTICS ON WOMEN AND MEN’S  ENTREPRENEURSHIP IN THE      UNECE REGION </dc:title>
</cp:coreProperties>
</file>