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39640" y="6165720"/>
            <a:ext cx="544680" cy="457200"/>
            <a:chOff x="539640" y="6165720"/>
            <a:chExt cx="544680" cy="4572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544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PlaceHolder 3"/>
            <p:cNvSpPr>
              <a:spLocks noGrp="1"/>
            </p:cNvSpPr>
            <p:nvPr>
              <p:ph type="dt" idx="1"/>
            </p:nvPr>
          </p:nvSpPr>
          <p:spPr>
            <a:xfrm>
              <a:off x="539640" y="6165720"/>
              <a:ext cx="544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7700040" y="61722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769644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he place of usual residence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nd the total population: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national practices in the 2000 round 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nd comments on the recommendation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640" y="436536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aolo 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Social and Demographic Statistics S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N Economic Commission for Europe - Statistical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720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ECE Work Session on Population Censu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Geneva, 23-25 November 2004</a:t>
            </a:r>
            <a:r>
              <a:rPr b="1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lace of usual residence 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2010 recommendations (1/2)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484280"/>
            <a:ext cx="8353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Keep the same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concept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of usual residence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the place where most of the night rest is spent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) and better define the “time frame”.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.: “</a:t>
            </a: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the place where the person spent most of the nights [or most of the time] in the last year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Place of usual residence </a:t>
            </a:r>
            <a:br>
              <a:rPr sz="4000"/>
            </a:b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2010 recommendations (2/2)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484280"/>
            <a:ext cx="8353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r “difficult groups”: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1) revise list of groups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2) define clearer rules for each group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3) discuss the “priority to family place”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br>
              <a:rPr sz="8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pecific instructions for countries using regis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Total popula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421000"/>
            <a:ext cx="860400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any different concepts of total population can be defined and used for various purposes.</a:t>
            </a:r>
            <a:br>
              <a:rPr sz="3200"/>
            </a:br>
            <a:br>
              <a:rPr sz="18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r censuses, the two most common concepts are: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e total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usually resident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population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e total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present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population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Total population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Definition in 2000 recommendation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e 2000 recommendations were based on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total </a:t>
            </a: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usually resident</a:t>
            </a: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 population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”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ersons had to be counted at their place of usual residence, or the information had to be “transferred” to their place of usual residence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Total population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 Definition in 2000 recommendation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2060640"/>
            <a:ext cx="8459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ist of special groups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o be included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in the total usually resident population:</a:t>
            </a:r>
            <a:br>
              <a:rPr sz="36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nomads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various categories of persons temporarily absent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refugees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homeless</a:t>
            </a:r>
            <a:br>
              <a:rPr sz="3200"/>
            </a:b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nd other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66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Total population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 Definition in 2000 recommendation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8459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ist of special groups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T to be included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in the total usually resident population:</a:t>
            </a:r>
            <a:br>
              <a:rPr sz="36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various categories of foreigners temporarily    present in the country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asylum seek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Total population 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 Results of the ECE questionnair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28600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arge majority of countries reported that they complied with the recommended concept of total usually resident population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 </a:t>
            </a:r>
            <a:br>
              <a:rPr sz="3200"/>
            </a:br>
            <a:br>
              <a:rPr sz="24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ree countries took a “de facto” census</a:t>
            </a:r>
            <a:br>
              <a:rPr sz="2800"/>
            </a:b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Total population </a:t>
            </a:r>
            <a:br>
              <a:rPr sz="4000"/>
            </a:b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 Results of the ECE questionnaire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1844640"/>
            <a:ext cx="820872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BUT: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s with “special groups”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Nomads WERE NOT included in 18 countries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Refugees WERE NOT included in 14 countri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Asylum seekers WERE included in 22 countries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Total population 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2010 recommendation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281952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75248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imes New Roman"/>
              </a:rPr>
              <a:t>Maintain the same concept of total 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usually resident</a:t>
            </a:r>
            <a:r>
              <a:rPr b="0" lang="en-GB" sz="3200" spc="-1" strike="noStrike">
                <a:solidFill>
                  <a:srgbClr val="a50021"/>
                </a:solidFill>
                <a:latin typeface="Times New Roman"/>
              </a:rPr>
              <a:t> population, but try to better harmonize the treatment of various special groups:</a:t>
            </a:r>
            <a:br>
              <a:rPr sz="3200"/>
            </a:br>
            <a:r>
              <a:rPr b="0" lang="en-GB" sz="3200" spc="-1" strike="noStrike">
                <a:solidFill>
                  <a:srgbClr val="a50021"/>
                </a:solidFill>
                <a:latin typeface="Times New Roman"/>
              </a:rPr>
              <a:t>- refugees</a:t>
            </a:r>
            <a:br>
              <a:rPr sz="3200"/>
            </a:br>
            <a:r>
              <a:rPr b="0" lang="en-GB" sz="3200" spc="-1" strike="noStrike">
                <a:solidFill>
                  <a:srgbClr val="a50021"/>
                </a:solidFill>
                <a:latin typeface="Times New Roman"/>
              </a:rPr>
              <a:t>- nomads</a:t>
            </a:r>
            <a:br>
              <a:rPr sz="3200"/>
            </a:br>
            <a:r>
              <a:rPr b="0" lang="en-GB" sz="3200" spc="-1" strike="noStrike">
                <a:solidFill>
                  <a:srgbClr val="a50021"/>
                </a:solidFill>
                <a:latin typeface="Times New Roman"/>
              </a:rPr>
              <a:t>- asylum seekers</a:t>
            </a:r>
            <a:br>
              <a:rPr sz="3200"/>
            </a:br>
            <a:r>
              <a:rPr b="0" lang="en-GB" sz="3200" spc="-1" strike="noStrike">
                <a:solidFill>
                  <a:srgbClr val="a50021"/>
                </a:solidFill>
                <a:latin typeface="Times New Roman"/>
              </a:rPr>
              <a:t>- undocumented immigrants? (not mentioned in the 2000 rec.) </a:t>
            </a:r>
            <a:r>
              <a:rPr b="0" lang="en-GB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GB" sz="3200" spc="-1" strike="noStrike">
                <a:solidFill>
                  <a:srgbClr val="a50021"/>
                </a:solidFill>
                <a:latin typeface="Times New Roman"/>
              </a:rPr>
              <a:t>- students studying abroad? (pres. by Eurostat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lace of usual residence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General concept and definition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981080"/>
            <a:ext cx="7848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In the 2000 recommendations, it is defined as the place where the person “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</a:rPr>
              <a:t>spends most of his/her daily night-rest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” 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lace of usual residence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Difficult group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057400"/>
            <a:ext cx="8305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 list of “difficult groups” was given, including: </a:t>
            </a:r>
            <a:br>
              <a:rPr sz="3200"/>
            </a:br>
            <a:br>
              <a:rPr sz="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persons who maintain more than one residence   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students living in a residence for part of the year and elsewhere during vacations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- persons who live away from home during the working week and return at weekends</a:t>
            </a:r>
            <a:br>
              <a:rPr sz="28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(and other groups...)</a:t>
            </a:r>
            <a:br>
              <a:rPr sz="2800"/>
            </a:br>
            <a:r>
              <a:rPr b="0" lang="en-US" sz="1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lace of usual residence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Difficult group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057400"/>
            <a:ext cx="7848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For these “difficult groups”, the general definition was still valid, with the additional clarification: </a:t>
            </a: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For persons with a spouse/partner and/or children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 the usual residence should be that at which they spend the majority of the time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with their family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lace of usual residence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Difficult group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057400"/>
            <a:ext cx="7848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pecial “difficult group”: 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nomads, homeless and roofless persons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.  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cording to the recommendations, they had to be considered “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as usually resident where they are enumerate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lace of usual residence 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Results of the ECE questionnair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0574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Large majority of countries reported that they complied with the recommended definition/concept of usual residence</a:t>
            </a:r>
            <a:br>
              <a:rPr sz="3600"/>
            </a:br>
            <a:br>
              <a:rPr sz="1800"/>
            </a:b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BUT</a:t>
            </a:r>
            <a:br>
              <a:rPr sz="4000"/>
            </a:br>
            <a:br>
              <a:rPr sz="18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High variability in the treatment of “difficult group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lace of usual residence 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Treatment of “difficult groups”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600200"/>
            <a:ext cx="8153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r instance:</a:t>
            </a:r>
            <a:br>
              <a:rPr sz="3200"/>
            </a:br>
            <a:br>
              <a:rPr sz="800"/>
            </a:br>
            <a:r>
              <a:rPr b="0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Students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: in half of the countries counted at college, in half of the countries counted at home</a:t>
            </a:r>
            <a:br>
              <a:rPr sz="3200"/>
            </a:br>
            <a:br>
              <a:rPr sz="800"/>
            </a:br>
            <a:r>
              <a:rPr b="0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Persons who left the place/country temporarily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: some countries set maximum length of the absence (3 or 6 months), other have no limit</a:t>
            </a:r>
            <a:br>
              <a:rPr sz="3200"/>
            </a:br>
            <a:br>
              <a:rPr sz="20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 general: inconsistent application of the recommendation on “priority to family pla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lace of usual residence 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Double and undercounting problem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8600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For many of the “difficult groups”, countries </a:t>
            </a:r>
            <a:br>
              <a:rPr sz="32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reported double and undercounting problems</a:t>
            </a:r>
            <a:br>
              <a:rPr sz="32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Double counting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reported for:</a:t>
            </a:r>
            <a:br>
              <a:rPr sz="2800"/>
            </a:br>
            <a:br>
              <a:rPr sz="18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students (counted at college and at home)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persons with multiple residences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persons in institutions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children of divorced parents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Place of usual residence </a:t>
            </a:r>
            <a:br>
              <a:rPr sz="3600"/>
            </a:br>
            <a:r>
              <a:rPr b="1" lang="en-US" sz="3600" spc="-1" strike="noStrike">
                <a:solidFill>
                  <a:srgbClr val="dddddd"/>
                </a:solidFill>
                <a:latin typeface="Garamond"/>
              </a:rPr>
              <a:t>Double and undercounting problems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28600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1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Undercounting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reported for:</a:t>
            </a:r>
            <a:br>
              <a:rPr sz="3200"/>
            </a:br>
            <a:br>
              <a:rPr sz="18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young and mobile persons (in particular people living alone and males)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persons temporarily absent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immigrants (especially recent and illegal)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- homeless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32:39Z</dcterms:created>
  <dc:creator>Giovannelli</dc:creator>
  <dc:description/>
  <dc:language>en-US</dc:language>
  <cp:lastModifiedBy>Paolo Valente</cp:lastModifiedBy>
  <dcterms:modified xsi:type="dcterms:W3CDTF">2004-11-24T08:23:47Z</dcterms:modified>
  <cp:revision>191</cp:revision>
  <dc:subject/>
  <dc:title>THE STATUS OF STATISTICS ON WOMEN AND MEN’S  ENTREPRENEURSHIP IN THE      UNECE REGION </dc:title>
</cp:coreProperties>
</file>