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13C-6DF6-40D7-A050-6075696A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1A4-A26F-4A42-820E-637236E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245-9BDB-4A2D-9242-78B754FB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EE8-EA70-4490-B115-CCFAE00F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2BC7-D97A-44CD-98EA-1340DE93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B3F-FFBE-4745-B57F-4CF37EA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D1B2-A742-456E-BD1A-9DDB9A14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1A0F-960A-4B75-A17F-4F3D4393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B91-D97F-4223-8A47-FA6F558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FD9-45BB-4582-9125-C14F7286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57F-BDD1-4B62-B071-BF94E064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E9C-E677-4C6A-9380-298BAE6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419E-7BE2-4EE0-90AE-DBD0B7E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1134-266D-4643-9B92-416A6C1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CCB1-34F3-4801-99F2-1BC9962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6013-D407-4DD3-AB92-4BA1161A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E6ED-0266-4A4B-B7CD-4ADFAD33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BA1-21D6-4ED6-B8F0-17FD969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B15-6A31-43BF-B093-D801026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4B2-A405-4367-B605-CA4C6D9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48B-214E-4941-BC4C-7217E45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3B4-3C64-40E5-B651-437B191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938-4AA0-4ACF-9849-B2D39D98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F07-BBA1-4007-9749-B3AAA8E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BA1F-709B-40B7-A97C-83DED366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EF5-4538-46E3-90CC-4730CB518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381880" cy="5699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United Nations World Programme of Population and Housing Cens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ssons learned and Next step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ountries in Difficult Circumst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pproaches to censuses in countries having difficult circumst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IV/AIDS/Causes of death question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unting nationals in other countries (Afghan refugees' census with Pakistan) </a:t>
            </a: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(18 A</a:t>
            </a: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ug. 18, 2004 )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atellite census begins for E Timor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(11 July 2004)</a:t>
            </a: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tality as a census topic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national migration &amp; Refugees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 national dataset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of IT/Satellites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hat to do for countries where censuses were not conducted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3657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hoose low tech IT?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llow non-statistical demands on census activities/Census lite?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crease the value of censuses?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xternal funding?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111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UN Statistical Commi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Resolution for 2010 World Programme of Population and Housing Censuses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oposal for Active Involvement of Member States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pert Group 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275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UNSD website: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ttp://unstats.un.org/unsd/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Aft>
                <a:spcPts val="1375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ensus publications available for download in 6 UN languages: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http://unstats.un.org/unsd/demographic/sources/census/census3.htm</a:t>
            </a:r>
            <a:endParaRPr b="0" lang="en-US" sz="22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Times New Roman"/>
              </a:rPr>
              <a:t>Materials related to the Symposium and the Expert Group recently held in New York:</a:t>
            </a:r>
            <a:br>
              <a:rPr sz="3200"/>
            </a:b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http://unstats.un.org/unsd/demographic/meetings/egm/default.htm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</a:rPr>
              <a:t>Resolution 1995/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rged Member States to: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arry out population and housing censuses during the period 1995-2004; and 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vide census results to the United Nations and other appropriate intergovernmental organizations.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quested the Secretary-General to: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ceed with the development of the 2000 World Program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440" y="73072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Source:  United Nations Economic and Social Counc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arry out population and housing censuses during the period 1995-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umber of countries and areas of the world </a:t>
            </a:r>
            <a:r>
              <a:rPr b="1" lang="en-US" sz="3200" spc="-1" strike="noStrike">
                <a:solidFill>
                  <a:srgbClr val="ff3300"/>
                </a:solidFill>
                <a:latin typeface="Albertus Extra Bold"/>
              </a:rPr>
              <a:t>increased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o 231 from 212 countries and areas) 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 number conducting censuses </a:t>
            </a:r>
            <a:r>
              <a:rPr b="1" lang="en-US" sz="3200" spc="-1" strike="noStrike">
                <a:solidFill>
                  <a:srgbClr val="ff3300"/>
                </a:solidFill>
                <a:latin typeface="Albertus Extra Bold"/>
              </a:rPr>
              <a:t>increased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 to 196 from187 countries and areas).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portion of the population covered by population censuses </a:t>
            </a:r>
            <a:r>
              <a:rPr b="1" lang="en-US" sz="3200" spc="-1" strike="noStrike">
                <a:solidFill>
                  <a:srgbClr val="ff3300"/>
                </a:solidFill>
                <a:latin typeface="Albertus Extra Bold"/>
              </a:rPr>
              <a:t>decreas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 to 89% from 92% of world population).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666880"/>
            <a:ext cx="685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191120"/>
            <a:ext cx="685800" cy="533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571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42280" y="6553080"/>
            <a:ext cx="350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istics Division – As of  July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049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onducte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/Not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onduc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76720" y="1103400"/>
            <a:ext cx="5715000" cy="291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152960"/>
            <a:ext cx="5410080" cy="2705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926480" y="38638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" y="3549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19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6320" y="1793880"/>
            <a:ext cx="7729560" cy="4454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69960" y="6477120"/>
            <a:ext cx="39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ited Nations Statistics Division – As of  July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28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opulation covered in the 2000 Round; World and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ensuses in Africa: A Probl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5562720"/>
            <a:ext cx="1828800" cy="53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1990 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562720"/>
            <a:ext cx="1828800" cy="53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2000 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068480"/>
          <a:ext cx="4191120" cy="413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068480"/>
                    <a:ext cx="41911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724280" y="1073160"/>
          <a:ext cx="4191120" cy="413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73160"/>
                    <a:ext cx="419112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rovide census results to the United Nations and other organiz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00200"/>
          <a:ext cx="8153280" cy="451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8153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85000" y="6338880"/>
            <a:ext cx="45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ource:  United Nations Statistics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merging Issues:  Censuses in the N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opulation growth heading for 100-year low (6 Sept. 2004, The Netherlands)</a:t>
            </a: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ngapore to review immigration policies to up population numbers (3 September 2004)</a:t>
            </a: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001 Census Shows 90 % Live in ‘Urban’ Areas (June 2004, UK, census results)</a:t>
            </a: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.S. Census Test Criticised (18 June 2004)</a:t>
            </a: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One million foreign citizens have arrived in just over ten years (19 June 2004, Italy</a:t>
            </a:r>
            <a:endParaRPr b="0" lang="en-US" sz="20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641600"/>
          <a:ext cx="3807000" cy="44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41600"/>
                    <a:ext cx="3807000" cy="44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95120" y="1523880"/>
            <a:ext cx="45291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loba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roader groups of constituents ethnically, linguistically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New data demands and alternative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Problems of public 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Population change influences census topics to be addressed: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ertility Decline,  International Migration, Population Aging, Human functioning and Disability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639800"/>
          <a:ext cx="7162920" cy="21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39800"/>
                    <a:ext cx="71629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90720" y="4343400"/>
          <a:ext cx="7095960" cy="21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343400"/>
                    <a:ext cx="709596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94000" y="100980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367668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3T15:43:09Z</dcterms:created>
  <dc:creator>Danijel Volcansek</dc:creator>
  <dc:description/>
  <dc:language>en-US</dc:language>
  <cp:lastModifiedBy>UNECE</cp:lastModifiedBy>
  <dcterms:modified xsi:type="dcterms:W3CDTF">2004-11-22T16:10:39Z</dcterms:modified>
  <cp:revision>82</cp:revision>
  <dc:subject/>
  <dc:title>PowerPoint Presentation</dc:title>
</cp:coreProperties>
</file>