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828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6516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104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828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6516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45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828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65160" y="257472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104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828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65160" y="4374360"/>
            <a:ext cx="2711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45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85640" y="437436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5640" y="2574720"/>
            <a:ext cx="4108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040" y="4374360"/>
            <a:ext cx="8420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71040" y="25747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616680" indent="-2372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948600" indent="-18972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328040" indent="-189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1707480" indent="-18972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3440160" y="6241680"/>
            <a:ext cx="31017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© Copyright 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40160" y="6242040"/>
            <a:ext cx="3101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© Copyright 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1337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Joint ECE/EUROSTAT work session on Population Censuses</a:t>
            </a:r>
            <a:br>
              <a:rPr sz="36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Geneva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22-25 Novem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2670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an Wh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1828800"/>
            <a:ext cx="71629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08240" y="1922400"/>
          <a:ext cx="6021360" cy="402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8240" y="1922400"/>
                    <a:ext cx="602136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28800" y="1523880"/>
            <a:ext cx="63244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4560" y="1619280"/>
          <a:ext cx="5487840" cy="440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4560" y="1619280"/>
                    <a:ext cx="548784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00200" y="1447920"/>
            <a:ext cx="670572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979640" y="1558800"/>
          <a:ext cx="5911920" cy="473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1558800"/>
                    <a:ext cx="591192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05120" y="1371600"/>
            <a:ext cx="60195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11480" y="1500120"/>
          <a:ext cx="6325920" cy="4444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500120"/>
                    <a:ext cx="632592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05120" y="1447920"/>
            <a:ext cx="5943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214720" y="1509840"/>
          <a:ext cx="6122880" cy="4687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1509840"/>
                    <a:ext cx="612288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981080" y="1447920"/>
            <a:ext cx="647712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14720" y="1633680"/>
          <a:ext cx="5973480" cy="457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1633680"/>
                    <a:ext cx="59734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1600200"/>
            <a:ext cx="678204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30240" y="1855800"/>
          <a:ext cx="8075880" cy="4648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0240" y="1855800"/>
                    <a:ext cx="80758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5120" y="1371600"/>
            <a:ext cx="563868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214720" y="1484280"/>
          <a:ext cx="6091200" cy="505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1484280"/>
                    <a:ext cx="60912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905120" y="1371600"/>
            <a:ext cx="58672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135160" y="1517760"/>
          <a:ext cx="6021360" cy="480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5160" y="1517760"/>
                    <a:ext cx="602136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1600200"/>
            <a:ext cx="6553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30240" y="1755720"/>
          <a:ext cx="6829560" cy="41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0240" y="1755720"/>
                    <a:ext cx="682956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04920" y="1447920"/>
            <a:ext cx="8305560" cy="4419360"/>
            <a:chOff x="304920" y="1447920"/>
            <a:chExt cx="8305560" cy="4419360"/>
          </a:xfrm>
        </p:grpSpPr>
        <p:sp>
          <p:nvSpPr>
            <p:cNvPr id="81" name=""/>
            <p:cNvSpPr/>
            <p:nvPr/>
          </p:nvSpPr>
          <p:spPr>
            <a:xfrm>
              <a:off x="304920" y="1447920"/>
              <a:ext cx="8229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igure 1- Enumeration methods: population, ECE  Member St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219320" y="2209680"/>
              <a:ext cx="7391160" cy="3657600"/>
              <a:chOff x="1219320" y="2209680"/>
              <a:chExt cx="7391160" cy="3657600"/>
            </a:xfrm>
          </p:grpSpPr>
          <p:sp>
            <p:nvSpPr>
              <p:cNvPr id="83" name=""/>
              <p:cNvSpPr/>
              <p:nvPr/>
            </p:nvSpPr>
            <p:spPr>
              <a:xfrm>
                <a:off x="1219320" y="2209680"/>
                <a:ext cx="7391160" cy="365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793240" y="2405520"/>
                <a:ext cx="0" cy="30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93240" y="5409720"/>
                <a:ext cx="506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635120" y="2538720"/>
                <a:ext cx="1032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Admin regist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29720" y="30600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Register &amp; questionnai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29720" y="3777120"/>
                <a:ext cx="889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Register &amp; sample surve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29720" y="443160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Traditional field oper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613160" y="5083560"/>
                <a:ext cx="1235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No census/no pla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793240" y="54097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857720" y="54097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25480" y="54097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56760" y="54097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625800" y="54097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05400" y="5473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18160" y="547380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94440" y="547380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495480" y="547380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27400" y="547380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93240" y="5148360"/>
                <a:ext cx="547200" cy="130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93240" y="5018040"/>
                <a:ext cx="410400" cy="130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93240" y="4560840"/>
                <a:ext cx="3216240" cy="130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93240" y="4430160"/>
                <a:ext cx="4516560" cy="130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793240" y="3907800"/>
                <a:ext cx="821160" cy="130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793240" y="3777120"/>
                <a:ext cx="273240" cy="13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93240" y="3254760"/>
                <a:ext cx="410400" cy="130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793240" y="3124080"/>
                <a:ext cx="273240" cy="130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93240" y="2666880"/>
                <a:ext cx="821160" cy="130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93240" y="2536200"/>
                <a:ext cx="547200" cy="130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73000" y="2470680"/>
                <a:ext cx="205200" cy="19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73000" y="2797200"/>
                <a:ext cx="205200" cy="195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84320" y="246960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2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79280" y="279720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21360" y="2472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96760" y="2602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8480" y="30600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09040" y="318780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480" y="37119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96760" y="3843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299000" y="436464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3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98320" y="455940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2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84560" y="49525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44400" y="50835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7920" y="2057400"/>
            <a:ext cx="72388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981080" y="2295360"/>
          <a:ext cx="6935760" cy="286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295360"/>
                    <a:ext cx="693576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04920" y="1447920"/>
            <a:ext cx="8305560" cy="4419360"/>
            <a:chOff x="304920" y="1447920"/>
            <a:chExt cx="8305560" cy="4419360"/>
          </a:xfrm>
        </p:grpSpPr>
        <p:sp>
          <p:nvSpPr>
            <p:cNvPr id="127" name=""/>
            <p:cNvSpPr/>
            <p:nvPr/>
          </p:nvSpPr>
          <p:spPr>
            <a:xfrm>
              <a:off x="304920" y="1447920"/>
              <a:ext cx="8229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igure 2- Enumeration methods: households, ECE  Member St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219320" y="2209680"/>
              <a:ext cx="7391160" cy="3657600"/>
              <a:chOff x="1219320" y="2209680"/>
              <a:chExt cx="7391160" cy="3657600"/>
            </a:xfrm>
          </p:grpSpPr>
          <p:sp>
            <p:nvSpPr>
              <p:cNvPr id="129" name=""/>
              <p:cNvSpPr/>
              <p:nvPr/>
            </p:nvSpPr>
            <p:spPr>
              <a:xfrm>
                <a:off x="1219320" y="2209680"/>
                <a:ext cx="7391160" cy="365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93240" y="2405520"/>
                <a:ext cx="0" cy="30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93240" y="5409720"/>
                <a:ext cx="506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35120" y="2538720"/>
                <a:ext cx="1032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Admin regist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29720" y="3058560"/>
                <a:ext cx="95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Register &amp; questionnai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29720" y="3777120"/>
                <a:ext cx="889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Register &amp; sample surve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29720" y="4430160"/>
                <a:ext cx="116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Traditional field oper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13160" y="5083560"/>
                <a:ext cx="1235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No census/no pla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93240" y="54097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857720" y="54097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25480" y="54097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56760" y="54097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5800" y="54097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05400" y="5475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16360" y="547524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440" y="547524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95480" y="547524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27400" y="547524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93240" y="5148360"/>
                <a:ext cx="547200" cy="130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93240" y="5018040"/>
                <a:ext cx="410400" cy="130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93240" y="4560840"/>
                <a:ext cx="3490200" cy="130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93240" y="4430160"/>
                <a:ext cx="4653360" cy="130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93240" y="3907800"/>
                <a:ext cx="684000" cy="130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93240" y="3777120"/>
                <a:ext cx="136440" cy="13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93240" y="3254760"/>
                <a:ext cx="547200" cy="130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93240" y="3124080"/>
                <a:ext cx="410400" cy="130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93240" y="2666880"/>
                <a:ext cx="684000" cy="130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93240" y="2536200"/>
                <a:ext cx="410400" cy="130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73000" y="2470680"/>
                <a:ext cx="205200" cy="19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73000" y="2797200"/>
                <a:ext cx="205200" cy="195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82880" y="246960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2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79280" y="279720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07600" y="24721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58520" y="26013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84560" y="30585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21360" y="318924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18880" y="37119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38437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35800" y="436464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3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72280" y="4560840"/>
                <a:ext cx="31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2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184560" y="495252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44400" y="5083560"/>
                <a:ext cx="246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2209680"/>
            <a:ext cx="73911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08240" y="2408400"/>
          <a:ext cx="5487840" cy="3154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8240" y="2408400"/>
                    <a:ext cx="548784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325240" y="1888920"/>
            <a:ext cx="84200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ecial programme combining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pulation request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welling survey of owners of building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olling censu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tarts in 2004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0% communes &lt;10,000 annuall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8% large communes annuall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ministrative data combined with small area estimation techniqu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rst output 2008 - onward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7" name="FRANCEFL" descr=""/>
          <p:cNvPicPr/>
          <p:nvPr/>
        </p:nvPicPr>
        <p:blipFill>
          <a:blip r:embed="rId2"/>
          <a:stretch/>
        </p:blipFill>
        <p:spPr>
          <a:xfrm>
            <a:off x="534960" y="3733920"/>
            <a:ext cx="1446120" cy="942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34960" y="2057400"/>
            <a:ext cx="1370160" cy="9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1920" y="1905120"/>
            <a:ext cx="84200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grated Census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pulation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ministrativ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0% sample survey of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grated Population Statistics System in England and W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ew population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ministrativ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tinuous Population Survey (200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011 Census - the last censu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ISRAELFL" descr=""/>
          <p:cNvPicPr/>
          <p:nvPr/>
        </p:nvPicPr>
        <p:blipFill>
          <a:blip r:embed="rId2"/>
          <a:stretch/>
        </p:blipFill>
        <p:spPr>
          <a:xfrm>
            <a:off x="455760" y="2057400"/>
            <a:ext cx="1449360" cy="100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55760" y="4114800"/>
            <a:ext cx="1449360" cy="89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990720"/>
            <a:ext cx="84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s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21040" y="1905120"/>
            <a:ext cx="84200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ew American Community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mall sample of household selected each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Replaces the census ‘long’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Covers 40+ questions on housing and 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Full implementation in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Decennial census will keep ‘short’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06360" y="2057400"/>
            <a:ext cx="1447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1828800"/>
            <a:ext cx="7467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1000" y="2114640"/>
          <a:ext cx="7250040" cy="285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1000" y="2114640"/>
                    <a:ext cx="7250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60080" y="304920"/>
            <a:ext cx="757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oint ECE/EUROSTAT work session on Population Censuses</a:t>
            </a:r>
            <a:br>
              <a:rPr sz="20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va, 22-25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828800"/>
            <a:ext cx="71629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05120" y="2025720"/>
          <a:ext cx="6629400" cy="338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025720"/>
                    <a:ext cx="66294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09:34:52Z</dcterms:created>
  <dc:creator>Louise Davies</dc:creator>
  <dc:description/>
  <dc:language>en-US</dc:language>
  <cp:lastModifiedBy>Lily Engin</cp:lastModifiedBy>
  <cp:lastPrinted>2004-11-16T12:22:11Z</cp:lastPrinted>
  <dcterms:modified xsi:type="dcterms:W3CDTF">2004-11-16T12:37:30Z</dcterms:modified>
  <cp:revision>31</cp:revision>
  <dc:subject/>
  <dc:title>No Slide Title</dc:title>
</cp:coreProperties>
</file>