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05A-769C-41E0-B2AE-146A5EB7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B0E-9EC9-4220-AFC7-3B68B29A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02E-F980-4750-8839-F946B315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89F-C963-490F-B447-E4E94A35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D96-FB2C-4244-A57B-53D2726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E86-BE69-4368-AB16-B8C6D6A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486-2457-4195-8AAE-F3F9DF38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ABF-6943-47E4-A934-7B2EDFD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0A9-36FB-4B20-B093-6A132271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7FD-E07F-4B80-BACF-0E895409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75-3002-49CD-83F2-3F1E2D6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E0E-4AF6-4C2A-8D46-6F42D75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952-4638-4B09-85B6-33A5B81BA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Joint ECE-Eurostat programme on the new recommendations for the 2010 round of Population and Housing Censuses in the ECE region</a:t>
            </a:r>
            <a:r>
              <a:rPr b="0" lang="en-GB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16765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Joint ECE-Eurostat Steering Group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on Population and Housing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 Censuse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Objective of the programm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Preparation of the new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Recommendations for the 2010 Censuses of Population and Housing in the ECE Region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To be approved by the Conference of European Statisticians in June 2006 </a:t>
            </a:r>
            <a:br>
              <a:rPr sz="2200"/>
            </a:b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(as decided by the CES in 2003)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Joint ECE-Eurostat Work Session on Population and Housing Censuses, in May 2003:  tentative work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plan for updating the „Recommendations…”, with the deadline of approval by the CES in June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Setting up a Steering Group on Population and Housing Censuses (ECE, Eurostat, Canada, Ireland, Russian Federation, Turkey, UK, USA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June 2003: request by the CES to speed up the work, and finalise the new recommendations before 2007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Revision of the timetable: new deadline for submitting the updated set of recommendations in June 2006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ork plan for the preparation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 the new census recommendations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Jan. 2004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First meeting of the  « Steering Group » and definition of the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tentative work plan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March 2004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Questionnaires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sent out to ECE member countrie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Oct. 2004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Preparation of various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 reports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on the basis of the results of the questionnaire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Nov. 2004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Joint ECE-Eurostat Work Sessions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to discuss general directions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for the new recommendation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May 2005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Preparation of the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first draft version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of the new recommendation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Nov. 2005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Joint ECE-Eurostat Work Sessions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to discuss the text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of the new recommendation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Oct. 2005:</a:t>
            </a: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200" spc="-1" strike="noStrike" u="sng">
                <a:solidFill>
                  <a:srgbClr val="ffff66"/>
                </a:solidFill>
                <a:uFillTx/>
                <a:latin typeface="Times New Roman"/>
              </a:rPr>
              <a:t>Second draft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March 2006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Preparation of the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final version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of the new recommendations</a:t>
            </a: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 (Steering Group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June 2006: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Approval</a:t>
            </a:r>
            <a:r>
              <a:rPr b="0" lang="en-GB" sz="2200" spc="-1" strike="noStrike">
                <a:solidFill>
                  <a:srgbClr val="ffff66"/>
                </a:solidFill>
                <a:latin typeface="Times New Roman"/>
              </a:rPr>
              <a:t> of the new recommendations </a:t>
            </a:r>
            <a:r>
              <a:rPr b="0" lang="en-GB" sz="2200" spc="-1" strike="noStrike" u="sng">
                <a:solidFill>
                  <a:srgbClr val="ffff66"/>
                </a:solidFill>
                <a:uFillTx/>
                <a:latin typeface="Times New Roman"/>
              </a:rPr>
              <a:t>by the CE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99404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Dec 2006:</a:t>
            </a: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2200" spc="-1" strike="noStrike" u="sng">
                <a:solidFill>
                  <a:srgbClr val="ffff66"/>
                </a:solidFill>
                <a:uFillTx/>
                <a:latin typeface="Times New Roman"/>
              </a:rPr>
              <a:t>Publication</a:t>
            </a: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 of the document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rst meeting of the SG in January 2004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posed changes to the recommendations for 2010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696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6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Extended section on census methodology and technology covering topics like:</a:t>
            </a:r>
            <a:r>
              <a:rPr b="0" lang="en-GB" sz="2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Possible uses of registers for population census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Possible use of sampl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ing proc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dur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Rolling” census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Publicity campaig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Evaluation of coverage and quality of censu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326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In-depth revision of selected sections of the recommendations, including:</a:t>
            </a:r>
            <a:r>
              <a:rPr b="0" lang="en-GB" sz="2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Families and households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(special Task Force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Migrations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(ECE/Eurostat (SG on  Migration Stat.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Place of usual residence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(SG on Pop. and Hous. Cens.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Institutional household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249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Economic characteristic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Others: income, (ethnic) nationality, language, civil partnership, health and disability, elderly issu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Without setting up additional formal group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Elimination of the tabulation programme (?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!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The ECE questionnair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Preparation and shipment (March 2004) of the questionnaire to countries on the extent of their compliance with the 2000 recommendation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Come-back of the questionnaires in April-May, and their processing and evaluation in May-November by the Steering Group and the Task Force on Families and Household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Preparation of reports on the methods and definitions used in censuses, as well as on future plans: basis for discussion at the present meeting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Approval by the Steering Group of the Agenda of the present sessions, and of the one-day seminar on new (alternative) methods as against traditional census taking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Present and future activiti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Presentation by ECE and Eurostat of their work plan for preparing the new set of joint Recommendations at the meetings organised by UNSD in New York, September 2004 – coordination of census related activities at global level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Expectations with respect to the present 3 Geneva meetings: structure and content of the new recommendations; procedures to be followed; decision on „who does what”; ideas on the expanded methodology chapter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December 2004-May 2005: first draft by working groups and expert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April 2005: Joint ECE-Eurostat Work Session on Registers and Administrative Records for Social and Demographic Statistics: possibly feed into the new census recommendations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November 2005: Meeting on Population and Housing Censuses in view of discussing the draft and reaching a quasi-final version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December 2005-March 2006: new recommendations finalised by ECE, Eurostat and the SG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66"/>
                </a:solidFill>
                <a:latin typeface="Times New Roman"/>
              </a:rPr>
              <a:t>June 2006: final draft submitted to the CES for approval and, then for publication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6:43:35Z</dcterms:created>
  <dc:creator>Bruengger</dc:creator>
  <dc:description/>
  <dc:language>en-US</dc:language>
  <cp:lastModifiedBy>Rózsa család</cp:lastModifiedBy>
  <dcterms:modified xsi:type="dcterms:W3CDTF">2004-11-20T10:28:58Z</dcterms:modified>
  <cp:revision>45</cp:revision>
  <dc:subject/>
  <dc:title>Die Definition von Indikatoren im Lichte der Fundamentalen Prinzipien der Amtlichen Statistik</dc:title>
</cp:coreProperties>
</file>