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00D-39F5-40CE-ACA5-2E5BB770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5D62-551F-4390-B40E-299F8F63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9B0A-9F54-4B99-BE02-7F751D70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A635-BD63-49B7-9B88-E25793CB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9FEC-E4C4-413E-A7A4-A0B9B0EE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0D4E-32B7-4A44-83C4-D76D0134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B1A0-C2C8-49AA-A74E-BC9A1B5F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C212-47D3-43FA-95DA-81FC0149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BF9D-46C7-4CD2-9D3B-91FA4C1C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61BC-CE64-4C00-AD67-AF68B8F1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1A32-1F65-416C-A6D2-EEA89241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B28F-4E96-4AD5-BF8C-0E668666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EC81-ACBB-4B91-B45C-1279B41FD493}" type="slidenum"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ies and Households in the 2000 Round of Censuses in ECE Member Countries</a:t>
            </a: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 by the ECE Task Force on Families and Households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mily types</a:t>
            </a:r>
            <a:r>
              <a:rPr b="0" lang="en-GB" sz="4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milies with adult child(ren) low pri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x countries lack information on cohabiting co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* NB Reconstituted families ex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usehold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useholds with adult child(ren) low pri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rther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 facto marital status necessary? Cf.  consensual unions/cohabiting co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ta on same-sex couples reli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fine the homel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cond draft of Task Force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ments by Task Force members are inclu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agno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osals for new or changed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recommendations planned for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lusions: Problem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ce of usual res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ivate versus institutional househo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nstituted families (step famil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 facto marital status and same-sex cou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hom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tables: inconsistencies for consensual un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lace of usual residence (46 cntr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proximately 90 % of the countries complied with the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nded length of stay at the current address proble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aries across countries (6-12 month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national migration different than internal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ivate households (45 cntr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0 (close to) housekeeping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5 dwelling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2 of these cannot estimate housekeeping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ften register-based cen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titutional household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(46 cntr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ver 80 % complied with the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problems with intended length of stay (six months, rather than the recommended one-ye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problem: households in-between private and institutional (e.g. retirement vill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onstituted 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nly 8 countries provid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 more than an additional 11 countries can produce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tionship to reference person does not give enough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ta quality 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onstituted family (contn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equences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ly status of individuals (step-child only 3 + 14 countr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ly type (9 countr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jor problems fo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mily, couple,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erence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tionship to reference person (Table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usehold status of individuals (Table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6:40:28Z</dcterms:created>
  <dc:creator>Nico Keilman</dc:creator>
  <dc:description/>
  <dc:language>en-US</dc:language>
  <cp:lastModifiedBy>Bruker ved UiO</cp:lastModifiedBy>
  <dcterms:modified xsi:type="dcterms:W3CDTF">2004-11-22T09:13:26Z</dcterms:modified>
  <cp:revision>7</cp:revision>
  <dc:subject/>
  <dc:title>Families and Households in the 2000 Round of Censuses in ECE Member Countries </dc:title>
</cp:coreProperties>
</file>