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BBB-5180-4460-9258-2F15ABBD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92B-3466-4700-8C59-59012F2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ABD-A20D-42C9-AD07-CAE6A3ED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5F9-FC3F-4DFF-ACF0-AF7F8952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006-8CC5-4D29-B3F8-70981EA9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848-2B1A-4E7F-A199-CCE1E6B5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339-CD1B-415E-9FD4-BC14909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6DE-97D9-4F9A-B113-EDD7E0C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8A0-B20F-4DA2-AFFC-C2879063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C52-BFE1-4E54-84B0-5B9E165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C9B-FAAF-423A-9A5F-EA3113D5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527-E98B-4E2D-8564-B3E366F8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3C82-5C2D-408C-A6E2-37665141A039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Ethnic, language, religious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Use of 2000 census recommendations and proposals for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Ethnic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251160"/>
                <a:gridCol w="2376360"/>
                <a:gridCol w="26020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 46 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recommend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Language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3251160"/>
                <a:gridCol w="2519280"/>
                <a:gridCol w="2459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 46 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group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 ton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poken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Religious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90212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 46 cou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us group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membe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us bel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in religious pract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conce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posals: ethnic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large paragraph on ethnic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posal of a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sist on the distinction from questions on language, religion and nationality (in the sense of citizenshi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lete notion of national group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sist on the need for explanation of concepts and documentation of classificatio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troduce optional question on ethnic origin/ance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dress issue of children from mixed marriages and problem of multiple identi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about registers: can data on ethnicity be collected through register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"/>
              </a:rPr>
              <a:t>Proposals: language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Insist on need for clear spelling out definitions during field work and documentation of classificat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rop priority of main language before mother tongue and priority of spoken language before knowledge of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Propose a common classification of langu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What about registers: Can they give information on langu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Proposals: religio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hange list of proposed questions: drop question on pract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troduce questions on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with community or denomination and question on denomination in which a person was </a:t>
            </a:r>
            <a:r>
              <a:rPr b="1" i="1" lang="fr-CH" sz="2400" spc="-1" strike="noStrike">
                <a:solidFill>
                  <a:srgbClr val="000000"/>
                </a:solidFill>
                <a:latin typeface="Arial"/>
              </a:rPr>
              <a:t>brough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ssibility to answer « non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sist on need for documentation of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ropose a common classification of religious denomination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about registers: can they give information on relig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4:06:23Z</dcterms:created>
  <dc:creator>Haug Werner</dc:creator>
  <dc:description/>
  <dc:language>en-US</dc:language>
  <cp:lastModifiedBy>Haug Werner</cp:lastModifiedBy>
  <dcterms:modified xsi:type="dcterms:W3CDTF">2004-11-24T10:11:20Z</dcterms:modified>
  <cp:revision>27</cp:revision>
  <dc:subject/>
  <dc:title>Folie 1</dc:title>
</cp:coreProperties>
</file>