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PlaceHolder 3"/>
            <p:cNvSpPr>
              <a:spLocks noGrp="1"/>
            </p:cNvSpPr>
            <p:nvPr>
              <p:ph type="dt" idx="1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700040" y="61722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6964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ypes of censuses, enumeration methods and selected operational aspects: results of the ECE questionnair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43430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aolo 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cial and Demographic Statistic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- 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 Work Session on Population Censu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a, 23-25 November 2004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Administrative context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Existence of register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1905120"/>
          <a:ext cx="83059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724280" y="350532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4038480"/>
            <a:ext cx="685800" cy="457200"/>
          </a:xfrm>
          <a:prstGeom prst="ellipse">
            <a:avLst/>
          </a:pr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85320" y="5791320"/>
            <a:ext cx="708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No population register </a:t>
            </a:r>
            <a:r>
              <a:rPr b="1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No register-based census!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Administrative context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Use of registers for censuses…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752480"/>
          <a:ext cx="792468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924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Administrative context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… and use of censuses for register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2120" y="1711440"/>
          <a:ext cx="7391160" cy="37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11440"/>
                    <a:ext cx="739116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Administrative context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… and use of censuses for register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1711440"/>
          <a:ext cx="7391160" cy="37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11440"/>
                    <a:ext cx="739116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824120" y="563868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onfidentiality implications!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Statistical uses of census data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676520"/>
          <a:ext cx="7848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ublicity campaign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381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ublicity campaign carried out in 41 countri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No publicity campaign in Belgium, Denmark and the Netherland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…but publicity campaign in some countries with register-based censuses (Finland and Norway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ublicity campaign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Means of publicity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1600200"/>
          <a:ext cx="65530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553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19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ublicity campaign: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“Innovative approaches…”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523880"/>
            <a:ext cx="6019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4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 Canada, no national TV, but: </a:t>
            </a:r>
            <a:br>
              <a:rPr sz="32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free ads/insert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ugar bag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milk cartoon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rail car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calendar and agenda companie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mail insert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plastic bag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ATM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5867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d in Italy:  SM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ublicity campaign (cont.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2133720"/>
          <a:ext cx="77724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772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nformation campaig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828800"/>
          <a:ext cx="716292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1629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Summary of present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2209680"/>
            <a:ext cx="7696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view of census methods used in 2000 round, also in relation with legal and administrative context.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“Bonus slides” with preliminary general results on some topics not covered in the paper: </a:t>
            </a:r>
            <a:br>
              <a:rPr sz="28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- Statistical uses of census data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- Publicity and information campaign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- Census evaluation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- Census costs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by main budget lines 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- Main problems faced by countries in the 2000 round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nformation campaig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166840"/>
          <a:ext cx="7620120" cy="30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66840"/>
                    <a:ext cx="76201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ensus evalu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2209680"/>
          <a:ext cx="7543800" cy="31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543800" cy="31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ensus evalu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752480"/>
          <a:ext cx="739116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3911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st of censuses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% distribution by main budget lin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687680"/>
          <a:ext cx="7239240" cy="447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87680"/>
                    <a:ext cx="723924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st of censuses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% distribution by main budget lin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600200"/>
          <a:ext cx="84582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4582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Main problems and difficulties faced in the 2000 round of censuse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5120" y="1676520"/>
          <a:ext cx="5105160" cy="44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51051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Conclusi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752480"/>
            <a:ext cx="6933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2000 round, limited variability in census methodology adopted: most countries took traditional census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ifferent methods have different implications on various phases of census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2010, much higher variability is expected with regard to census methods (seminar, pres. on Plans for 2010)</a:t>
            </a:r>
            <a:br>
              <a:rPr sz="2800"/>
            </a:br>
            <a:br>
              <a:rPr sz="32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mplications for 2010 recommendation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828800"/>
            <a:ext cx="7238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ew expanded section on census methodology (2000 recommendations focussed on 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Objective: not to “recommend” specific approaches, but rather to “inform” about possible options and help countries to evaluate them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view of different approaches, discussing: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necessary condition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implications on various phases of censu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advantages and disadvantages</a:t>
            </a: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Implications for 2010 recommendations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828800"/>
            <a:ext cx="7238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Possible areas to be covered: </a:t>
            </a:r>
            <a:br>
              <a:rPr sz="28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- Possible uses of registers </a:t>
            </a:r>
            <a:br>
              <a:rPr sz="28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- Possible uses of sample surveys </a:t>
            </a:r>
            <a:br>
              <a:rPr sz="28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- Other approaches (“rolling census”?)</a:t>
            </a:r>
            <a:br>
              <a:rPr sz="28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- Census evaluation (coverage and quality)</a:t>
            </a:r>
            <a:br>
              <a:rPr sz="28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- Publicity and information campaign </a:t>
            </a:r>
            <a:br>
              <a:rPr sz="28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- …</a:t>
            </a:r>
            <a:br>
              <a:rPr sz="2800"/>
            </a:br>
            <a:br>
              <a:rPr sz="12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he 2000 round of population and housing censuses in the ECE reg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5740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Censuses taken in 48 out of 55 countries in the ECE region</a:t>
            </a:r>
            <a:br>
              <a:rPr sz="2800"/>
            </a:br>
            <a:br>
              <a:rPr sz="20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In all countries the census was taken between 1999 and 2002, with a few exceptions: </a:t>
            </a:r>
            <a:br>
              <a:rPr sz="2800"/>
            </a:b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- Turkmenistan, Israel and Malta: 1995</a:t>
            </a:r>
            <a:br>
              <a:rPr sz="2400"/>
            </a:b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- Republic of Moldova: October 2004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2800"/>
            </a:br>
            <a:br>
              <a:rPr sz="2000"/>
            </a:b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 Replies to the ECE questionnaire on censuses available for 44 countries (43 out of the 48 ECE countries where census was taken +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ypes of censuses and main enumeration method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523880"/>
          <a:ext cx="685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85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ypes of censuses and main enumeration method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1523880"/>
          <a:ext cx="685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85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2438280"/>
            <a:ext cx="266724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048120"/>
            <a:ext cx="2667240" cy="2514600"/>
          </a:xfrm>
          <a:prstGeom prst="rect">
            <a:avLst/>
          </a:prstGeom>
          <a:noFill/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438280"/>
            <a:ext cx="990720" cy="312444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5486400"/>
            <a:ext cx="2209680" cy="5335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6720" y="2438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400" y="41148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6600" y="373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8200" y="49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Legal context for the 2000 censuses: Existence of statistical legisl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9810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a50021"/>
                </a:solidFill>
                <a:uFillTx/>
                <a:latin typeface="Times New Roman"/>
              </a:rPr>
              <a:t>Census act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existing in 38 countries (86%)</a:t>
            </a:r>
            <a:br>
              <a:rPr sz="3000"/>
            </a:br>
            <a:r>
              <a:rPr b="0" lang="en-US" sz="3000" spc="-1" strike="noStrike" u="sng">
                <a:solidFill>
                  <a:srgbClr val="a50021"/>
                </a:solidFill>
                <a:uFillTx/>
                <a:latin typeface="Times New Roman"/>
              </a:rPr>
              <a:t>Statistics act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existing in 36 countries (82%)</a:t>
            </a:r>
            <a:br>
              <a:rPr sz="3000"/>
            </a:br>
            <a:r>
              <a:rPr b="0" lang="en-US" sz="3000" spc="-1" strike="noStrike" u="sng">
                <a:solidFill>
                  <a:srgbClr val="a50021"/>
                </a:solidFill>
                <a:uFillTx/>
                <a:latin typeface="Times New Roman"/>
              </a:rPr>
              <a:t>Data protection act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existing in 33 countries (75%)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No significant differences among different groups of countries, but…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…in countries using registers, possible association with existence of </a:t>
            </a:r>
            <a:r>
              <a:rPr b="0" lang="en-US" sz="3000" spc="-1" strike="noStrike" u="sng">
                <a:solidFill>
                  <a:srgbClr val="a50021"/>
                </a:solidFill>
                <a:uFillTx/>
                <a:latin typeface="Times New Roman"/>
              </a:rPr>
              <a:t>Statistics acts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and </a:t>
            </a:r>
            <a:r>
              <a:rPr b="0" lang="en-US" sz="3000" spc="-1" strike="noStrike" u="sng">
                <a:solidFill>
                  <a:srgbClr val="a50021"/>
                </a:solidFill>
                <a:uFillTx/>
                <a:latin typeface="Times New Roman"/>
              </a:rPr>
              <a:t>Data protection acts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, rather then </a:t>
            </a:r>
            <a:r>
              <a:rPr b="0" lang="en-US" sz="3000" spc="-1" strike="noStrike" u="sng">
                <a:solidFill>
                  <a:srgbClr val="a50021"/>
                </a:solidFill>
                <a:uFillTx/>
                <a:latin typeface="Times New Roman"/>
              </a:rPr>
              <a:t>Census acts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Administrative context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Existence of use of PIN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9480" y="1600200"/>
          <a:ext cx="77724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77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Administrative context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Existence of use of PIN (2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7524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IN is 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not necessary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to use registers for censuses (examples: Netherlands, Spain, Switzerland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Countries using registers for censuses and where PIN exist, use it 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extensively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for statistical purpos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Other countries make limited use of PIN for censuses and statistical surveys (because of restriction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Administrative context: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Existence of register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1905120"/>
          <a:ext cx="83059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Paolo Valente</cp:lastModifiedBy>
  <dcterms:modified xsi:type="dcterms:W3CDTF">2004-11-23T08:16:12Z</dcterms:modified>
  <cp:revision>181</cp:revision>
  <dc:subject/>
  <dc:title>THE STATUS OF STATISTICS ON WOMEN AND MEN’S  ENTREPRENEURSHIP IN THE      UNECE REGION </dc:title>
</cp:coreProperties>
</file>