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774960" y="900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3774960" y="936108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96E4F7-16B3-4122-BDA8-749E85A861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6040" y="9367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145273-C7BF-49CD-8E2B-9E43C5F4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853560" y="863280"/>
            <a:ext cx="49546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888480" y="4673520"/>
            <a:ext cx="4884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3920" y="863640"/>
            <a:ext cx="495468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040" y="4572000"/>
            <a:ext cx="4884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D42-F539-4A49-9201-F7EC7EAF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2920" y="349920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14C-495D-4F7D-AE59-0EC42E5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224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50C-A393-42E4-B9E0-67A51B2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3508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292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3508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88F-BBA5-4826-8B72-8A0AC26E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2E1-92AF-4471-B655-9757C057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D53-9081-4A25-8903-C4DA8CD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44B-7E63-44B5-A9F4-308B77E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BE1-5619-48EE-9F8A-A7D59E8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2920" y="726840"/>
            <a:ext cx="90532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B18-665B-444D-A273-911E887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D9D-D17E-4516-9943-C96192DC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224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C34-4893-49F7-BE3B-999D3CA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59D-EED4-415D-9318-3EA0F33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7ADC27-6988-45D1-A322-569721DB7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6026040"/>
            <a:ext cx="1495080" cy="360360"/>
            <a:chOff x="412920" y="6026040"/>
            <a:chExt cx="1495080" cy="360360"/>
          </a:xfrm>
        </p:grpSpPr>
        <p:sp>
          <p:nvSpPr>
            <p:cNvPr id="4" name=""/>
            <p:cNvSpPr/>
            <p:nvPr/>
          </p:nvSpPr>
          <p:spPr>
            <a:xfrm>
              <a:off x="412920" y="6029280"/>
              <a:ext cx="17604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7"/>
                  </a:moveTo>
                  <a:lnTo>
                    <a:pt x="37" y="37"/>
                  </a:lnTo>
                  <a:lnTo>
                    <a:pt x="37" y="0"/>
                  </a:lnTo>
                  <a:lnTo>
                    <a:pt x="110" y="0"/>
                  </a:lnTo>
                  <a:lnTo>
                    <a:pt x="110" y="37"/>
                  </a:lnTo>
                  <a:lnTo>
                    <a:pt x="73" y="37"/>
                  </a:lnTo>
                  <a:lnTo>
                    <a:pt x="73" y="73"/>
                  </a:lnTo>
                  <a:lnTo>
                    <a:pt x="37" y="73"/>
                  </a:lnTo>
                  <a:lnTo>
                    <a:pt x="37" y="109"/>
                  </a:lnTo>
                  <a:lnTo>
                    <a:pt x="0" y="109"/>
                  </a:lnTo>
                  <a:lnTo>
                    <a:pt x="0" y="37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6029280"/>
              <a:ext cx="358560" cy="357120"/>
            </a:xfrm>
            <a:custGeom>
              <a:avLst/>
              <a:gdLst/>
              <a:ahLst/>
              <a:rect l="l" t="t" r="r" b="b"/>
              <a:pathLst>
                <a:path w="226" h="225">
                  <a:moveTo>
                    <a:pt x="0" y="187"/>
                  </a:moveTo>
                  <a:lnTo>
                    <a:pt x="38" y="187"/>
                  </a:lnTo>
                  <a:lnTo>
                    <a:pt x="38" y="149"/>
                  </a:lnTo>
                  <a:lnTo>
                    <a:pt x="75" y="149"/>
                  </a:lnTo>
                  <a:lnTo>
                    <a:pt x="75" y="112"/>
                  </a:lnTo>
                  <a:lnTo>
                    <a:pt x="113" y="112"/>
                  </a:lnTo>
                  <a:lnTo>
                    <a:pt x="113" y="75"/>
                  </a:lnTo>
                  <a:lnTo>
                    <a:pt x="150" y="75"/>
                  </a:lnTo>
                  <a:lnTo>
                    <a:pt x="150" y="38"/>
                  </a:lnTo>
                  <a:lnTo>
                    <a:pt x="188" y="38"/>
                  </a:lnTo>
                  <a:lnTo>
                    <a:pt x="188" y="0"/>
                  </a:lnTo>
                  <a:lnTo>
                    <a:pt x="225" y="0"/>
                  </a:lnTo>
                  <a:lnTo>
                    <a:pt x="225" y="75"/>
                  </a:lnTo>
                  <a:lnTo>
                    <a:pt x="188" y="75"/>
                  </a:lnTo>
                  <a:lnTo>
                    <a:pt x="188" y="112"/>
                  </a:lnTo>
                  <a:lnTo>
                    <a:pt x="150" y="112"/>
                  </a:lnTo>
                  <a:lnTo>
                    <a:pt x="150" y="149"/>
                  </a:lnTo>
                  <a:lnTo>
                    <a:pt x="113" y="149"/>
                  </a:lnTo>
                  <a:lnTo>
                    <a:pt x="113" y="187"/>
                  </a:lnTo>
                  <a:lnTo>
                    <a:pt x="75" y="187"/>
                  </a:lnTo>
                  <a:lnTo>
                    <a:pt x="75" y="224"/>
                  </a:lnTo>
                  <a:lnTo>
                    <a:pt x="0" y="224"/>
                  </a:lnTo>
                  <a:lnTo>
                    <a:pt x="0" y="187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7360" y="6272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36"/>
                  </a:moveTo>
                  <a:lnTo>
                    <a:pt x="36" y="36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71" y="71"/>
                  </a:lnTo>
                  <a:lnTo>
                    <a:pt x="0" y="71"/>
                  </a:lnTo>
                  <a:lnTo>
                    <a:pt x="0" y="36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6238800"/>
              <a:ext cx="1072800" cy="5256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0" y="32"/>
                  </a:lnTo>
                  <a:lnTo>
                    <a:pt x="675" y="32"/>
                  </a:lnTo>
                  <a:lnTo>
                    <a:pt x="675" y="0"/>
                  </a:lnTo>
                  <a:lnTo>
                    <a:pt x="0" y="0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6026040"/>
              <a:ext cx="15840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4" y="28"/>
                  </a:moveTo>
                  <a:lnTo>
                    <a:pt x="6" y="38"/>
                  </a:lnTo>
                  <a:lnTo>
                    <a:pt x="11" y="46"/>
                  </a:lnTo>
                  <a:lnTo>
                    <a:pt x="24" y="52"/>
                  </a:lnTo>
                  <a:lnTo>
                    <a:pt x="74" y="67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4"/>
                  </a:lnTo>
                  <a:lnTo>
                    <a:pt x="88" y="89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65" y="105"/>
                  </a:lnTo>
                  <a:lnTo>
                    <a:pt x="51" y="106"/>
                  </a:lnTo>
                  <a:lnTo>
                    <a:pt x="39" y="105"/>
                  </a:lnTo>
                  <a:lnTo>
                    <a:pt x="28" y="103"/>
                  </a:lnTo>
                  <a:lnTo>
                    <a:pt x="17" y="96"/>
                  </a:lnTo>
                  <a:lnTo>
                    <a:pt x="3" y="80"/>
                  </a:lnTo>
                  <a:lnTo>
                    <a:pt x="0" y="82"/>
                  </a:lnTo>
                  <a:lnTo>
                    <a:pt x="6" y="99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37" y="112"/>
                  </a:lnTo>
                  <a:lnTo>
                    <a:pt x="56" y="112"/>
                  </a:lnTo>
                  <a:lnTo>
                    <a:pt x="75" y="107"/>
                  </a:lnTo>
                  <a:lnTo>
                    <a:pt x="87" y="101"/>
                  </a:lnTo>
                  <a:lnTo>
                    <a:pt x="92" y="96"/>
                  </a:lnTo>
                  <a:lnTo>
                    <a:pt x="97" y="89"/>
                  </a:lnTo>
                  <a:lnTo>
                    <a:pt x="99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2"/>
                  </a:lnTo>
                  <a:lnTo>
                    <a:pt x="80" y="55"/>
                  </a:lnTo>
                  <a:lnTo>
                    <a:pt x="28" y="40"/>
                  </a:lnTo>
                  <a:lnTo>
                    <a:pt x="20" y="33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5" y="21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34" y="2"/>
                  </a:lnTo>
                  <a:lnTo>
                    <a:pt x="19" y="7"/>
                  </a:lnTo>
                  <a:lnTo>
                    <a:pt x="10" y="13"/>
                  </a:lnTo>
                  <a:lnTo>
                    <a:pt x="5" y="21"/>
                  </a:lnTo>
                  <a:lnTo>
                    <a:pt x="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607680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03400" y="609912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52" y="31"/>
                  </a:moveTo>
                  <a:lnTo>
                    <a:pt x="27" y="34"/>
                  </a:lnTo>
                  <a:lnTo>
                    <a:pt x="11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2" y="59"/>
                  </a:lnTo>
                  <a:lnTo>
                    <a:pt x="7" y="62"/>
                  </a:lnTo>
                  <a:lnTo>
                    <a:pt x="15" y="65"/>
                  </a:lnTo>
                  <a:lnTo>
                    <a:pt x="23" y="66"/>
                  </a:lnTo>
                  <a:lnTo>
                    <a:pt x="32" y="66"/>
                  </a:lnTo>
                  <a:lnTo>
                    <a:pt x="39" y="64"/>
                  </a:lnTo>
                  <a:lnTo>
                    <a:pt x="53" y="58"/>
                  </a:lnTo>
                  <a:lnTo>
                    <a:pt x="61" y="63"/>
                  </a:lnTo>
                  <a:lnTo>
                    <a:pt x="64" y="65"/>
                  </a:lnTo>
                  <a:lnTo>
                    <a:pt x="74" y="65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3" y="61"/>
                  </a:lnTo>
                  <a:lnTo>
                    <a:pt x="75" y="61"/>
                  </a:lnTo>
                  <a:lnTo>
                    <a:pt x="70" y="58"/>
                  </a:lnTo>
                  <a:lnTo>
                    <a:pt x="67" y="52"/>
                  </a:lnTo>
                  <a:lnTo>
                    <a:pt x="67" y="16"/>
                  </a:lnTo>
                  <a:lnTo>
                    <a:pt x="64" y="10"/>
                  </a:lnTo>
                  <a:lnTo>
                    <a:pt x="57" y="5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6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10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2" y="31"/>
                  </a:lnTo>
                  <a:lnTo>
                    <a:pt x="52" y="34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6" y="59"/>
                  </a:lnTo>
                  <a:lnTo>
                    <a:pt x="43" y="61"/>
                  </a:lnTo>
                  <a:lnTo>
                    <a:pt x="38" y="61"/>
                  </a:lnTo>
                  <a:lnTo>
                    <a:pt x="35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22" y="60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9" y="43"/>
                  </a:lnTo>
                  <a:lnTo>
                    <a:pt x="23" y="40"/>
                  </a:lnTo>
                  <a:lnTo>
                    <a:pt x="28" y="38"/>
                  </a:lnTo>
                  <a:lnTo>
                    <a:pt x="34" y="36"/>
                  </a:lnTo>
                  <a:lnTo>
                    <a:pt x="40" y="35"/>
                  </a:lnTo>
                  <a:lnTo>
                    <a:pt x="47" y="34"/>
                  </a:lnTo>
                  <a:lnTo>
                    <a:pt x="52" y="34"/>
                  </a:lnTo>
                  <a:lnTo>
                    <a:pt x="5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25440" y="607680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28760" y="6045120"/>
              <a:ext cx="73080" cy="1587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11" y="8"/>
                  </a:moveTo>
                  <a:lnTo>
                    <a:pt x="11" y="9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8" y="15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7" y="45"/>
                  </a:lnTo>
                  <a:lnTo>
                    <a:pt x="27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3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1" y="95"/>
                  </a:lnTo>
                  <a:lnTo>
                    <a:pt x="32" y="94"/>
                  </a:lnTo>
                  <a:lnTo>
                    <a:pt x="29" y="91"/>
                  </a:lnTo>
                  <a:lnTo>
                    <a:pt x="27" y="85"/>
                  </a:lnTo>
                  <a:lnTo>
                    <a:pt x="27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06520" y="609912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3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08040" y="607680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3" y="22"/>
                  </a:lnTo>
                  <a:lnTo>
                    <a:pt x="13" y="61"/>
                  </a:lnTo>
                  <a:lnTo>
                    <a:pt x="14" y="70"/>
                  </a:lnTo>
                  <a:lnTo>
                    <a:pt x="19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2800" y="604512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11" y="8"/>
                  </a:moveTo>
                  <a:lnTo>
                    <a:pt x="11" y="9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6" y="45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2" y="47"/>
                  </a:lnTo>
                  <a:lnTo>
                    <a:pt x="12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0" y="95"/>
                  </a:lnTo>
                  <a:lnTo>
                    <a:pt x="31" y="94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6" y="85"/>
                  </a:lnTo>
                  <a:lnTo>
                    <a:pt x="26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76520" y="6099120"/>
              <a:ext cx="12672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36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8" y="65"/>
                  </a:lnTo>
                  <a:lnTo>
                    <a:pt x="32" y="65"/>
                  </a:lnTo>
                  <a:lnTo>
                    <a:pt x="36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60" y="63"/>
                  </a:lnTo>
                  <a:lnTo>
                    <a:pt x="63" y="62"/>
                  </a:lnTo>
                  <a:lnTo>
                    <a:pt x="67" y="61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9" y="54"/>
                  </a:lnTo>
                  <a:lnTo>
                    <a:pt x="79" y="52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7" y="51"/>
                  </a:lnTo>
                  <a:lnTo>
                    <a:pt x="76" y="52"/>
                  </a:lnTo>
                  <a:lnTo>
                    <a:pt x="75" y="52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4"/>
                  </a:lnTo>
                  <a:lnTo>
                    <a:pt x="70" y="55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1" y="60"/>
                  </a:lnTo>
                  <a:lnTo>
                    <a:pt x="46" y="60"/>
                  </a:lnTo>
                  <a:lnTo>
                    <a:pt x="43" y="59"/>
                  </a:lnTo>
                  <a:lnTo>
                    <a:pt x="39" y="58"/>
                  </a:lnTo>
                  <a:lnTo>
                    <a:pt x="35" y="57"/>
                  </a:lnTo>
                  <a:lnTo>
                    <a:pt x="32" y="55"/>
                  </a:lnTo>
                  <a:lnTo>
                    <a:pt x="29" y="54"/>
                  </a:lnTo>
                  <a:lnTo>
                    <a:pt x="26" y="51"/>
                  </a:lnTo>
                  <a:lnTo>
                    <a:pt x="24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2"/>
                  </a:lnTo>
                  <a:lnTo>
                    <a:pt x="17" y="40"/>
                  </a:lnTo>
                  <a:lnTo>
                    <a:pt x="16" y="38"/>
                  </a:lnTo>
                  <a:lnTo>
                    <a:pt x="15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1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7" y="16"/>
                  </a:lnTo>
                  <a:lnTo>
                    <a:pt x="69" y="17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812960" y="6099120"/>
              <a:ext cx="9504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000" y="624852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864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6400" y="62485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63600" y="624852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5576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32080" y="6248520"/>
              <a:ext cx="4572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1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1" y="13"/>
                  </a:lnTo>
                  <a:lnTo>
                    <a:pt x="14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3360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608120" y="62485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0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708200" y="6248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08280" y="624852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20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3400" y="6323040"/>
              <a:ext cx="115920" cy="6192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7" y="10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640" y="6345360"/>
              <a:ext cx="85680" cy="410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30" y="0"/>
                  </a:moveTo>
                  <a:lnTo>
                    <a:pt x="22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5" y="24"/>
                  </a:lnTo>
                  <a:lnTo>
                    <a:pt x="27" y="25"/>
                  </a:lnTo>
                  <a:lnTo>
                    <a:pt x="40" y="24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33" y="21"/>
                  </a:lnTo>
                  <a:lnTo>
                    <a:pt x="24" y="21"/>
                  </a:lnTo>
                  <a:lnTo>
                    <a:pt x="16" y="19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52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60560" y="632304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6" y="18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43000" y="6345360"/>
              <a:ext cx="9540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49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60360" y="634680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6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35240" y="6327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6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8" y="10"/>
                  </a:lnTo>
                  <a:lnTo>
                    <a:pt x="8" y="10"/>
                  </a:lnTo>
                  <a:lnTo>
                    <a:pt x="1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19120" y="632304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01920" y="634536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616040" y="63374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5" y="0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2360" y="634536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3" y="23"/>
                  </a:lnTo>
                  <a:lnTo>
                    <a:pt x="16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812960" y="634680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15" y="23"/>
                  </a:move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5" y="23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1120" y="492120"/>
            <a:ext cx="9053640" cy="414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0800" y="6235560"/>
            <a:ext cx="7475400" cy="558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0" y="6018120"/>
            <a:ext cx="42717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01f3"/>
                </a:solidFill>
                <a:latin typeface="Arial"/>
              </a:rPr>
              <a:t>UNECE Gender Statistics Session, 18-20 Octo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  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Dissemination and Use of Time Use Data</a:t>
            </a:r>
            <a:br>
              <a:rPr sz="3600"/>
            </a:b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The New Zealand Experience  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 Gender Statistics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va, 18-20 Octo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Outline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emination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of dat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Background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905364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Zealand’s first national Time Use Survey 1998-99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vide information on patterns of time use of New Zealanders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ed by Ministry of Women’s Affai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sed awareness of unseen role played by women in families and community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ment and valuation of unpaid activities – gap in official statistic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,500 individuals 12 years and over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iews spread over 12 month period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data collection document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usehold questionna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wnership of household, availability of appliances etc)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rsonal questionna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emographic, labour force, education, income etc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8 hour dai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ctivities undertaken, simultaneous activities, location of th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)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percent response rat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Dissemination of results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905364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 relea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y findings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bour market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ealth and welfar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ultur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tables published on websit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tical report ‘Around the Clock’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on of results in other analytical reports e.g. ‘Older New Zealander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sed requests for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record data available in Data Laborat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nars to promote the survey to research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Indicators 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paid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unpaid work (e.g. shopping, housework, childcare, working for a voluntary organisation), whether a primary/simultaneous activit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d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hours of paid work, work-related travel, work from home, work at non-standard tim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paid and unpaid work combined, ratio of unpaid to paid work time, proportion of total time spent on wor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formal education, homework, time of day, education-related travel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ing with homework, unpaid work for educational institutio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Indicators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fare and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caring for other household members/people in other households, time spent working unpaid for community organisatio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health maintenance/personal care (e.g. sleeping, eating, personal hygiene), exercising, smoking, leisure activities, receiving health servic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 &amp; mass med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cultural activities (e.g. visiting museums, art galleries, performing arts etc), characteristics of individual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watching television, listening to the radio etc, location, time of day, whether a primary or secondary activit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Indicator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capital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volunteering (formal participation), types of association people volunteer for, characteristics of volunteer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helping others or providing informal care (informal participation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time with friends and famil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travelling, reason for travel, mode of travel, times at which people trave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Uses of time use data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ation of unpaid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the measurements in national accoun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ion to the economy from unpaid work and production of goods and services for ones own consumpt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mental work in estimating the value of unpaid household activitie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 value of unpaid work was 39 percent of GDP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evelopment of household satellite accounts</a:t>
            </a:r>
            <a:br>
              <a:rPr sz="1800"/>
            </a:b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/lif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to which NZ has moved to a 24 hour econom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tent to which requirement to work at unsocial times of the day/week are concentrated amongst particular groups of worke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mount of paid work that is done at workers’ hom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tent to which long hours of paid work mean less time with other family membe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ime Use Surveys are multi-purpose collection instruments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ata is relevant to almost every area of government policymaking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an enhance understanding of existing statistics, so that policy development can take place in a more informed environment</a:t>
            </a:r>
            <a:br>
              <a:rPr sz="2400"/>
            </a:b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3:12:05Z</dcterms:created>
  <dc:creator>vince galvin</dc:creator>
  <dc:description>October 1996, new logo, larger footprint</dc:description>
  <dc:language>en-US</dc:language>
  <cp:lastModifiedBy>Technical Support Services</cp:lastModifiedBy>
  <cp:lastPrinted>2003-12-09T00:18:08Z</cp:lastPrinted>
  <dcterms:modified xsi:type="dcterms:W3CDTF">2004-10-13T22:03:49Z</dcterms:modified>
  <cp:revision>108</cp:revision>
  <dc:subject/>
  <dc:title>Increasing Statistical Coherence</dc:title>
</cp:coreProperties>
</file>