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8EBA-3608-41D1-B81A-3657B8203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570D-DD0B-4C20-AAEF-4EA057E3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74AE-4D0A-4E94-84C9-5F4132BF8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899F-6505-4367-AFE0-D83B31677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A9EF-7EEA-443C-BC5E-EB6FB3A81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3C5B-B61E-4A86-94F7-8E7E3DD24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FE17-9C83-4566-A93A-4F2A8FD29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E98A-448B-4CF4-83DB-3EB759C4D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2FCF-D793-4579-9453-B3EBAD29C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3C53-CFC2-454D-AAAE-DB0FC7EBB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96E9-511E-4A6B-BB6F-B2C68BCB8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1375-92C4-439D-9EAF-C00E98315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9BBE-3933-47BC-B79F-75C8FC30E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84B6-08FB-4939-B17E-FEA228DFF721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1341000"/>
            <a:ext cx="6400800" cy="3095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AINSTREAMING GE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 LABOU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ainstreaming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or gender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or social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or understanding 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86E-1973-4044-AB29-EF989C61091C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Times New Roman"/>
              </a:rPr>
              <a:t>Mainstreaming gender into measurement metho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valuate laws or regulations governing administrative procedures (type and range of information, level of de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ample size- sufficient precision, meaningful (HS, 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All work situations are covered (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F9C-23DC-4D8B-B083-B3064C4086F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USEFUL CROSS-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emographic: sex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conomic: occupations, status in employment,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ocial: education, marit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Family context: presence of children or other members requiring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A3F-CF9B-481E-B93A-E494DA5116E3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HECKLIST OF GOOD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olitical will at all levels ess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(b) All relevant topics are included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(specified-not exhaus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(c) Definitions and measurement methods cover all workers and work situations it sufficient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(d) Gender statistics always presented in regular statistic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78E4-E2A2-472C-B1FB-7F56A6521572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DG Indicator 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6764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E780-5AE2-430C-B3BF-588060FEF76D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28E-690A-4E88-A18F-6E14FE118444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013360"/>
            <a:ext cx="7772400" cy="698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3454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DF26-0198-4369-AA83-14DA85B55EF5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45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A2AE-90C7-4CA2-A363-103ACD35502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934920"/>
            <a:ext cx="77756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2CB-26CB-42B8-AD72-A187D575BBEE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HY MAINSTREAMING G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o implement, monitor, analyse and evaluate policies and programmes on GENDER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Core principle of the 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Governments strongly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Beijing Platform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O IMPROVE STATISTICS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095880"/>
            <a:ext cx="65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94F-D176-4D51-9ED2-AB747E3CBAC8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LABOU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Provide descriptions of the size, structure and characteristics of the various participants in the labour market, and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Typical” work situations better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Women more likely to be in “atypical” work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Contribution of women to the national economy underestimated and misre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olicies and programmes designed on the basis of  statistics that partially reflect workers’ contributions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99"/>
                </a:solidFill>
                <a:latin typeface="Times New Roman"/>
              </a:rPr>
              <a:t>Need to have gender concerns as a measurement obj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2D9-7172-477A-8A42-7E4754E97EDB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END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Not just statistics by sex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99"/>
                </a:solidFill>
                <a:latin typeface="Times New Roman"/>
              </a:rPr>
              <a:t>But statistics that are useful for describing and analysing differences and similarities between the situation of men and women in the area of work (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work activities, conditions, rew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99"/>
                </a:solidFill>
                <a:latin typeface="Times New Roman"/>
              </a:rPr>
              <a:t>considering personal and family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Relevant labou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Covering ALL workers and work sit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Disaggregated in sufficient det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99"/>
                </a:solidFill>
                <a:latin typeface="Times New Roman"/>
              </a:rPr>
              <a:t>Crossclassified by usefu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99"/>
                </a:solidFill>
                <a:latin typeface="Times New Roman"/>
              </a:rPr>
              <a:t>Result: statistics of higher quality and more useful for all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Arial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B8F9-D207-40AE-B6BF-A819C1F8AD87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OW TO MAINSTREAM G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valu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isaggregation by 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opics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efinitions and classification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easurement method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esenta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Reveal strengths and shortco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dentify where and how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Strong commitment at all levels of 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93000"/>
            <a:ext cx="65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6662-76DC-4AD6-9116-FAADEF14516C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ISAGGREGATION BY 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oblem of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Labou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ice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oblem of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stablishment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Administrative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Problem of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6095880"/>
            <a:ext cx="65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E326-442C-4464-8E32-3F4DCE47B225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VERAGE OF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Balancing of work and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formal economy and non-SNA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Labour market 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come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MDG11: Share of women in non-agricultural paid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D5EC-2709-4924-81AE-5ECD6FCAA479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finitions and 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Definitions ensure ful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Reference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Classifications- sufficient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tatus in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Inj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C17-CF8B-43D2-A698-C52ACFCF1EDA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asurem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Should follow the definitions, ensure full coverage and guarantee sufficient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Establishment surveys-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staff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Administrative records-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support the administrativ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Times New Roman"/>
              </a:rPr>
              <a:t>Useful for particular groups that are well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Time use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preferred sources for gende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019920"/>
            <a:ext cx="81536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609588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99"/>
                </a:solidFill>
                <a:latin typeface="Times New Roman"/>
              </a:rPr>
              <a:t>International Labour Office, Bureau of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609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2:05:18Z</dcterms:created>
  <dc:creator>taswell</dc:creator>
  <dc:description/>
  <dc:language>en-US</dc:language>
  <cp:lastModifiedBy> </cp:lastModifiedBy>
  <cp:lastPrinted>2001-10-19T16:23:35Z</cp:lastPrinted>
  <dcterms:modified xsi:type="dcterms:W3CDTF">2004-10-18T07:29:10Z</dcterms:modified>
  <cp:revision>155</cp:revision>
  <dc:subject/>
  <dc:title>THIS IS A TEST</dc:title>
</cp:coreProperties>
</file>