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06B6-D960-4956-B971-A78D95952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8250-0C8A-411D-9512-25FEF866C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631F-BB19-41C2-B2BF-61B33CA93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8EB6-80D9-4E53-92E1-9A987B80F7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B21D-81F4-4EDC-9DDB-8B30DEA7A5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2AD0-6A69-4237-928A-8DCDB0C63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2D3B-AD8E-4923-9440-E70FD5CCE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DEEA-703E-4E8F-BB67-87C84374F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3BB4-20DE-43D5-BA21-8D3986CD9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EDF2-816D-413B-BF67-0EF8962A0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6C23-CB2E-424D-AF49-4A0511F9C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60DE-231D-42AB-B0B3-A7BBEB58E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DCC1-1982-4D5E-B47F-FD781854D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2315-9085-453F-9CDE-833D16BC8E35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600" y="1341000"/>
            <a:ext cx="6400800" cy="3095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MAINSTREAMING GE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N LABOUR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Mainstreaming 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For gender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For social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For understanding labou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C6A0-A2DF-41E1-88FE-D2113A79E3B7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00"/>
                </a:solidFill>
                <a:latin typeface="Times New Roman"/>
              </a:rPr>
              <a:t>Mainstreaming gender into measurement metho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Evaluate laws or regulations governing administrative procedures (type and range of information, level of det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Sample size- sufficient precision, meaningful (HS, 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All work situations are covered (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59B5-6BA0-496A-9467-477A40C9C749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USEFUL CROSS-CLASS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Demographic: sex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Economic: occupations, status in employment,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Social: education, marit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Family context: presence of children or other members requiring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8D2F-A241-45B5-8FB5-FE5A3561D0C9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HECKLIST OF GOOD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ffff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olitical will at all levels essent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(b) All relevant topics are included 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(specified-not exhaus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(c) Definitions and measurement methods cover all workers and work situations it sufficient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(d) Gender statistics always presented in regular statistic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E7B9-1953-49E8-99ED-00236FFBC9AB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DG Indicator 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66764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CB2F-F5AE-4972-9F64-F4B0AC5968FA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6985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A26B-2916-42B4-85FE-F86EFB7A4044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5013360"/>
            <a:ext cx="7772400" cy="698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3454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C3DF-47B9-494F-A4C0-2B6AD692C8C6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7459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C75A-CC76-46A6-B04E-E2280054D128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934920"/>
            <a:ext cx="77756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0FE5-F794-4435-88EB-6166E7768A8D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WHY MAINSTREAMING G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To implement, monitor, analyse and evaluate policies and programmes on GENDER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Core principle of the 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Governments strongly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Beijing Platform fo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TO IMPROVE STATISTICS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095880"/>
            <a:ext cx="655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62F7-7A2B-4FF7-B664-CA85B3A0B228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LABOUR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Provide descriptions of the size, structure and characteristics of the various participants in the labour market, and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Typical” work situations better 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Women more likely to be in “atypical” work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Contribution of women to the national economy underestimated and misre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Policies and programmes designed on the basis of  statistics that partially reflect workers’ contributions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99"/>
                </a:solidFill>
                <a:latin typeface="Times New Roman"/>
              </a:rPr>
              <a:t>Need to have gender concerns as a measurement obj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Arial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747F-FD20-40D8-8B04-AB604845A554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ENDER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Not just statistics by sex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99"/>
                </a:solidFill>
                <a:latin typeface="Times New Roman"/>
              </a:rPr>
              <a:t>But statistics that are useful for describing and analysing differences and similarities between the situation of men and women in the area of work (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work activities, conditions, rewa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99"/>
                </a:solidFill>
                <a:latin typeface="Times New Roman"/>
              </a:rPr>
              <a:t>considering personal and family si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Relevant labour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Covering ALL workers and work situ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Disaggregated in sufficient det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Crossclassified by usefu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99"/>
                </a:solidFill>
                <a:latin typeface="Times New Roman"/>
              </a:rPr>
              <a:t>Result: statistics of higher quality and more useful for all 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Arial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8924-9320-44FF-BDA1-89E088088874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OW TO MAINSTREAM G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7800" indent="-5778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Evalu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Disaggregation by 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Topics 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Definitions and classification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Measurement method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resentation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Reveal strengths and shortcom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dentify where and how to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Strong commitment at all levels of 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93000"/>
            <a:ext cx="655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3001-9E07-439A-83A3-809FDD780619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ISAGGREGATION BY 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roblem of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Labou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rice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roblem of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Establishment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Administrative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roblem of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6095880"/>
            <a:ext cx="655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7066-96A1-4976-812E-9D6BB0A0A7A7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VERAGE OF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Balancing of work and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nformal economy and non-SNA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Labour market 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ncome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MDG11: Share of women in non-agricultural paid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C0A4-AFA1-4D1E-9E4F-2418025E6CF2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finitions and class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Definitions ensure ful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Reference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Classifications- sufficient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Status in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nju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BD91-E592-4ABA-94EA-58AB5A04CAF9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easuremen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Should follow the definitions, ensure full coverage and guarantee sufficient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Establishment surveys- 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staff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Administrative records- 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support the administrative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Times New Roman"/>
              </a:rPr>
              <a:t>Useful for particular groups that are well cov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Time use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preferred sources for gende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12:05:18Z</dcterms:created>
  <dc:creator>taswell</dc:creator>
  <dc:description/>
  <dc:language>en-US</dc:language>
  <cp:lastModifiedBy> </cp:lastModifiedBy>
  <cp:lastPrinted>2001-10-19T16:23:35Z</cp:lastPrinted>
  <dcterms:modified xsi:type="dcterms:W3CDTF">2004-10-18T07:29:10Z</dcterms:modified>
  <cp:revision>155</cp:revision>
  <dc:subject/>
  <dc:title>THIS IS A TEST</dc:title>
</cp:coreProperties>
</file>