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83E-305D-49B1-9AFC-A1AFDF29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CB9-C5C2-4A2B-820A-BAA38362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A83-386F-41C3-840A-5FBA8CF5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87E-2C7E-42ED-A511-2AD43BB6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474-E346-4020-8695-2CA85FB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A2E-6941-4999-BB40-89904DB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C15-910C-41B8-9870-7060A575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AF1-B159-4CAA-BF87-FE559DC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207-73F5-41EB-B305-4D0CF38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10A-6C6D-4E73-9DC9-135FD14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D86-8AF3-4FA6-A350-E35A551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C2E-03A9-4AF1-B925-F40C478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32A3-003B-4098-A8C0-E457F42ED2E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-Conference with UN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Octo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79800" y="1396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rch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gender equality through conducting a survey on gender attitudes, and launching 2005 NH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1080" y="13237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to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nder disparities in a number of important socio-economic areas (e.g. employment, education and representation in decision-making processes, mortality rate &amp; crime rates, etc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ps in gender information, particularly on sensitive social issues (e.g. domestic violence, drugs and HIV/AID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4160" y="1252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tional survey on gender attitudes aim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awareness of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nderstanding of gend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ational capacity in conducting gender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recommendations on promoting gender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surveys on gender attitudes in C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92200" y="1249200"/>
            <a:ext cx="81244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ed outputs will be achieved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ory workshop 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urvey on gend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orkshop to analyse the results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DR in three languages (English, Azeri, and Russ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bate through Town Hall Meetings, media forums, parliamentary rou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95440" y="1180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unterpart – SC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ssy of 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Focal Points from UN sister-agencies: (UNICEF, UNIFEM, and UNF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nstitutions; academia; NGOs;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95440" y="1180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NHDR on Gender Attitu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kind of a survey modality should be applied to capture the various dimensions of gender attitu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sign questions to measure gender attitu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guidance should be provided to potential users to ensure their capacity to interpret data on gender attitudes into policy form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lessons learned with similar gender attitudes surve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3880" y="797040"/>
            <a:ext cx="57308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724640" cy="284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7800" y="4292640"/>
            <a:ext cx="30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ANK YOU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7:49:25Z</dcterms:created>
  <dc:creator>Irada.Ahmedova</dc:creator>
  <dc:description/>
  <dc:language>en-US</dc:language>
  <cp:lastModifiedBy>Irada.Ahmedova</cp:lastModifiedBy>
  <dcterms:modified xsi:type="dcterms:W3CDTF">2004-10-19T14:14:05Z</dcterms:modified>
  <cp:revision>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4072617</vt:r8>
  </property>
  <property fmtid="{D5CDD505-2E9C-101B-9397-08002B2CF9AE}" pid="3" name="_AuthorEmail">
    <vt:lpwstr>Irada.Ahmedova@undp.org</vt:lpwstr>
  </property>
  <property fmtid="{D5CDD505-2E9C-101B-9397-08002B2CF9AE}" pid="4" name="_AuthorEmailDisplayName">
    <vt:lpwstr>Irada Ahmedova</vt:lpwstr>
  </property>
  <property fmtid="{D5CDD505-2E9C-101B-9397-08002B2CF9AE}" pid="5" name="_EmailSubject">
    <vt:lpwstr>Presentation Material for Video-Conference, 20 October</vt:lpwstr>
  </property>
</Properties>
</file>