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B95-5F1F-43A1-87E9-611FBA59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1D9-818E-4E96-8920-FB55B6B4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D57-BC56-4BC7-915A-A7AC08D7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E42-9DE2-4DDC-A4A3-DBBDE6DB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36E-0B06-4D5D-BD6F-3C6FA3BA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894B-D7EB-48DA-BEE3-CC82BF74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63E-A6DF-48CA-A87E-DBCB58DE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BF9C-08C2-4770-909C-2861C4E5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DB6-09F8-413C-B598-96786B4D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99E-96DC-46DD-A31A-BAD52D04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3F0-21D9-45A2-9352-43FACEF7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033-84A6-4217-A606-88CD0BE7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5481-F912-415A-B7C9-542B0FB03F12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5 NHDR on Gender Attitud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-Conference with UN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October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79800" y="139680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5 NHDR on Gender Attitud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2781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rching go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gender equality through conducting a survey on gender attitudes, and launching 2005 NHD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1080" y="13237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5 NHDR on Gender Attitud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to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ender disparities in a number of important socio-economic areas (e.g. employment, education and representation in decision-making processes, mortality rate &amp; crime rates, etc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aps in gender information, particularly on sensitive social issues (e.g. domestic violence, drugs and HIV/AIDS,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24160" y="12524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5 NHDR on Gender Attitud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national survey on gender attitudes aim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awareness of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understanding of gender 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national capacity in conducting gender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recommendations on promoting gender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surveys on gender attitudes in C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92200" y="1249200"/>
            <a:ext cx="812448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5 NHDR on Gender Attitud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pected outputs will be achieved throug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ory workshop on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urvey on gender 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workshop to analyse the results of th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DR in three languages (English, Azeri, and Russi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debate through Town Hall Meetings, media forums, parliamentary round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95440" y="118080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5 NHDR on Gender Attitud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n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counterpart – SC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ssy of No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Focal Points from UN sister-agencies: (UNICEF, UNIFEM, and UNF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institutions; academia; NGOs;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95440" y="118080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5 NHDR on Gender Attitud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kind of a survey modality should be applied to capture the various dimensions of gender attitud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sign questions to measure gender attitud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guidance should be provided to potential users to ensure their capacity to interpret data on gender attitudes into policy formu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lessons learned with similar gender attitudes surve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53880" y="797040"/>
            <a:ext cx="573084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411280" y="1268280"/>
            <a:ext cx="4724640" cy="2849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7800" y="4292640"/>
            <a:ext cx="305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ANK YOU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7:49:25Z</dcterms:created>
  <dc:creator>Irada.Ahmedova</dc:creator>
  <dc:description/>
  <dc:language>en-US</dc:language>
  <cp:lastModifiedBy>Irada.Ahmedova</cp:lastModifiedBy>
  <dcterms:modified xsi:type="dcterms:W3CDTF">2004-10-19T14:14:05Z</dcterms:modified>
  <cp:revision>4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74072617</vt:r8>
  </property>
  <property fmtid="{D5CDD505-2E9C-101B-9397-08002B2CF9AE}" pid="3" name="_AuthorEmail">
    <vt:lpwstr>Irada.Ahmedova@undp.org</vt:lpwstr>
  </property>
  <property fmtid="{D5CDD505-2E9C-101B-9397-08002B2CF9AE}" pid="4" name="_AuthorEmailDisplayName">
    <vt:lpwstr>Irada Ahmedova</vt:lpwstr>
  </property>
  <property fmtid="{D5CDD505-2E9C-101B-9397-08002B2CF9AE}" pid="5" name="_EmailSubject">
    <vt:lpwstr>Presentation Material for Video-Conference, 20 October</vt:lpwstr>
  </property>
</Properties>
</file>