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32000" y="6237360"/>
            <a:ext cx="2743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ECE Statistica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9640" y="6165720"/>
            <a:ext cx="544680" cy="457200"/>
            <a:chOff x="539640" y="6165720"/>
            <a:chExt cx="544680" cy="4572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544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PlaceHolder 4"/>
            <p:cNvSpPr>
              <a:spLocks noGrp="1"/>
            </p:cNvSpPr>
            <p:nvPr>
              <p:ph type="dt" idx="2"/>
            </p:nvPr>
          </p:nvSpPr>
          <p:spPr>
            <a:xfrm>
              <a:off x="539640" y="6165720"/>
              <a:ext cx="544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6184800" y="63086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S Gender Statistics 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6960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aramond"/>
                <a:ea typeface="Arial Unicode MS"/>
              </a:rPr>
              <a:t>Report on the status of official statistics related to gender equality in Western Europe and North America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43430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Social and Demographic Statistics S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N Economic Commission for Europe - Statistical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720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ECE Work Session on Gender Statist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Geneve, 18-20 October 2004</a:t>
            </a:r>
            <a:r>
              <a:rPr b="1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9140760" cy="1150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External support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alf of the NSOs received financial support (from ministri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ternal assessmen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tion by those providing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ultation among users/produ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sessment by expe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14076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Garamond"/>
              </a:rPr>
              <a:t>UNECE Gender Statistics Website</a:t>
            </a:r>
            <a:endParaRPr b="0" lang="en-US" sz="4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185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5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CH" sz="4000" spc="-1" strike="noStrike">
                <a:solidFill>
                  <a:srgbClr val="000000"/>
                </a:solidFill>
                <a:latin typeface="Garamond"/>
              </a:rPr>
              <a:t>Resource for data and information (database, documentation, links, etc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5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CH" sz="4000" spc="-1" strike="noStrike">
                <a:solidFill>
                  <a:srgbClr val="000000"/>
                </a:solidFill>
                <a:latin typeface="Garamond"/>
              </a:rPr>
              <a:t>Disseminate data and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14076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Garamond"/>
              </a:rPr>
              <a:t>Some lessons…</a:t>
            </a:r>
            <a:endParaRPr b="0" lang="en-US" sz="4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185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fr-CH" sz="4000" spc="-1" strike="noStrike">
                <a:solidFill>
                  <a:srgbClr val="000000"/>
                </a:solidFill>
                <a:latin typeface="Garamond"/>
              </a:rPr>
              <a:t>No unique reci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fr-CH" sz="4000" spc="-1" strike="noStrike">
                <a:solidFill>
                  <a:srgbClr val="000000"/>
                </a:solidFill>
                <a:latin typeface="Garamond"/>
              </a:rPr>
              <a:t>Keep a broad and high vision (legal framework, within NSO, users, external suppor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9140760" cy="1150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Emerging issues &amp; data shortag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ountries participating in the assessmen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9140760" cy="12207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A ‘good’ framework for gender statistic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Legal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Internal organization within N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Consultation with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Extern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egal framework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92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646560" algn="just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Very broad s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646560" algn="just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It is not ‘necessary’ but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646560" algn="just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Nine countries without any legal pro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646560" algn="just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In 18 countries gender statistics mentioned in gender related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646560" algn="just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In 11 countries gender statistics mentioned in statistical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Italian draft law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818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932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240" indent="65304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Population census by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3240" indent="65304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Agriculture, industry and service censuses by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3240" indent="65304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Yearly data: poverty, use of public service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3240" indent="65304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Periodic data: health status, violence, time-use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3240" indent="65304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Business registers by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3240" indent="65304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Non-paid work by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Internal organization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6761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8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880" indent="58644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Gender statistics unit (2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880" indent="58644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Gender Statistics Focal Point (18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880" indent="58644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For 9 GSFP: less than 10% of thei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880" indent="58644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Courier New"/>
              </a:rPr>
              <a:t>GSFP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1449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Interaction of GSFP with </a:t>
            </a:r>
            <a:br>
              <a:rPr sz="5400"/>
            </a:b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other  departments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81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9140760" cy="1150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Consultation with users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ategic’ to support gender within N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rs: ministries, NGOs, research instit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body mentioned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only data provision, more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140760" cy="16002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United Kingdom:</a:t>
            </a:r>
            <a:br>
              <a:rPr sz="5400"/>
            </a:b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Gender Statistics Users’ Group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in 1998, broad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statistics to understand gend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monitor/evalu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spects to im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 developments affecting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32:39Z</dcterms:created>
  <dc:creator>Giovannelli</dc:creator>
  <dc:description/>
  <dc:language>en-US</dc:language>
  <cp:lastModifiedBy>bisogno enrico</cp:lastModifiedBy>
  <dcterms:modified xsi:type="dcterms:W3CDTF">2004-10-18T00:49:19Z</dcterms:modified>
  <cp:revision>168</cp:revision>
  <dc:subject/>
  <dc:title>THE STATUS OF STATISTICS ON WOMEN AND MEN’S  ENTREPRENEURSHIP IN THE      UNECE REGION </dc:title>
</cp:coreProperties>
</file>