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80A-81DE-4D01-9A9A-DCCC95DB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CC5-7127-4027-91E0-2F88BB1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EB4-16E4-4595-8817-6563F555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66D-1CD8-4098-A3DB-23ACF9EF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E49-52DA-4021-BE65-7A6D2CF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0D9-4483-47F6-A1E3-1DAAC44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169-7FBB-484F-BB3E-E4569F8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BE1-1B7B-4A16-9E1C-3C5C25C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8F3-273D-411A-A020-CEDBC1E6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BC3-0418-4C58-A129-849AB5B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D7B-B2A7-4C17-8C93-E65BE3C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C27-C2B4-417D-AB54-0664C99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3BFF-DD7F-4B03-A27B-5750F1D898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609480"/>
          <a:ext cx="735336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353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143000" y="1752480"/>
          <a:ext cx="7353360" cy="13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533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3276720"/>
          <a:ext cx="6734160" cy="1218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276720"/>
                    <a:ext cx="67341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219320" y="4648320"/>
          <a:ext cx="7362720" cy="866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648320"/>
                    <a:ext cx="7362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2120" y="457200"/>
          <a:ext cx="7315200" cy="15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7315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62120" y="2286000"/>
          <a:ext cx="7772400" cy="36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77724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380880"/>
          <a:ext cx="82677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677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5280" y="1523880"/>
          <a:ext cx="6962760" cy="104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69627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5280" y="2514600"/>
          <a:ext cx="7077240" cy="115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14600"/>
                    <a:ext cx="70772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3880" y="3886200"/>
          <a:ext cx="6410520" cy="466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886200"/>
                    <a:ext cx="6410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23880" y="4495680"/>
          <a:ext cx="6810480" cy="466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4495680"/>
                    <a:ext cx="68104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181480"/>
          <a:ext cx="6524640" cy="3621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5181480"/>
                    <a:ext cx="652464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791320"/>
          <a:ext cx="7124760" cy="46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5791320"/>
                    <a:ext cx="71247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14400" y="533520"/>
          <a:ext cx="7581960" cy="23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5819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219320" y="4267080"/>
          <a:ext cx="6962760" cy="5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6962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2514600"/>
          <a:ext cx="7229520" cy="523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514600"/>
                    <a:ext cx="7229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219320" y="5105520"/>
          <a:ext cx="6914880" cy="695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105520"/>
                    <a:ext cx="6914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143000" y="3124080"/>
          <a:ext cx="7305840" cy="1047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3124080"/>
                    <a:ext cx="73058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533520"/>
          <a:ext cx="664848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648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880" y="1523880"/>
          <a:ext cx="8248680" cy="493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8248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6680" y="457200"/>
          <a:ext cx="7239240" cy="104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239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066680" y="1447920"/>
          <a:ext cx="7562880" cy="4152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756288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9:12:24Z</dcterms:created>
  <dc:creator>PC120004</dc:creator>
  <dc:description/>
  <dc:language>en-US</dc:language>
  <cp:lastModifiedBy>PC120004</cp:lastModifiedBy>
  <cp:lastPrinted>2004-10-14T11:25:52Z</cp:lastPrinted>
  <dcterms:modified xsi:type="dcterms:W3CDTF">2004-10-14T11:33:00Z</dcterms:modified>
  <cp:revision>9</cp:revision>
  <dc:subject/>
  <dc:title>Заголовок слайда отсутствует</dc:title>
</cp:coreProperties>
</file>