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622-B471-4F18-B50C-C25166EB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5A8-5F49-445F-B623-76DA0F1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66D-0AFD-43F1-84B9-5EF09972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100-8058-494E-86EB-7C69B9F9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B9D-86ED-485D-A7B6-C05DCC0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7E0-862F-44F1-A70D-D2156732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79B-B2DC-4E49-9E7B-37504726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91F-8AAC-4F4F-A57B-7EF442D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D4F-770A-444E-902A-CE4EF86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F04-98BB-4595-B1A0-0B673AA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F88-4ABC-4CB0-8074-BB21846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755-8821-4388-B849-D2D00BB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AC7-045E-4F8E-A7CA-EF4F6A7787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609480"/>
          <a:ext cx="7353360" cy="9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353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143000" y="1752480"/>
          <a:ext cx="7353360" cy="13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533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3276720"/>
          <a:ext cx="6734160" cy="1218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276720"/>
                    <a:ext cx="67341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219320" y="4648320"/>
          <a:ext cx="7362720" cy="866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648320"/>
                    <a:ext cx="7362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2120" y="457200"/>
          <a:ext cx="7315200" cy="15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7315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62120" y="2286000"/>
          <a:ext cx="7772400" cy="36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77724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380880"/>
          <a:ext cx="82677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677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5280" y="1523880"/>
          <a:ext cx="6962760" cy="104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69627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5280" y="2514600"/>
          <a:ext cx="7077240" cy="115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14600"/>
                    <a:ext cx="70772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3880" y="3886200"/>
          <a:ext cx="6410520" cy="466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886200"/>
                    <a:ext cx="6410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23880" y="4495680"/>
          <a:ext cx="6810480" cy="466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4495680"/>
                    <a:ext cx="68104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181480"/>
          <a:ext cx="6524640" cy="3621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5181480"/>
                    <a:ext cx="652464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791320"/>
          <a:ext cx="7124760" cy="46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5791320"/>
                    <a:ext cx="71247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14400" y="533520"/>
          <a:ext cx="7581960" cy="23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5819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219320" y="4267080"/>
          <a:ext cx="6962760" cy="5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6962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2514600"/>
          <a:ext cx="7229520" cy="523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514600"/>
                    <a:ext cx="7229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219320" y="5105520"/>
          <a:ext cx="6914880" cy="695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105520"/>
                    <a:ext cx="6914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143000" y="3124080"/>
          <a:ext cx="7305840" cy="1047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3124080"/>
                    <a:ext cx="73058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533520"/>
          <a:ext cx="664848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648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880" y="1523880"/>
          <a:ext cx="8248680" cy="493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8248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6680" y="457200"/>
          <a:ext cx="7239240" cy="104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239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066680" y="1447920"/>
          <a:ext cx="7562880" cy="4152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756288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SC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9:12:24Z</dcterms:created>
  <dc:creator>PC120004</dc:creator>
  <dc:description/>
  <dc:language>en-US</dc:language>
  <cp:lastModifiedBy>PC120004</cp:lastModifiedBy>
  <cp:lastPrinted>2004-10-14T11:25:52Z</cp:lastPrinted>
  <dcterms:modified xsi:type="dcterms:W3CDTF">2004-10-14T11:33:00Z</dcterms:modified>
  <cp:revision>9</cp:revision>
  <dc:subject/>
  <dc:title>Заголовок слайда отсутствует</dc:title>
</cp:coreProperties>
</file>