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47E-6C94-4A30-8B01-BF5ECB63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021-2596-425B-BBE2-C8042B6A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524-C7AF-448C-BBFC-7CC35677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ABB-1BB3-47AF-938F-483B1E43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8AB-189F-4B4C-8199-5044F632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B56-B86F-4941-9203-1FE99BF1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8D5-53CB-4242-8334-577739F8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673-4DF9-44F3-A6A4-6B5C2D29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F5A-2EF0-43EC-9A21-63C2934E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6CD-FE56-4FB0-B412-BA245D2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913-E36F-4D90-8DE5-7B7582B8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180-2ECD-4DA9-B307-016AD775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190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1BA6-1A16-45C4-A38B-AB4AEAB760A3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457200" y="1752480"/>
            <a:ext cx="830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457200" y="1752480"/>
            <a:ext cx="830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51640" y="630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ctober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71640" y="693720"/>
            <a:ext cx="3600720" cy="301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278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SURVEY OF HOUSEHOLD RELATIONSHIPS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(ENDIREH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108-ED9D-4B85-BEC4-E6A132D48620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27040" y="843120"/>
            <a:ext cx="8046720" cy="5212800"/>
            <a:chOff x="527040" y="843120"/>
            <a:chExt cx="8046720" cy="5212800"/>
          </a:xfrm>
        </p:grpSpPr>
        <p:grpSp>
          <p:nvGrpSpPr>
            <p:cNvPr id="91" name=""/>
            <p:cNvGrpSpPr/>
            <p:nvPr/>
          </p:nvGrpSpPr>
          <p:grpSpPr>
            <a:xfrm>
              <a:off x="527040" y="3253320"/>
              <a:ext cx="7999920" cy="2311560"/>
              <a:chOff x="527040" y="3253320"/>
              <a:chExt cx="7999920" cy="2311560"/>
            </a:xfrm>
          </p:grpSpPr>
          <p:sp>
            <p:nvSpPr>
              <p:cNvPr id="92" name=""/>
              <p:cNvSpPr/>
              <p:nvPr/>
            </p:nvSpPr>
            <p:spPr>
              <a:xfrm>
                <a:off x="7946640" y="3253320"/>
                <a:ext cx="580320" cy="231156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6200000">
                <a:off x="4316040" y="-143280"/>
                <a:ext cx="424800" cy="799668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4310280" y="943200"/>
                <a:ext cx="424800" cy="799164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5" name=""/>
            <p:cNvGraphicFramePr/>
            <p:nvPr/>
          </p:nvGraphicFramePr>
          <p:xfrm>
            <a:off x="580320" y="843120"/>
            <a:ext cx="7993440" cy="5212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0320" y="843120"/>
                      <a:ext cx="7993440" cy="52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89E-A48F-4F19-9E2D-A2BD0BE7B2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581040" y="2798640"/>
            <a:ext cx="7052760" cy="2484360"/>
            <a:chOff x="581040" y="2798640"/>
            <a:chExt cx="7052760" cy="2484360"/>
          </a:xfrm>
        </p:grpSpPr>
        <p:sp>
          <p:nvSpPr>
            <p:cNvPr id="98" name=""/>
            <p:cNvSpPr/>
            <p:nvPr/>
          </p:nvSpPr>
          <p:spPr>
            <a:xfrm>
              <a:off x="7045200" y="2798640"/>
              <a:ext cx="588600" cy="2476440"/>
            </a:xfrm>
            <a:prstGeom prst="rect">
              <a:avLst/>
            </a:pr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4005360" y="111240"/>
              <a:ext cx="223920" cy="7030080"/>
            </a:xfrm>
            <a:prstGeom prst="rect">
              <a:avLst/>
            </a:pr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006080" y="628200"/>
              <a:ext cx="228600" cy="7020000"/>
            </a:xfrm>
            <a:prstGeom prst="rect">
              <a:avLst/>
            </a:pr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3993480" y="1112760"/>
              <a:ext cx="257760" cy="7020000"/>
            </a:xfrm>
            <a:prstGeom prst="rect">
              <a:avLst/>
            </a:pr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3977640" y="1631520"/>
              <a:ext cx="254880" cy="7048080"/>
            </a:xfrm>
            <a:prstGeom prst="rect">
              <a:avLst/>
            </a:pr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638280" y="681120"/>
          <a:ext cx="8026200" cy="552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280" y="681120"/>
                    <a:ext cx="80262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C55-1F5A-4762-9E48-A343E51A5F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49200" y="674640"/>
            <a:ext cx="8399520" cy="5676480"/>
            <a:chOff x="349200" y="674640"/>
            <a:chExt cx="8399520" cy="5676480"/>
          </a:xfrm>
        </p:grpSpPr>
        <p:grpSp>
          <p:nvGrpSpPr>
            <p:cNvPr id="106" name=""/>
            <p:cNvGrpSpPr/>
            <p:nvPr/>
          </p:nvGrpSpPr>
          <p:grpSpPr>
            <a:xfrm>
              <a:off x="349200" y="3268800"/>
              <a:ext cx="8399520" cy="2096640"/>
              <a:chOff x="349200" y="3268800"/>
              <a:chExt cx="8399520" cy="2096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166240" y="3268800"/>
                <a:ext cx="581040" cy="209088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00000">
                <a:off x="4411800" y="-68760"/>
                <a:ext cx="272520" cy="839448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6200000">
                <a:off x="4419360" y="496800"/>
                <a:ext cx="258840" cy="839952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6200000">
                <a:off x="4416840" y="1038240"/>
                <a:ext cx="273960" cy="838044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11" name=""/>
            <p:cNvGraphicFramePr/>
            <p:nvPr/>
          </p:nvGraphicFramePr>
          <p:xfrm>
            <a:off x="403200" y="674640"/>
            <a:ext cx="8334360" cy="5676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674640"/>
                      <a:ext cx="8334360" cy="56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C72-054B-4797-9216-7116D41450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65120" y="668160"/>
            <a:ext cx="8072280" cy="5281560"/>
            <a:chOff x="465120" y="668160"/>
            <a:chExt cx="8072280" cy="5281560"/>
          </a:xfrm>
        </p:grpSpPr>
        <p:grpSp>
          <p:nvGrpSpPr>
            <p:cNvPr id="114" name=""/>
            <p:cNvGrpSpPr/>
            <p:nvPr/>
          </p:nvGrpSpPr>
          <p:grpSpPr>
            <a:xfrm>
              <a:off x="465120" y="3258720"/>
              <a:ext cx="7978680" cy="1686960"/>
              <a:chOff x="465120" y="3258720"/>
              <a:chExt cx="7978680" cy="1686960"/>
            </a:xfrm>
          </p:grpSpPr>
          <p:sp>
            <p:nvSpPr>
              <p:cNvPr id="115" name=""/>
              <p:cNvSpPr/>
              <p:nvPr/>
            </p:nvSpPr>
            <p:spPr>
              <a:xfrm>
                <a:off x="7878960" y="3258720"/>
                <a:ext cx="564840" cy="168696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6200000">
                <a:off x="4315320" y="246240"/>
                <a:ext cx="278280" cy="7978680"/>
              </a:xfrm>
              <a:prstGeom prst="rect">
                <a:avLst/>
              </a:prstGeom>
              <a:solidFill>
                <a:srgbClr val="bbe0e3">
                  <a:alpha val="69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17" name=""/>
            <p:cNvGraphicFramePr/>
            <p:nvPr/>
          </p:nvGraphicFramePr>
          <p:xfrm>
            <a:off x="500040" y="668160"/>
            <a:ext cx="8037360" cy="5281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0040" y="668160"/>
                      <a:ext cx="8037360" cy="528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649-6900-4478-A7CD-D1DE9891C2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065320" y="204840"/>
            <a:ext cx="5025960" cy="772920"/>
            <a:chOff x="2065320" y="204840"/>
            <a:chExt cx="5025960" cy="772920"/>
          </a:xfrm>
        </p:grpSpPr>
        <p:sp>
          <p:nvSpPr>
            <p:cNvPr id="120" name=""/>
            <p:cNvSpPr/>
            <p:nvPr/>
          </p:nvSpPr>
          <p:spPr>
            <a:xfrm>
              <a:off x="2128680" y="204840"/>
              <a:ext cx="4950000" cy="77292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65320" y="289080"/>
              <a:ext cx="50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DISSEMIN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82760" y="898560"/>
            <a:ext cx="8235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eb 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www.inegi.gob.m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www.inmujeres.gob.m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nte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For each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3FC-C572-4934-9234-4D6120BFBF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198440" y="352440"/>
            <a:ext cx="7589880" cy="6086520"/>
            <a:chOff x="1198440" y="352440"/>
            <a:chExt cx="7589880" cy="6086520"/>
          </a:xfrm>
        </p:grpSpPr>
        <p:grpSp>
          <p:nvGrpSpPr>
            <p:cNvPr id="47" name=""/>
            <p:cNvGrpSpPr/>
            <p:nvPr/>
          </p:nvGrpSpPr>
          <p:grpSpPr>
            <a:xfrm>
              <a:off x="1198440" y="352440"/>
              <a:ext cx="4921200" cy="6086520"/>
              <a:chOff x="1198440" y="352440"/>
              <a:chExt cx="4921200" cy="6086520"/>
            </a:xfrm>
          </p:grpSpPr>
          <p:cxnSp>
            <p:nvCxnSpPr>
              <p:cNvPr id="48" name="_s252954"/>
              <p:cNvCxnSpPr>
                <a:stCxn id="49" idx="0"/>
                <a:endCxn id="50" idx="2"/>
              </p:cNvCxnSpPr>
              <p:nvPr/>
            </p:nvCxnSpPr>
            <p:spPr>
              <a:xfrm flipV="1" rot="16200000">
                <a:off x="3456720" y="3404520"/>
                <a:ext cx="407160" cy="3960"/>
              </a:xfrm>
              <a:prstGeom prst="bentConnector3">
                <a:avLst>
                  <a:gd name="adj1" fmla="val 28053"/>
                </a:avLst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</p:cxnSp>
          <p:cxnSp>
            <p:nvCxnSpPr>
              <p:cNvPr id="51" name="_s252950"/>
              <p:cNvCxnSpPr>
                <a:stCxn id="50" idx="0"/>
                <a:endCxn id="52" idx="2"/>
              </p:cNvCxnSpPr>
              <p:nvPr/>
            </p:nvCxnSpPr>
            <p:spPr>
              <a:xfrm flipV="1">
                <a:off x="3660840" y="2294640"/>
                <a:ext cx="2160" cy="26604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</p:cxnSp>
          <p:cxnSp>
            <p:nvCxnSpPr>
              <p:cNvPr id="53" name="_s252939"/>
              <p:cNvCxnSpPr>
                <a:stCxn id="52" idx="0"/>
                <a:endCxn id="54" idx="2"/>
              </p:cNvCxnSpPr>
              <p:nvPr/>
            </p:nvCxnSpPr>
            <p:spPr>
              <a:xfrm flipV="1">
                <a:off x="3660840" y="718560"/>
                <a:ext cx="2160" cy="33228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</p:cxnSp>
          <p:sp>
            <p:nvSpPr>
              <p:cNvPr id="54" name="_s252934"/>
              <p:cNvSpPr/>
              <p:nvPr/>
            </p:nvSpPr>
            <p:spPr>
              <a:xfrm>
                <a:off x="2614680" y="352440"/>
                <a:ext cx="2092320" cy="36684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040" rIns="5004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INMUJERE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_s252936"/>
              <p:cNvSpPr/>
              <p:nvPr/>
            </p:nvSpPr>
            <p:spPr>
              <a:xfrm>
                <a:off x="1198440" y="1050840"/>
                <a:ext cx="4921200" cy="1244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040" rIns="5004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National Program fo Equal Opportunitie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And No Discrimination against Women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_s252949"/>
              <p:cNvSpPr/>
              <p:nvPr/>
            </p:nvSpPr>
            <p:spPr>
              <a:xfrm>
                <a:off x="1569960" y="2560680"/>
                <a:ext cx="4178520" cy="642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320" rIns="5832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National Program for a Life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with No Violenc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6440" y="5937120"/>
                <a:ext cx="3324240" cy="289080"/>
              </a:xfrm>
              <a:prstGeom prst="rect">
                <a:avLst/>
              </a:prstGeom>
              <a:solidFill>
                <a:srgbClr val="808080">
                  <a:alpha val="1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_s252953"/>
              <p:cNvSpPr/>
              <p:nvPr/>
            </p:nvSpPr>
            <p:spPr>
              <a:xfrm>
                <a:off x="1455840" y="3610080"/>
                <a:ext cx="4411440" cy="28288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320" rIns="58320" tIns="29160" bIns="2916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Subsystem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Preven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Atten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Detec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Communication and Institutional lin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Normativity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Coordination and link with society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700" spc="-1" strike="noStrike">
                    <a:solidFill>
                      <a:srgbClr val="000000"/>
                    </a:solidFill>
                    <a:latin typeface="Arial"/>
                  </a:rPr>
                  <a:t>Information and evalua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591240" y="2301840"/>
              <a:ext cx="2104920" cy="12636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62800" y="2328840"/>
              <a:ext cx="222552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Domestic viol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SzPct val="1030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Violence against wo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49920" y="2857680"/>
              <a:ext cx="84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368-D1EB-4097-A07B-0F37446CE1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80960" y="204840"/>
            <a:ext cx="8236080" cy="6056640"/>
            <a:chOff x="480960" y="204840"/>
            <a:chExt cx="8236080" cy="6056640"/>
          </a:xfrm>
        </p:grpSpPr>
        <p:sp>
          <p:nvSpPr>
            <p:cNvPr id="60" name=""/>
            <p:cNvSpPr/>
            <p:nvPr/>
          </p:nvSpPr>
          <p:spPr>
            <a:xfrm>
              <a:off x="2617920" y="204840"/>
              <a:ext cx="3956040" cy="77292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960" y="316080"/>
              <a:ext cx="8236080" cy="59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SOURCES OF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dministrative recor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omestic Violence Survey, 1999 (INEGI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Metropolitan area of Mexico C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ersons aged 18 years and 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Residents of private dwellin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hysical, Emotional, Sexual and Intimidat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viol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CCA-11DB-4334-A695-9F5A998AAE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36520" y="457200"/>
            <a:ext cx="8674200" cy="6046560"/>
            <a:chOff x="236520" y="457200"/>
            <a:chExt cx="8674200" cy="6046560"/>
          </a:xfrm>
        </p:grpSpPr>
        <p:sp>
          <p:nvSpPr>
            <p:cNvPr id="63" name=""/>
            <p:cNvSpPr/>
            <p:nvPr/>
          </p:nvSpPr>
          <p:spPr>
            <a:xfrm>
              <a:off x="2617920" y="457200"/>
              <a:ext cx="3956040" cy="77328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520" y="619200"/>
              <a:ext cx="8674200" cy="58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SOURCES OF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National Violence Against Women Survey, 200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(Health Ministery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Women aged 15 years and ov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Who demanded attention in health centers from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ublic s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Volunta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hysical, Emotional, Sexual and Economic viol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689-52C8-4FE0-B9EF-1517322A3F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85720" y="638280"/>
            <a:ext cx="797400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ff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of couple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687680" y="457200"/>
            <a:ext cx="5816520" cy="773280"/>
            <a:chOff x="1687680" y="457200"/>
            <a:chExt cx="5816520" cy="773280"/>
          </a:xfrm>
        </p:grpSpPr>
        <p:sp>
          <p:nvSpPr>
            <p:cNvPr id="67" name=""/>
            <p:cNvSpPr/>
            <p:nvPr/>
          </p:nvSpPr>
          <p:spPr>
            <a:xfrm>
              <a:off x="1687680" y="457200"/>
              <a:ext cx="5816520" cy="77328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17560" y="582480"/>
              <a:ext cx="573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OBJECTIVES FOR THE SURVE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0DF-1E99-4A68-B3CA-A865390D2E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49440" y="216000"/>
            <a:ext cx="7974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menon more related to types of 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teraction inside the co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“perverse” unequal socialization of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 of gender violence manifestations in th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 depends on values, norms an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nce limit to aggression and violence doe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 on  the seriousness of the physical, sexu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 or economical injuries, but 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ellectual, emotional, economic, material, human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men and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567160" y="293760"/>
            <a:ext cx="3977640" cy="730080"/>
            <a:chOff x="2567160" y="293760"/>
            <a:chExt cx="3977640" cy="730080"/>
          </a:xfrm>
        </p:grpSpPr>
        <p:sp>
          <p:nvSpPr>
            <p:cNvPr id="71" name=""/>
            <p:cNvSpPr/>
            <p:nvPr/>
          </p:nvSpPr>
          <p:spPr>
            <a:xfrm>
              <a:off x="2589120" y="293760"/>
              <a:ext cx="3955680" cy="73008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67160" y="313920"/>
              <a:ext cx="39477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ANALYTICAL MOD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93D-E350-44CD-B0D2-556E4A4A57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00320" y="3308400"/>
            <a:ext cx="44467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9040" y="406440"/>
          <a:ext cx="8332920" cy="455400"/>
        </p:xfrm>
        <a:graphic>
          <a:graphicData uri="http://schemas.openxmlformats.org/drawingml/2006/table">
            <a:tbl>
              <a:tblPr/>
              <a:tblGrid>
                <a:gridCol w="8332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6f3f4"/>
                          </a:solidFill>
                          <a:latin typeface="Arial"/>
                          <a:ea typeface="Times New Roman"/>
                        </a:rPr>
                        <a:t>Classif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46a1a8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2200320" y="3079800"/>
            <a:ext cx="44467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6680" y="1038240"/>
          <a:ext cx="8331120" cy="1595520"/>
        </p:xfrm>
        <a:graphic>
          <a:graphicData uri="http://schemas.openxmlformats.org/drawingml/2006/table">
            <a:tbl>
              <a:tblPr/>
              <a:tblGrid>
                <a:gridCol w="2776320"/>
                <a:gridCol w="5554800"/>
              </a:tblGrid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6f3f4"/>
                          </a:solidFill>
                          <a:latin typeface="Arial"/>
                          <a:ea typeface="Times New Roman"/>
                        </a:rPr>
                        <a:t>Context variables (both members of the coup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46a1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graphic and socioeconomic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miliar precedents of violenc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ildhood exposure to viole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2200320" y="3201840"/>
            <a:ext cx="44467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0720" y="2800440"/>
          <a:ext cx="8331480" cy="1550880"/>
        </p:xfrm>
        <a:graphic>
          <a:graphicData uri="http://schemas.openxmlformats.org/drawingml/2006/table">
            <a:tbl>
              <a:tblPr/>
              <a:tblGrid>
                <a:gridCol w="2776680"/>
                <a:gridCol w="55548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6f3f4"/>
                          </a:solidFill>
                          <a:latin typeface="Arial"/>
                          <a:ea typeface="Times New Roman"/>
                        </a:rPr>
                        <a:t>Independent 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46a1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cou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rces, causes and perception 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lic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urces to cope with viol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200320" y="3003480"/>
            <a:ext cx="44467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3680" y="4560840"/>
          <a:ext cx="8318520" cy="1944720"/>
        </p:xfrm>
        <a:graphic>
          <a:graphicData uri="http://schemas.openxmlformats.org/drawingml/2006/table">
            <a:tbl>
              <a:tblPr/>
              <a:tblGrid>
                <a:gridCol w="2773080"/>
                <a:gridCol w="554544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6f3f4"/>
                          </a:solidFill>
                          <a:latin typeface="Arial"/>
                          <a:ea typeface="Times New Roman"/>
                        </a:rPr>
                        <a:t>Dependent 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46a1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violence: 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t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71E-C146-4F3D-90FC-4F3B06F121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82760" y="369720"/>
            <a:ext cx="82357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Women aged 15 years and o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Resident of private dwellings, with spouse present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(resid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onal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abilistic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4 700 fully completed surve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85% respons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ational and 11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065320" y="204840"/>
            <a:ext cx="5025960" cy="772920"/>
            <a:chOff x="2065320" y="204840"/>
            <a:chExt cx="5025960" cy="772920"/>
          </a:xfrm>
        </p:grpSpPr>
        <p:sp>
          <p:nvSpPr>
            <p:cNvPr id="83" name=""/>
            <p:cNvSpPr/>
            <p:nvPr/>
          </p:nvSpPr>
          <p:spPr>
            <a:xfrm>
              <a:off x="2128680" y="204840"/>
              <a:ext cx="4950000" cy="772920"/>
            </a:xfrm>
            <a:prstGeom prst="rect">
              <a:avLst/>
            </a:prstGeom>
            <a:gradFill rotWithShape="0">
              <a:gsLst>
                <a:gs pos="0">
                  <a:srgbClr val="46a1a8"/>
                </a:gs>
                <a:gs pos="50000">
                  <a:srgbClr val="bbe0e3">
                    <a:alpha val="70196"/>
                  </a:srgbClr>
                </a:gs>
                <a:gs pos="100000">
                  <a:srgbClr val="46a1a8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65320" y="289080"/>
              <a:ext cx="50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MAJOR CHARACTERIST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72D-0BBB-403E-90C0-C6136AD9E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86720" y="5299200"/>
            <a:ext cx="555480" cy="253800"/>
          </a:xfrm>
          <a:prstGeom prst="rect">
            <a:avLst/>
          </a:prstGeom>
          <a:solidFill>
            <a:srgbClr val="808080">
              <a:alpha val="54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48560" y="2425680"/>
            <a:ext cx="638280" cy="3440160"/>
          </a:xfrm>
          <a:prstGeom prst="rect">
            <a:avLst/>
          </a:prstGeom>
          <a:solidFill>
            <a:srgbClr val="bbe0e3">
              <a:alpha val="69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4420440" y="1692720"/>
            <a:ext cx="260280" cy="7475400"/>
          </a:xfrm>
          <a:prstGeom prst="rect">
            <a:avLst/>
          </a:prstGeom>
          <a:solidFill>
            <a:srgbClr val="bbe0e3">
              <a:alpha val="69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04960" y="189000"/>
          <a:ext cx="7637400" cy="64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960" y="189000"/>
                    <a:ext cx="76374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226-E2C8-43B5-9E59-B85D2F21A2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6:51:41Z</dcterms:created>
  <dc:creator>Usuario</dc:creator>
  <dc:description/>
  <dc:language>en-US</dc:language>
  <cp:lastModifiedBy> </cp:lastModifiedBy>
  <cp:lastPrinted>2003-02-25T22:24:30Z</cp:lastPrinted>
  <dcterms:modified xsi:type="dcterms:W3CDTF">2004-10-15T22:06:04Z</dcterms:modified>
  <cp:revision>211</cp:revision>
  <dc:subject/>
  <dc:title>Diapositiva 1</dc:title>
</cp:coreProperties>
</file>