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D4AA-0059-4859-8041-372103CA8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75C0-7D07-469F-AB23-C31712573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0431-D18D-4795-941C-9DBE139F0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7B91-8C2F-462E-830C-1CB3CB8B6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674E-39C7-4A73-9FBF-6B8FCA469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596E-5987-4EC6-B6EE-C3F2A6FC1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BC3C-D733-4A1E-976C-4220FA7DA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0CED-1CA6-4676-BC6E-DA0FC138D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0A8A-D715-43DC-B8C0-16607E559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C709-EBA7-4A3F-8ACA-CF6E4435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AC78-7067-4159-AB04-1F325D99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B4F3-8972-4B19-9B03-4B11DD9D3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009920" y="6492960"/>
            <a:ext cx="1909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BBE07-631C-4BB7-907C-A35B408A9664}" type="slidenum">
              <a:rPr b="0" lang="es-MX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flipH="1">
            <a:off x="457200" y="1752480"/>
            <a:ext cx="8305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 flipH="1">
            <a:off x="457200" y="1752480"/>
            <a:ext cx="8305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451640" y="630864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October,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771640" y="693720"/>
            <a:ext cx="3600720" cy="3013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4278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ATIONAL SURVEY OF HOUSEHOLD RELATIONSHIPS DYNAM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(ENDIREH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C1E8-E4CA-49C0-AF32-AB4B16214D5E}" type="slidenum">
              <a:t>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527040" y="843120"/>
            <a:ext cx="8046720" cy="5212800"/>
            <a:chOff x="527040" y="843120"/>
            <a:chExt cx="8046720" cy="5212800"/>
          </a:xfrm>
        </p:grpSpPr>
        <p:grpSp>
          <p:nvGrpSpPr>
            <p:cNvPr id="91" name=""/>
            <p:cNvGrpSpPr/>
            <p:nvPr/>
          </p:nvGrpSpPr>
          <p:grpSpPr>
            <a:xfrm>
              <a:off x="527040" y="3253320"/>
              <a:ext cx="7999920" cy="2311560"/>
              <a:chOff x="527040" y="3253320"/>
              <a:chExt cx="7999920" cy="2311560"/>
            </a:xfrm>
          </p:grpSpPr>
          <p:sp>
            <p:nvSpPr>
              <p:cNvPr id="92" name=""/>
              <p:cNvSpPr/>
              <p:nvPr/>
            </p:nvSpPr>
            <p:spPr>
              <a:xfrm>
                <a:off x="7946640" y="3253320"/>
                <a:ext cx="580320" cy="2311560"/>
              </a:xfrm>
              <a:prstGeom prst="rect">
                <a:avLst/>
              </a:prstGeom>
              <a:solidFill>
                <a:srgbClr val="bbe0e3">
                  <a:alpha val="69000"/>
                </a:srgbClr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6200000">
                <a:off x="4316040" y="-143280"/>
                <a:ext cx="424800" cy="7996680"/>
              </a:xfrm>
              <a:prstGeom prst="rect">
                <a:avLst/>
              </a:prstGeom>
              <a:solidFill>
                <a:srgbClr val="bbe0e3">
                  <a:alpha val="69000"/>
                </a:srgbClr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200000">
                <a:off x="4310280" y="943200"/>
                <a:ext cx="424800" cy="7991640"/>
              </a:xfrm>
              <a:prstGeom prst="rect">
                <a:avLst/>
              </a:prstGeom>
              <a:solidFill>
                <a:srgbClr val="bbe0e3">
                  <a:alpha val="69000"/>
                </a:srgbClr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95" name=""/>
            <p:cNvGraphicFramePr/>
            <p:nvPr/>
          </p:nvGraphicFramePr>
          <p:xfrm>
            <a:off x="580320" y="843120"/>
            <a:ext cx="7993440" cy="52128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80320" y="843120"/>
                      <a:ext cx="7993440" cy="521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0040-A566-4DA9-B772-09ECEB50A0C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581040" y="2798640"/>
            <a:ext cx="7052760" cy="2484360"/>
            <a:chOff x="581040" y="2798640"/>
            <a:chExt cx="7052760" cy="2484360"/>
          </a:xfrm>
        </p:grpSpPr>
        <p:sp>
          <p:nvSpPr>
            <p:cNvPr id="98" name=""/>
            <p:cNvSpPr/>
            <p:nvPr/>
          </p:nvSpPr>
          <p:spPr>
            <a:xfrm>
              <a:off x="7045200" y="2798640"/>
              <a:ext cx="588600" cy="2476440"/>
            </a:xfrm>
            <a:prstGeom prst="rect">
              <a:avLst/>
            </a:prstGeom>
            <a:solidFill>
              <a:srgbClr val="bbe0e3">
                <a:alpha val="69000"/>
              </a:srgbClr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rot="16200000">
              <a:off x="4005360" y="111240"/>
              <a:ext cx="223920" cy="7030080"/>
            </a:xfrm>
            <a:prstGeom prst="rect">
              <a:avLst/>
            </a:prstGeom>
            <a:solidFill>
              <a:srgbClr val="bbe0e3">
                <a:alpha val="69000"/>
              </a:srgbClr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6200000">
              <a:off x="4006080" y="628200"/>
              <a:ext cx="228600" cy="7020000"/>
            </a:xfrm>
            <a:prstGeom prst="rect">
              <a:avLst/>
            </a:prstGeom>
            <a:solidFill>
              <a:srgbClr val="bbe0e3">
                <a:alpha val="69000"/>
              </a:srgbClr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16200000">
              <a:off x="3993480" y="1112760"/>
              <a:ext cx="257760" cy="7020000"/>
            </a:xfrm>
            <a:prstGeom prst="rect">
              <a:avLst/>
            </a:prstGeom>
            <a:solidFill>
              <a:srgbClr val="bbe0e3">
                <a:alpha val="69000"/>
              </a:srgbClr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16200000">
              <a:off x="3977640" y="1631520"/>
              <a:ext cx="254880" cy="7048080"/>
            </a:xfrm>
            <a:prstGeom prst="rect">
              <a:avLst/>
            </a:prstGeom>
            <a:solidFill>
              <a:srgbClr val="bbe0e3">
                <a:alpha val="69000"/>
              </a:srgbClr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3" name=""/>
          <p:cNvGraphicFramePr/>
          <p:nvPr/>
        </p:nvGraphicFramePr>
        <p:xfrm>
          <a:off x="638280" y="681120"/>
          <a:ext cx="8026200" cy="5524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8280" y="681120"/>
                    <a:ext cx="8026200" cy="552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AFD1-4F83-4FD8-8010-E2F8E9D5680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349200" y="674640"/>
            <a:ext cx="8399520" cy="5676480"/>
            <a:chOff x="349200" y="674640"/>
            <a:chExt cx="8399520" cy="5676480"/>
          </a:xfrm>
        </p:grpSpPr>
        <p:grpSp>
          <p:nvGrpSpPr>
            <p:cNvPr id="106" name=""/>
            <p:cNvGrpSpPr/>
            <p:nvPr/>
          </p:nvGrpSpPr>
          <p:grpSpPr>
            <a:xfrm>
              <a:off x="349200" y="3268800"/>
              <a:ext cx="8399520" cy="2096640"/>
              <a:chOff x="349200" y="3268800"/>
              <a:chExt cx="8399520" cy="2096640"/>
            </a:xfrm>
          </p:grpSpPr>
          <p:sp>
            <p:nvSpPr>
              <p:cNvPr id="107" name=""/>
              <p:cNvSpPr/>
              <p:nvPr/>
            </p:nvSpPr>
            <p:spPr>
              <a:xfrm>
                <a:off x="8166240" y="3268800"/>
                <a:ext cx="581040" cy="2090880"/>
              </a:xfrm>
              <a:prstGeom prst="rect">
                <a:avLst/>
              </a:prstGeom>
              <a:solidFill>
                <a:srgbClr val="bbe0e3">
                  <a:alpha val="69000"/>
                </a:srgbClr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6200000">
                <a:off x="4411800" y="-68760"/>
                <a:ext cx="272520" cy="8394480"/>
              </a:xfrm>
              <a:prstGeom prst="rect">
                <a:avLst/>
              </a:prstGeom>
              <a:solidFill>
                <a:srgbClr val="bbe0e3">
                  <a:alpha val="69000"/>
                </a:srgbClr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6200000">
                <a:off x="4419360" y="496800"/>
                <a:ext cx="258840" cy="8399520"/>
              </a:xfrm>
              <a:prstGeom prst="rect">
                <a:avLst/>
              </a:prstGeom>
              <a:solidFill>
                <a:srgbClr val="bbe0e3">
                  <a:alpha val="69000"/>
                </a:srgbClr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6200000">
                <a:off x="4416840" y="1038240"/>
                <a:ext cx="273960" cy="8380440"/>
              </a:xfrm>
              <a:prstGeom prst="rect">
                <a:avLst/>
              </a:prstGeom>
              <a:solidFill>
                <a:srgbClr val="bbe0e3">
                  <a:alpha val="69000"/>
                </a:srgbClr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111" name=""/>
            <p:cNvGraphicFramePr/>
            <p:nvPr/>
          </p:nvGraphicFramePr>
          <p:xfrm>
            <a:off x="403200" y="674640"/>
            <a:ext cx="8334360" cy="5676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1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03200" y="674640"/>
                      <a:ext cx="8334360" cy="5676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8947-C138-4C00-B5B1-1CF684FDDEC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465120" y="668160"/>
            <a:ext cx="8072280" cy="5281560"/>
            <a:chOff x="465120" y="668160"/>
            <a:chExt cx="8072280" cy="5281560"/>
          </a:xfrm>
        </p:grpSpPr>
        <p:grpSp>
          <p:nvGrpSpPr>
            <p:cNvPr id="114" name=""/>
            <p:cNvGrpSpPr/>
            <p:nvPr/>
          </p:nvGrpSpPr>
          <p:grpSpPr>
            <a:xfrm>
              <a:off x="465120" y="3258720"/>
              <a:ext cx="7978680" cy="1686960"/>
              <a:chOff x="465120" y="3258720"/>
              <a:chExt cx="7978680" cy="1686960"/>
            </a:xfrm>
          </p:grpSpPr>
          <p:sp>
            <p:nvSpPr>
              <p:cNvPr id="115" name=""/>
              <p:cNvSpPr/>
              <p:nvPr/>
            </p:nvSpPr>
            <p:spPr>
              <a:xfrm>
                <a:off x="7878960" y="3258720"/>
                <a:ext cx="564840" cy="1686960"/>
              </a:xfrm>
              <a:prstGeom prst="rect">
                <a:avLst/>
              </a:prstGeom>
              <a:solidFill>
                <a:srgbClr val="bbe0e3">
                  <a:alpha val="69000"/>
                </a:srgbClr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6200000">
                <a:off x="4315320" y="246240"/>
                <a:ext cx="278280" cy="7978680"/>
              </a:xfrm>
              <a:prstGeom prst="rect">
                <a:avLst/>
              </a:prstGeom>
              <a:solidFill>
                <a:srgbClr val="bbe0e3">
                  <a:alpha val="69000"/>
                </a:srgbClr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117" name=""/>
            <p:cNvGraphicFramePr/>
            <p:nvPr/>
          </p:nvGraphicFramePr>
          <p:xfrm>
            <a:off x="500040" y="668160"/>
            <a:ext cx="8037360" cy="5281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1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00040" y="668160"/>
                      <a:ext cx="8037360" cy="5281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0222-832D-48C6-AC6A-A666751D05B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2065320" y="204840"/>
            <a:ext cx="5025960" cy="772920"/>
            <a:chOff x="2065320" y="204840"/>
            <a:chExt cx="5025960" cy="772920"/>
          </a:xfrm>
        </p:grpSpPr>
        <p:sp>
          <p:nvSpPr>
            <p:cNvPr id="120" name=""/>
            <p:cNvSpPr/>
            <p:nvPr/>
          </p:nvSpPr>
          <p:spPr>
            <a:xfrm>
              <a:off x="2128680" y="204840"/>
              <a:ext cx="4950000" cy="772920"/>
            </a:xfrm>
            <a:prstGeom prst="rect">
              <a:avLst/>
            </a:prstGeom>
            <a:gradFill rotWithShape="0">
              <a:gsLst>
                <a:gs pos="0">
                  <a:srgbClr val="46a1a8"/>
                </a:gs>
                <a:gs pos="50000">
                  <a:srgbClr val="bbe0e3">
                    <a:alpha val="70196"/>
                  </a:srgbClr>
                </a:gs>
                <a:gs pos="100000">
                  <a:srgbClr val="46a1a8"/>
                </a:gs>
              </a:gsLst>
              <a:lin ang="5400000"/>
            </a:gra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065320" y="289080"/>
              <a:ext cx="5025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000000"/>
                  </a:solidFill>
                  <a:latin typeface="Arial"/>
                </a:rPr>
                <a:t>DISSEMIN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482760" y="898560"/>
            <a:ext cx="8235720" cy="58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Web si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www.inegi.gob.m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www.inmujeres.gob.m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rinted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Natio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For each st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E156-FAD2-47E7-A23F-300D8753B33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4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1198440" y="352440"/>
            <a:ext cx="7589880" cy="6086520"/>
            <a:chOff x="1198440" y="352440"/>
            <a:chExt cx="7589880" cy="6086520"/>
          </a:xfrm>
        </p:grpSpPr>
        <p:grpSp>
          <p:nvGrpSpPr>
            <p:cNvPr id="47" name=""/>
            <p:cNvGrpSpPr/>
            <p:nvPr/>
          </p:nvGrpSpPr>
          <p:grpSpPr>
            <a:xfrm>
              <a:off x="1198440" y="352440"/>
              <a:ext cx="4921200" cy="6086520"/>
              <a:chOff x="1198440" y="352440"/>
              <a:chExt cx="4921200" cy="6086520"/>
            </a:xfrm>
          </p:grpSpPr>
          <p:cxnSp>
            <p:nvCxnSpPr>
              <p:cNvPr id="48" name="_s252954"/>
              <p:cNvCxnSpPr>
                <a:stCxn id="49" idx="0"/>
                <a:endCxn id="50" idx="2"/>
              </p:cNvCxnSpPr>
              <p:nvPr/>
            </p:nvCxnSpPr>
            <p:spPr>
              <a:xfrm flipV="1" rot="16200000">
                <a:off x="3456720" y="3404520"/>
                <a:ext cx="407160" cy="3960"/>
              </a:xfrm>
              <a:prstGeom prst="bentConnector3">
                <a:avLst>
                  <a:gd name="adj1" fmla="val 28053"/>
                </a:avLst>
              </a:prstGeom>
              <a:ln w="28440">
                <a:solidFill>
                  <a:srgbClr val="000000"/>
                </a:solidFill>
                <a:miter/>
                <a:headEnd len="med" type="arrow" w="med"/>
              </a:ln>
            </p:spPr>
          </p:cxnSp>
          <p:cxnSp>
            <p:nvCxnSpPr>
              <p:cNvPr id="51" name="_s252950"/>
              <p:cNvCxnSpPr>
                <a:stCxn id="50" idx="0"/>
                <a:endCxn id="52" idx="2"/>
              </p:cNvCxnSpPr>
              <p:nvPr/>
            </p:nvCxnSpPr>
            <p:spPr>
              <a:xfrm flipV="1">
                <a:off x="3660840" y="2294640"/>
                <a:ext cx="2160" cy="26604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  <a:headEnd len="med" type="arrow" w="med"/>
              </a:ln>
            </p:spPr>
          </p:cxnSp>
          <p:cxnSp>
            <p:nvCxnSpPr>
              <p:cNvPr id="53" name="_s252939"/>
              <p:cNvCxnSpPr>
                <a:stCxn id="52" idx="0"/>
                <a:endCxn id="54" idx="2"/>
              </p:cNvCxnSpPr>
              <p:nvPr/>
            </p:nvCxnSpPr>
            <p:spPr>
              <a:xfrm flipV="1">
                <a:off x="3660840" y="718560"/>
                <a:ext cx="2160" cy="33228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  <a:headEnd len="med" type="arrow" w="med"/>
              </a:ln>
            </p:spPr>
          </p:cxnSp>
          <p:sp>
            <p:nvSpPr>
              <p:cNvPr id="54" name="_s252934"/>
              <p:cNvSpPr/>
              <p:nvPr/>
            </p:nvSpPr>
            <p:spPr>
              <a:xfrm>
                <a:off x="2614680" y="352440"/>
                <a:ext cx="2092320" cy="36684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040" rIns="50040" tIns="25200" bIns="25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700" spc="-1" strike="noStrike">
                    <a:solidFill>
                      <a:srgbClr val="000000"/>
                    </a:solidFill>
                    <a:latin typeface="Arial"/>
                  </a:rPr>
                  <a:t>INMUJERES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_s252936"/>
              <p:cNvSpPr/>
              <p:nvPr/>
            </p:nvSpPr>
            <p:spPr>
              <a:xfrm>
                <a:off x="1198440" y="1050840"/>
                <a:ext cx="4921200" cy="124452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040" rIns="50040" tIns="25200" bIns="25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700" spc="-1" strike="noStrike">
                    <a:solidFill>
                      <a:srgbClr val="000000"/>
                    </a:solidFill>
                    <a:latin typeface="Arial"/>
                  </a:rPr>
                  <a:t>National Program fo Equal Opportunities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700" spc="-1" strike="noStrike">
                    <a:solidFill>
                      <a:srgbClr val="000000"/>
                    </a:solidFill>
                    <a:latin typeface="Arial"/>
                  </a:rPr>
                  <a:t>And No Discrimination against Women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_s252949"/>
              <p:cNvSpPr/>
              <p:nvPr/>
            </p:nvSpPr>
            <p:spPr>
              <a:xfrm>
                <a:off x="1569960" y="2560680"/>
                <a:ext cx="4178520" cy="64296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8320" rIns="58320" tIns="29160" bIns="29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700" spc="-1" strike="noStrike">
                    <a:solidFill>
                      <a:srgbClr val="000000"/>
                    </a:solidFill>
                    <a:latin typeface="Arial"/>
                  </a:rPr>
                  <a:t>National Program for a Life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700" spc="-1" strike="noStrike">
                    <a:solidFill>
                      <a:srgbClr val="000000"/>
                    </a:solidFill>
                    <a:latin typeface="Arial"/>
                  </a:rPr>
                  <a:t>with No Violence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576440" y="5937120"/>
                <a:ext cx="3324240" cy="289080"/>
              </a:xfrm>
              <a:prstGeom prst="rect">
                <a:avLst/>
              </a:prstGeom>
              <a:solidFill>
                <a:srgbClr val="808080">
                  <a:alpha val="17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_s252953"/>
              <p:cNvSpPr/>
              <p:nvPr/>
            </p:nvSpPr>
            <p:spPr>
              <a:xfrm>
                <a:off x="1455840" y="3610080"/>
                <a:ext cx="4411440" cy="282888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8320" rIns="58320" tIns="29160" bIns="29160" anchor="ctr">
                <a:noAutofit/>
              </a:bodyPr>
              <a:p>
                <a:pPr marL="343080" indent="-343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7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s-MX" sz="17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s-MX" sz="1700" spc="-1" strike="noStrike">
                    <a:solidFill>
                      <a:srgbClr val="000000"/>
                    </a:solidFill>
                    <a:latin typeface="Arial"/>
                  </a:rPr>
                  <a:t>Subsystems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buClr>
                    <a:srgbClr val="000000"/>
                  </a:buClr>
                  <a:buFont typeface="Arial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700" spc="-1" strike="noStrike">
                    <a:solidFill>
                      <a:srgbClr val="000000"/>
                    </a:solidFill>
                    <a:latin typeface="Arial"/>
                  </a:rPr>
                  <a:t>Prevention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buClr>
                    <a:srgbClr val="000000"/>
                  </a:buClr>
                  <a:buFont typeface="Arial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700" spc="-1" strike="noStrike">
                    <a:solidFill>
                      <a:srgbClr val="000000"/>
                    </a:solidFill>
                    <a:latin typeface="Arial"/>
                  </a:rPr>
                  <a:t>Attention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buClr>
                    <a:srgbClr val="000000"/>
                  </a:buClr>
                  <a:buFont typeface="Arial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700" spc="-1" strike="noStrike">
                    <a:solidFill>
                      <a:srgbClr val="000000"/>
                    </a:solidFill>
                    <a:latin typeface="Arial"/>
                  </a:rPr>
                  <a:t>Detection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buClr>
                    <a:srgbClr val="000000"/>
                  </a:buClr>
                  <a:buFont typeface="Arial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700" spc="-1" strike="noStrike">
                    <a:solidFill>
                      <a:srgbClr val="000000"/>
                    </a:solidFill>
                    <a:latin typeface="Arial"/>
                  </a:rPr>
                  <a:t>Communication and Institutional link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buClr>
                    <a:srgbClr val="000000"/>
                  </a:buClr>
                  <a:buFont typeface="Arial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700" spc="-1" strike="noStrike">
                    <a:solidFill>
                      <a:srgbClr val="000000"/>
                    </a:solidFill>
                    <a:latin typeface="Arial"/>
                  </a:rPr>
                  <a:t>Normativity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buClr>
                    <a:srgbClr val="000000"/>
                  </a:buClr>
                  <a:buFont typeface="Arial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700" spc="-1" strike="noStrike">
                    <a:solidFill>
                      <a:srgbClr val="000000"/>
                    </a:solidFill>
                    <a:latin typeface="Arial"/>
                  </a:rPr>
                  <a:t>Coordination and link with society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buClr>
                    <a:srgbClr val="000000"/>
                  </a:buClr>
                  <a:buFont typeface="Arial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700" spc="-1" strike="noStrike">
                    <a:solidFill>
                      <a:srgbClr val="000000"/>
                    </a:solidFill>
                    <a:latin typeface="Arial"/>
                  </a:rPr>
                  <a:t>Information and evaluation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6591240" y="2301840"/>
              <a:ext cx="2104920" cy="126360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562800" y="2328840"/>
              <a:ext cx="2225520" cy="114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buSzPct val="102837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</a:rPr>
                <a:t>Domestic violen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SzPct val="1030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SzPct val="10283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</a:rPr>
                <a:t>Violence against wome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749920" y="2857680"/>
              <a:ext cx="8445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4028-0BF7-4D97-81F9-457898B0EF7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480960" y="204840"/>
            <a:ext cx="8236080" cy="6056640"/>
            <a:chOff x="480960" y="204840"/>
            <a:chExt cx="8236080" cy="6056640"/>
          </a:xfrm>
        </p:grpSpPr>
        <p:sp>
          <p:nvSpPr>
            <p:cNvPr id="60" name=""/>
            <p:cNvSpPr/>
            <p:nvPr/>
          </p:nvSpPr>
          <p:spPr>
            <a:xfrm>
              <a:off x="2617920" y="204840"/>
              <a:ext cx="3956040" cy="772920"/>
            </a:xfrm>
            <a:prstGeom prst="rect">
              <a:avLst/>
            </a:prstGeom>
            <a:gradFill rotWithShape="0">
              <a:gsLst>
                <a:gs pos="0">
                  <a:srgbClr val="46a1a8"/>
                </a:gs>
                <a:gs pos="50000">
                  <a:srgbClr val="bbe0e3">
                    <a:alpha val="70196"/>
                  </a:srgbClr>
                </a:gs>
                <a:gs pos="100000">
                  <a:srgbClr val="46a1a8"/>
                </a:gs>
              </a:gsLst>
              <a:lin ang="5400000"/>
            </a:gra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80960" y="316080"/>
              <a:ext cx="8236080" cy="594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000000"/>
                  </a:solidFill>
                  <a:latin typeface="Arial"/>
                </a:rPr>
                <a:t>SOURCES OF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Administrative record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omestic Violence Survey, 1999 (INEGI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Metropolitan area of Mexico C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Persons aged 18 years and ov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Residents of private dwelling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Physical, Emotional, Sexual and Intimidato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viole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326F-3722-4D28-AFBD-7580F5C923C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36520" y="457200"/>
            <a:ext cx="8674200" cy="6046560"/>
            <a:chOff x="236520" y="457200"/>
            <a:chExt cx="8674200" cy="6046560"/>
          </a:xfrm>
        </p:grpSpPr>
        <p:sp>
          <p:nvSpPr>
            <p:cNvPr id="63" name=""/>
            <p:cNvSpPr/>
            <p:nvPr/>
          </p:nvSpPr>
          <p:spPr>
            <a:xfrm>
              <a:off x="2617920" y="457200"/>
              <a:ext cx="3956040" cy="773280"/>
            </a:xfrm>
            <a:prstGeom prst="rect">
              <a:avLst/>
            </a:prstGeom>
            <a:gradFill rotWithShape="0">
              <a:gsLst>
                <a:gs pos="0">
                  <a:srgbClr val="46a1a8"/>
                </a:gs>
                <a:gs pos="50000">
                  <a:srgbClr val="bbe0e3">
                    <a:alpha val="70196"/>
                  </a:srgbClr>
                </a:gs>
                <a:gs pos="100000">
                  <a:srgbClr val="46a1a8"/>
                </a:gs>
              </a:gsLst>
              <a:lin ang="5400000"/>
            </a:gra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36520" y="619200"/>
              <a:ext cx="8674200" cy="588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000000"/>
                  </a:solidFill>
                  <a:latin typeface="Arial"/>
                </a:rPr>
                <a:t>SOURCES OF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National Violence Against Women Survey, 2003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(Health Ministery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Women aged 15 years and ov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Who demanded attention in health centers from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public sect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Voluntar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Physical, Emotional, Sexual and Economic viole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9C06-EB68-4D56-BF66-3CB4D3B1B61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85720" y="638280"/>
            <a:ext cx="7974000" cy="57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haracteristic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reval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ffe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Arial"/>
              </a:rPr>
              <a:t>of couple viol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687680" y="457200"/>
            <a:ext cx="5816520" cy="773280"/>
            <a:chOff x="1687680" y="457200"/>
            <a:chExt cx="5816520" cy="773280"/>
          </a:xfrm>
        </p:grpSpPr>
        <p:sp>
          <p:nvSpPr>
            <p:cNvPr id="67" name=""/>
            <p:cNvSpPr/>
            <p:nvPr/>
          </p:nvSpPr>
          <p:spPr>
            <a:xfrm>
              <a:off x="1687680" y="457200"/>
              <a:ext cx="5816520" cy="773280"/>
            </a:xfrm>
            <a:prstGeom prst="rect">
              <a:avLst/>
            </a:prstGeom>
            <a:gradFill rotWithShape="0">
              <a:gsLst>
                <a:gs pos="0">
                  <a:srgbClr val="46a1a8"/>
                </a:gs>
                <a:gs pos="50000">
                  <a:srgbClr val="bbe0e3">
                    <a:alpha val="70196"/>
                  </a:srgbClr>
                </a:gs>
                <a:gs pos="100000">
                  <a:srgbClr val="46a1a8"/>
                </a:gs>
              </a:gsLst>
              <a:lin ang="5400000"/>
            </a:gra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717560" y="582480"/>
              <a:ext cx="573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000000"/>
                  </a:solidFill>
                  <a:latin typeface="Arial"/>
                </a:rPr>
                <a:t>OBJECTIVES FOR THE SURVE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844F-4AAD-4EDD-AB09-1D1AEEC108A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49440" y="216000"/>
            <a:ext cx="7974000" cy="61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enomenon more related to types of relationshi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interaction inside the co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 of “perverse” unequal socialization of ge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ption of gender violence manifestations in th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ple depends on values, norms and prac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lerance limit to aggression and violence does 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 on  the seriousness of the physical, sexual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ychological or economical injuries, but 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ntellectual, emotional, economic, material, human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le for men and w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2567160" y="293760"/>
            <a:ext cx="3977640" cy="730080"/>
            <a:chOff x="2567160" y="293760"/>
            <a:chExt cx="3977640" cy="730080"/>
          </a:xfrm>
        </p:grpSpPr>
        <p:sp>
          <p:nvSpPr>
            <p:cNvPr id="71" name=""/>
            <p:cNvSpPr/>
            <p:nvPr/>
          </p:nvSpPr>
          <p:spPr>
            <a:xfrm>
              <a:off x="2589120" y="293760"/>
              <a:ext cx="3955680" cy="730080"/>
            </a:xfrm>
            <a:prstGeom prst="rect">
              <a:avLst/>
            </a:prstGeom>
            <a:gradFill rotWithShape="0">
              <a:gsLst>
                <a:gs pos="0">
                  <a:srgbClr val="46a1a8"/>
                </a:gs>
                <a:gs pos="50000">
                  <a:srgbClr val="bbe0e3">
                    <a:alpha val="70196"/>
                  </a:srgbClr>
                </a:gs>
                <a:gs pos="100000">
                  <a:srgbClr val="46a1a8"/>
                </a:gs>
              </a:gsLst>
              <a:lin ang="5400000"/>
            </a:gra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567160" y="313920"/>
              <a:ext cx="39477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000000"/>
                  </a:solidFill>
                  <a:latin typeface="Arial"/>
                </a:rPr>
                <a:t>ANALYTICAL MODE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2265-45D0-490F-9B3C-5AA22A6DDFF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00320" y="3308400"/>
            <a:ext cx="4446720" cy="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19040" y="406440"/>
          <a:ext cx="8332920" cy="455400"/>
        </p:xfrm>
        <a:graphic>
          <a:graphicData uri="http://schemas.openxmlformats.org/drawingml/2006/table">
            <a:tbl>
              <a:tblPr/>
              <a:tblGrid>
                <a:gridCol w="8332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6f3f4"/>
                          </a:solidFill>
                          <a:latin typeface="Arial"/>
                          <a:ea typeface="Times New Roman"/>
                        </a:rPr>
                        <a:t>Classifica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80"/>
                      </a:solidFill>
                    </a:lnL>
                    <a:lnR w="12240">
                      <a:solidFill>
                        <a:srgbClr val="008080"/>
                      </a:solidFill>
                    </a:lnR>
                    <a:lnT w="12240">
                      <a:solidFill>
                        <a:srgbClr val="008080"/>
                      </a:solidFill>
                    </a:lnT>
                    <a:lnB w="12240">
                      <a:solidFill>
                        <a:srgbClr val="008080"/>
                      </a:solidFill>
                    </a:lnB>
                    <a:solidFill>
                      <a:srgbClr val="46a1a8"/>
                    </a:solidFill>
                  </a:tcPr>
                </a:tc>
              </a:tr>
            </a:tbl>
          </a:graphicData>
        </a:graphic>
      </p:graphicFrame>
      <p:sp>
        <p:nvSpPr>
          <p:cNvPr id="75" name=""/>
          <p:cNvSpPr/>
          <p:nvPr/>
        </p:nvSpPr>
        <p:spPr>
          <a:xfrm>
            <a:off x="2200320" y="3079800"/>
            <a:ext cx="4446720" cy="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36680" y="1038240"/>
          <a:ext cx="8331120" cy="1595520"/>
        </p:xfrm>
        <a:graphic>
          <a:graphicData uri="http://schemas.openxmlformats.org/drawingml/2006/table">
            <a:tbl>
              <a:tblPr/>
              <a:tblGrid>
                <a:gridCol w="2776320"/>
                <a:gridCol w="5554800"/>
              </a:tblGrid>
              <a:tr h="159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6f3f4"/>
                          </a:solidFill>
                          <a:latin typeface="Arial"/>
                          <a:ea typeface="Times New Roman"/>
                        </a:rPr>
                        <a:t>Context variables (both members of the coupl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80"/>
                      </a:solidFill>
                    </a:lnL>
                    <a:lnR w="12240">
                      <a:solidFill>
                        <a:srgbClr val="008080"/>
                      </a:solidFill>
                    </a:lnR>
                    <a:lnT w="12240">
                      <a:solidFill>
                        <a:srgbClr val="008080"/>
                      </a:solidFill>
                    </a:lnT>
                    <a:lnB w="12240">
                      <a:solidFill>
                        <a:srgbClr val="008080"/>
                      </a:solidFill>
                    </a:lnB>
                    <a:solidFill>
                      <a:srgbClr val="46a1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mographic and socioeconomic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aracteristic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miliar precedents of violence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childhood exposure to violenc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80"/>
                      </a:solidFill>
                    </a:lnL>
                    <a:lnR w="12240">
                      <a:solidFill>
                        <a:srgbClr val="008080"/>
                      </a:solidFill>
                    </a:lnR>
                    <a:lnT w="12240">
                      <a:solidFill>
                        <a:srgbClr val="008080"/>
                      </a:solidFill>
                    </a:lnT>
                    <a:lnB w="12240">
                      <a:solidFill>
                        <a:srgbClr val="00808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77" name=""/>
          <p:cNvSpPr/>
          <p:nvPr/>
        </p:nvSpPr>
        <p:spPr>
          <a:xfrm>
            <a:off x="2200320" y="3201840"/>
            <a:ext cx="4446720" cy="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50720" y="2800440"/>
          <a:ext cx="8331480" cy="1550880"/>
        </p:xfrm>
        <a:graphic>
          <a:graphicData uri="http://schemas.openxmlformats.org/drawingml/2006/table">
            <a:tbl>
              <a:tblPr/>
              <a:tblGrid>
                <a:gridCol w="2776680"/>
                <a:gridCol w="5554800"/>
              </a:tblGrid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6f3f4"/>
                          </a:solidFill>
                          <a:latin typeface="Arial"/>
                          <a:ea typeface="Times New Roman"/>
                        </a:rPr>
                        <a:t>Independent variab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80"/>
                      </a:solidFill>
                    </a:lnL>
                    <a:lnR w="12240">
                      <a:solidFill>
                        <a:srgbClr val="008080"/>
                      </a:solidFill>
                    </a:lnR>
                    <a:lnT w="12240">
                      <a:solidFill>
                        <a:srgbClr val="008080"/>
                      </a:solidFill>
                    </a:lnT>
                    <a:lnB w="12240">
                      <a:solidFill>
                        <a:srgbClr val="008080"/>
                      </a:solidFill>
                    </a:lnB>
                    <a:solidFill>
                      <a:srgbClr val="46a1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ype of cou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urces, causes and perception of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flict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ources to cope with viole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80"/>
                      </a:solidFill>
                    </a:lnL>
                    <a:lnR w="12240">
                      <a:solidFill>
                        <a:srgbClr val="008080"/>
                      </a:solidFill>
                    </a:lnR>
                    <a:lnT w="12240">
                      <a:solidFill>
                        <a:srgbClr val="008080"/>
                      </a:solidFill>
                    </a:lnT>
                    <a:lnB w="12240">
                      <a:solidFill>
                        <a:srgbClr val="00808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2200320" y="3003480"/>
            <a:ext cx="4446720" cy="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463680" y="4560840"/>
          <a:ext cx="8318520" cy="1944720"/>
        </p:xfrm>
        <a:graphic>
          <a:graphicData uri="http://schemas.openxmlformats.org/drawingml/2006/table">
            <a:tbl>
              <a:tblPr/>
              <a:tblGrid>
                <a:gridCol w="2773080"/>
                <a:gridCol w="5545440"/>
              </a:tblGrid>
              <a:tr h="19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6f3f4"/>
                          </a:solidFill>
                          <a:latin typeface="Arial"/>
                          <a:ea typeface="Times New Roman"/>
                        </a:rPr>
                        <a:t>Dependent variab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80"/>
                      </a:solidFill>
                    </a:lnL>
                    <a:lnR w="12240">
                      <a:solidFill>
                        <a:srgbClr val="008080"/>
                      </a:solidFill>
                    </a:lnR>
                    <a:lnT w="12240">
                      <a:solidFill>
                        <a:srgbClr val="008080"/>
                      </a:solidFill>
                    </a:lnT>
                    <a:lnB w="12240">
                      <a:solidFill>
                        <a:srgbClr val="008080"/>
                      </a:solidFill>
                    </a:lnB>
                    <a:solidFill>
                      <a:srgbClr val="46a1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ype of violence: Physic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motion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xu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conom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80"/>
                      </a:solidFill>
                    </a:lnL>
                    <a:lnR w="12240">
                      <a:solidFill>
                        <a:srgbClr val="008080"/>
                      </a:solidFill>
                    </a:lnR>
                    <a:lnT w="12240">
                      <a:solidFill>
                        <a:srgbClr val="008080"/>
                      </a:solidFill>
                    </a:lnT>
                    <a:lnB w="12240">
                      <a:solidFill>
                        <a:srgbClr val="00808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24F3-26AE-44B3-950F-9BA6F98168A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82760" y="369720"/>
            <a:ext cx="8235720" cy="59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co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Women aged 15 years and ov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Resident of private dwellings, with spouse present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(residen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ersonal int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robabilistic s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34 700 fully completed survey respo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85% response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National and 11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2065320" y="204840"/>
            <a:ext cx="5025960" cy="772920"/>
            <a:chOff x="2065320" y="204840"/>
            <a:chExt cx="5025960" cy="772920"/>
          </a:xfrm>
        </p:grpSpPr>
        <p:sp>
          <p:nvSpPr>
            <p:cNvPr id="83" name=""/>
            <p:cNvSpPr/>
            <p:nvPr/>
          </p:nvSpPr>
          <p:spPr>
            <a:xfrm>
              <a:off x="2128680" y="204840"/>
              <a:ext cx="4950000" cy="772920"/>
            </a:xfrm>
            <a:prstGeom prst="rect">
              <a:avLst/>
            </a:prstGeom>
            <a:gradFill rotWithShape="0">
              <a:gsLst>
                <a:gs pos="0">
                  <a:srgbClr val="46a1a8"/>
                </a:gs>
                <a:gs pos="50000">
                  <a:srgbClr val="bbe0e3">
                    <a:alpha val="70196"/>
                  </a:srgbClr>
                </a:gs>
                <a:gs pos="100000">
                  <a:srgbClr val="46a1a8"/>
                </a:gs>
              </a:gsLst>
              <a:lin ang="5400000"/>
            </a:gra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065320" y="289080"/>
              <a:ext cx="5025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000000"/>
                  </a:solidFill>
                  <a:latin typeface="Arial"/>
                </a:rPr>
                <a:t>MAJOR CHARACTERISTIC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8A58-EB2B-4A8F-8A89-9231F723580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686720" y="5299200"/>
            <a:ext cx="555480" cy="253800"/>
          </a:xfrm>
          <a:prstGeom prst="rect">
            <a:avLst/>
          </a:prstGeom>
          <a:solidFill>
            <a:srgbClr val="808080">
              <a:alpha val="54000"/>
            </a:srgbClr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648560" y="2425680"/>
            <a:ext cx="638280" cy="3440160"/>
          </a:xfrm>
          <a:prstGeom prst="rect">
            <a:avLst/>
          </a:prstGeom>
          <a:solidFill>
            <a:srgbClr val="bbe0e3">
              <a:alpha val="69000"/>
            </a:srgbClr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16200000">
            <a:off x="4420440" y="1692720"/>
            <a:ext cx="260280" cy="7475400"/>
          </a:xfrm>
          <a:prstGeom prst="rect">
            <a:avLst/>
          </a:prstGeom>
          <a:solidFill>
            <a:srgbClr val="bbe0e3">
              <a:alpha val="69000"/>
            </a:srgbClr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804960" y="189000"/>
          <a:ext cx="7637400" cy="644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4960" y="189000"/>
                    <a:ext cx="7637400" cy="64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06D3-8F9B-45AF-93EF-1C8BD0AB816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5T16:51:41Z</dcterms:created>
  <dc:creator>Usuario</dc:creator>
  <dc:description/>
  <dc:language>en-US</dc:language>
  <cp:lastModifiedBy> </cp:lastModifiedBy>
  <cp:lastPrinted>2003-02-25T22:24:30Z</cp:lastPrinted>
  <dcterms:modified xsi:type="dcterms:W3CDTF">2004-10-15T22:06:04Z</dcterms:modified>
  <cp:revision>211</cp:revision>
  <dc:subject/>
  <dc:title>Diapositiva 1</dc:title>
</cp:coreProperties>
</file>