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332000" y="6237360"/>
            <a:ext cx="27432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ECE Statistical Div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539640" y="6165720"/>
            <a:ext cx="544680" cy="457200"/>
            <a:chOff x="539640" y="6165720"/>
            <a:chExt cx="544680" cy="457200"/>
          </a:xfrm>
        </p:grpSpPr>
        <p:pic>
          <p:nvPicPr>
            <p:cNvPr id="4" name="" descr=""/>
            <p:cNvPicPr/>
            <p:nvPr/>
          </p:nvPicPr>
          <p:blipFill>
            <a:blip r:embed="rId2"/>
            <a:stretch/>
          </p:blipFill>
          <p:spPr>
            <a:xfrm>
              <a:off x="539640" y="6165720"/>
              <a:ext cx="5446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PlaceHolder 4"/>
            <p:cNvSpPr>
              <a:spLocks noGrp="1"/>
            </p:cNvSpPr>
            <p:nvPr>
              <p:ph type="dt" idx="2"/>
            </p:nvPr>
          </p:nvSpPr>
          <p:spPr>
            <a:xfrm>
              <a:off x="539640" y="6165720"/>
              <a:ext cx="5446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indent="0"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"/>
          <p:cNvSpPr/>
          <p:nvPr/>
        </p:nvSpPr>
        <p:spPr>
          <a:xfrm>
            <a:off x="6184800" y="6308640"/>
            <a:ext cx="295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S Gender Statistics  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1981080"/>
            <a:ext cx="769608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aramond"/>
                <a:ea typeface="Arial Unicode MS"/>
              </a:rPr>
              <a:t>Joint ECE-UNDP Assessment of official statistics related to gender equality in Eastern Europe and CIS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914400" y="434304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Social and Demographic Statistics S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    </a:t>
            </a:r>
            <a:r>
              <a:rPr b="0" i="1" lang="it-IT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UN Economic Commission for Europe - Statistical 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57200"/>
            <a:ext cx="9140760" cy="792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dddddd"/>
                </a:solidFill>
                <a:latin typeface="Garamond"/>
                <a:ea typeface="Times New Roman"/>
              </a:rPr>
              <a:t>ECE Work Session on Gender Statistic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dddddd"/>
                </a:solidFill>
                <a:latin typeface="Garamond"/>
                <a:ea typeface="Times New Roman"/>
              </a:rPr>
              <a:t>Geneve, 18-20 October 2004</a:t>
            </a:r>
            <a:r>
              <a:rPr b="1" lang="en-GB" sz="2000" spc="-1" strike="noStrike">
                <a:solidFill>
                  <a:srgbClr val="dddddd"/>
                </a:solidFill>
                <a:latin typeface="Times New Roman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455400"/>
            <a:ext cx="9140760" cy="115092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ddddd"/>
                </a:solidFill>
                <a:latin typeface="Garamond"/>
              </a:rPr>
              <a:t>The reasons for the data Gaps</a:t>
            </a:r>
            <a:endParaRPr b="0" lang="en-US" sz="5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2133360"/>
            <a:ext cx="77724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buClr>
                <a:srgbClr val="cc33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ack of sex-disaggregation in on-going data collection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buClr>
                <a:srgbClr val="cc33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ack of resources to initiate new data collection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buClr>
                <a:srgbClr val="cc33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nderutilization of existing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buClr>
                <a:srgbClr val="cc33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nderutilization of existing data collection activities to include gender-relevant mod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40760" cy="16066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ddddd"/>
                </a:solidFill>
                <a:latin typeface="Garamond"/>
              </a:rPr>
              <a:t>Lack of sex disaggregated data </a:t>
            </a:r>
            <a:endParaRPr b="0" lang="en-US" sz="5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2133360"/>
            <a:ext cx="77724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buClr>
                <a:srgbClr val="cc33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duction of statisti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buClr>
                <a:srgbClr val="0000ff"/>
              </a:buClr>
              <a:buSzPct val="12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sines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buClr>
                <a:srgbClr val="0000ff"/>
              </a:buClr>
              <a:buSzPct val="12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icul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buClr>
                <a:srgbClr val="0000ff"/>
              </a:buClr>
              <a:buSzPct val="12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buClr>
                <a:srgbClr val="cc33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ssemination of statistic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40760" cy="16066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ddddd"/>
                </a:solidFill>
                <a:latin typeface="Garamond"/>
              </a:rPr>
              <a:t>An example: Entrepreneurship</a:t>
            </a:r>
            <a:br>
              <a:rPr sz="4000"/>
            </a:br>
            <a:r>
              <a:rPr b="1" lang="en-US" sz="3200" spc="-1" strike="noStrike">
                <a:solidFill>
                  <a:srgbClr val="dddddd"/>
                </a:solidFill>
                <a:latin typeface="Garamond"/>
              </a:rPr>
              <a:t>Number of countries with sex-disaggregated data</a:t>
            </a:r>
            <a:r>
              <a:rPr b="1" lang="en-US" sz="4000" spc="-1" strike="noStrike">
                <a:solidFill>
                  <a:srgbClr val="dddddd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2016000"/>
            <a:ext cx="9144000" cy="4842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455400"/>
            <a:ext cx="9140760" cy="115092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Regular data dissemination 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Sex is forgotten when data are disaggregated using other classif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76212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It is a matter of …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4191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Data Coll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Data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43400" y="1828800"/>
            <a:ext cx="44956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Gender Sensit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Gender Mainstream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360" y="455400"/>
            <a:ext cx="9140760" cy="115092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ddddd"/>
                </a:solidFill>
                <a:latin typeface="Garamond"/>
              </a:rPr>
              <a:t>Lack of resources </a:t>
            </a:r>
            <a:endParaRPr b="0" lang="en-US" sz="5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62120" y="162864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buClr>
                <a:srgbClr val="cc33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A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buClr>
                <a:srgbClr val="cc33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ime-u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buClr>
                <a:srgbClr val="cc33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formal employ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buClr>
                <a:srgbClr val="cc33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affick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ff"/>
                </a:solidFill>
                <a:latin typeface="Times New Roman"/>
              </a:rPr>
              <a:t>Lack of technical resour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ff"/>
                </a:solidFill>
                <a:latin typeface="Times New Roman"/>
              </a:rPr>
              <a:t>Lack of financial resour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455400"/>
            <a:ext cx="9140760" cy="115092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ddddd"/>
                </a:solidFill>
                <a:latin typeface="Garamond"/>
              </a:rPr>
              <a:t>Underutilization of existing data</a:t>
            </a:r>
            <a:r>
              <a:rPr b="1" lang="en-US" sz="5400" spc="-1" strike="noStrike">
                <a:solidFill>
                  <a:srgbClr val="dddddd"/>
                </a:solidFill>
                <a:latin typeface="Garamond"/>
              </a:rPr>
              <a:t> </a:t>
            </a:r>
            <a:endParaRPr b="0" lang="en-US" sz="5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42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cc33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ver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cc33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cc33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ployment by occupation and stat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Bef>
                <a:spcPts val="901"/>
              </a:spcBef>
              <a:buClr>
                <a:srgbClr val="00cc00"/>
              </a:buClr>
              <a:buSzPct val="12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su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Better understanding of users’ nee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Better understanding of data availabili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40760" cy="1413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ddddd"/>
                </a:solidFill>
                <a:latin typeface="Garamond"/>
              </a:rPr>
              <a:t>Inclusion of ad-hoc modules on on-going data collection</a:t>
            </a:r>
            <a:r>
              <a:rPr b="1" lang="en-US" sz="5400" spc="-1" strike="noStrike">
                <a:solidFill>
                  <a:srgbClr val="dddddd"/>
                </a:solidFill>
                <a:latin typeface="Garamond"/>
              </a:rPr>
              <a:t> </a:t>
            </a:r>
            <a:endParaRPr b="0" lang="en-US" sz="5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42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049"/>
              </a:spcBef>
              <a:buClr>
                <a:srgbClr val="cc33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l employ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Bef>
                <a:spcPts val="751"/>
              </a:spcBef>
              <a:buClr>
                <a:srgbClr val="00cc00"/>
              </a:buClr>
              <a:buSzPct val="12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bour Force Surve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1049"/>
              </a:spcBef>
              <a:buClr>
                <a:srgbClr val="cc33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attend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Bef>
                <a:spcPts val="751"/>
              </a:spcBef>
              <a:buClr>
                <a:srgbClr val="00cc00"/>
              </a:buClr>
              <a:buSzPct val="12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cial and demographic surve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Bef>
                <a:spcPts val="751"/>
              </a:spcBef>
              <a:buClr>
                <a:srgbClr val="00cc00"/>
              </a:buClr>
              <a:buSzPct val="12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s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GSFP to interact with the methodology department and more involved in the activities of the N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Technical assistance to design such mod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40760" cy="1413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ddddd"/>
                </a:solidFill>
                <a:latin typeface="Garamond"/>
              </a:rPr>
              <a:t>Main message</a:t>
            </a:r>
            <a:r>
              <a:rPr b="1" lang="en-US" sz="5400" spc="-1" strike="noStrike">
                <a:solidFill>
                  <a:srgbClr val="dddddd"/>
                </a:solidFill>
                <a:latin typeface="Garamond"/>
              </a:rPr>
              <a:t> </a:t>
            </a:r>
            <a:endParaRPr b="0" lang="en-US" sz="5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-360" y="1341360"/>
            <a:ext cx="864252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Times New Roman"/>
              </a:rPr>
              <a:t>To Countrie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ff"/>
                </a:solidFill>
                <a:latin typeface="Times New Roman"/>
              </a:rPr>
              <a:t>Commitment to Engender the production and dissemination of official statistic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Bef>
                <a:spcPts val="901"/>
              </a:spcBef>
              <a:buClr>
                <a:srgbClr val="00cc00"/>
              </a:buClr>
              <a:buSzPct val="12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ws/regu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Bef>
                <a:spcPts val="901"/>
              </a:spcBef>
              <a:buClr>
                <a:srgbClr val="00cc00"/>
              </a:buClr>
              <a:buSzPct val="12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ls to mainstream gender into N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Bef>
                <a:spcPts val="901"/>
              </a:spcBef>
              <a:buClr>
                <a:srgbClr val="00cc00"/>
              </a:buClr>
              <a:buSzPct val="12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al placing of GSFP in the organization of N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Bef>
                <a:spcPts val="901"/>
              </a:spcBef>
              <a:buClr>
                <a:srgbClr val="00cc00"/>
              </a:buClr>
              <a:buSzPct val="12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manent mechanisms to assure a constant dialogue with 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40760" cy="1413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ddddd"/>
                </a:solidFill>
                <a:latin typeface="Garamond"/>
              </a:rPr>
              <a:t>Main message</a:t>
            </a:r>
            <a:r>
              <a:rPr b="1" lang="en-US" sz="5400" spc="-1" strike="noStrike">
                <a:solidFill>
                  <a:srgbClr val="dddddd"/>
                </a:solidFill>
                <a:latin typeface="Garamond"/>
              </a:rPr>
              <a:t> </a:t>
            </a:r>
            <a:endParaRPr b="0" lang="en-US" sz="5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-360" y="1341360"/>
            <a:ext cx="864252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To International Organiza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To continue the support of gender statistic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5000"/>
              </a:lnSpc>
              <a:spcBef>
                <a:spcPts val="201"/>
              </a:spcBef>
              <a:buClr>
                <a:srgbClr val="cc3300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technical and financial assistance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Bef>
                <a:spcPts val="901"/>
              </a:spcBef>
              <a:buClr>
                <a:srgbClr val="00cc00"/>
              </a:buClr>
              <a:buSzPct val="12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help countries to implement the abo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Bef>
                <a:spcPts val="901"/>
              </a:spcBef>
              <a:buClr>
                <a:srgbClr val="00cc00"/>
              </a:buClr>
              <a:buSzPct val="12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help countries to address “emerging”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Bef>
                <a:spcPts val="901"/>
              </a:spcBef>
              <a:buClr>
                <a:srgbClr val="cc3300"/>
              </a:buClr>
              <a:buFont typeface="Times New Roman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Bef>
                <a:spcPts val="901"/>
              </a:spcBef>
              <a:buClr>
                <a:srgbClr val="cc3300"/>
              </a:buClr>
              <a:buFont typeface="Times New Roman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-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Bef>
                <a:spcPts val="901"/>
              </a:spcBef>
              <a:buClr>
                <a:srgbClr val="cc3300"/>
              </a:buClr>
              <a:buFont typeface="Times New Roman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l employ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Bef>
                <a:spcPts val="901"/>
              </a:spcBef>
              <a:buClr>
                <a:srgbClr val="cc3300"/>
              </a:buClr>
              <a:buFont typeface="Times New Roman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attitu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455760"/>
            <a:ext cx="9140760" cy="792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Why the assessment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458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aramond"/>
              </a:rPr>
              <a:t>UNDP wanted to re-focus the activities on gender statistics in the region in order to better target it to the needs of countrie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Garamond"/>
              </a:rPr>
              <a:t>Objective fully shared by ECE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Garamond"/>
              </a:rPr>
              <a:t>An opportunity for ECE to better focus its own activities to the needs of the countri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4800600"/>
            <a:ext cx="85341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  <a:ea typeface="Courier New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40760" cy="1413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ddddd"/>
                </a:solidFill>
                <a:latin typeface="Garamond"/>
              </a:rPr>
              <a:t>Main message</a:t>
            </a:r>
            <a:r>
              <a:rPr b="1" lang="en-US" sz="5400" spc="-1" strike="noStrike">
                <a:solidFill>
                  <a:srgbClr val="dddddd"/>
                </a:solidFill>
                <a:latin typeface="Garamond"/>
              </a:rPr>
              <a:t> </a:t>
            </a:r>
            <a:endParaRPr b="0" lang="en-US" sz="5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-360" y="1341360"/>
            <a:ext cx="864252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To International Organiza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Two approa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Bef>
                <a:spcPts val="751"/>
              </a:spcBef>
              <a:buClr>
                <a:srgbClr val="00cc00"/>
              </a:buClr>
              <a:buSzPct val="12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address emerging statistical issues common to countr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Bef>
                <a:spcPts val="901"/>
              </a:spcBef>
              <a:buClr>
                <a:srgbClr val="cc3300"/>
              </a:buClr>
              <a:buSzPct val="120000"/>
              <a:buFont typeface="Times New Roman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Bef>
                <a:spcPts val="901"/>
              </a:spcBef>
              <a:buClr>
                <a:srgbClr val="cc3300"/>
              </a:buClr>
              <a:buSzPct val="120000"/>
              <a:buFont typeface="Times New Roman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attitud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Bef>
                <a:spcPts val="901"/>
              </a:spcBef>
              <a:buClr>
                <a:srgbClr val="cc3300"/>
              </a:buClr>
              <a:buSzPct val="120000"/>
              <a:buFont typeface="Times New Roman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-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Bef>
                <a:spcPts val="901"/>
              </a:spcBef>
              <a:buClr>
                <a:srgbClr val="cc3300"/>
              </a:buClr>
              <a:buSzPct val="120000"/>
              <a:buFont typeface="Times New Roman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l employment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Bef>
                <a:spcPts val="901"/>
              </a:spcBef>
              <a:buClr>
                <a:srgbClr val="00cc00"/>
              </a:buClr>
              <a:buSzPct val="12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ddress the improvement of gender statistics programmes – two-tier approa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Bef>
                <a:spcPts val="901"/>
              </a:spcBef>
              <a:buClr>
                <a:srgbClr val="cc3300"/>
              </a:buClr>
              <a:buFont typeface="Times New Roman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developed program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Bef>
                <a:spcPts val="901"/>
              </a:spcBef>
              <a:buClr>
                <a:srgbClr val="cc3300"/>
              </a:buClr>
              <a:buFont typeface="Times New Roman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s developed program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40760" cy="1413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ddddd"/>
                </a:solidFill>
                <a:latin typeface="Garamond"/>
              </a:rPr>
              <a:t>Main message</a:t>
            </a:r>
            <a:r>
              <a:rPr b="1" lang="en-US" sz="5400" spc="-1" strike="noStrike">
                <a:solidFill>
                  <a:srgbClr val="dddddd"/>
                </a:solidFill>
                <a:latin typeface="Garamond"/>
              </a:rPr>
              <a:t> </a:t>
            </a:r>
            <a:endParaRPr b="0" lang="en-US" sz="5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-360" y="1341360"/>
            <a:ext cx="864252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To International Organization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ff"/>
                </a:solidFill>
                <a:latin typeface="Times New Roman"/>
              </a:rPr>
              <a:t>Two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Bef>
                <a:spcPts val="1049"/>
              </a:spcBef>
              <a:buClr>
                <a:srgbClr val="00cc00"/>
              </a:buClr>
              <a:buSzPct val="12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address emerging issue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Bef>
                <a:spcPts val="1049"/>
              </a:spcBef>
              <a:buClr>
                <a:srgbClr val="00cc00"/>
              </a:buClr>
              <a:buSzPct val="12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help countries to address “emerging” 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Bef>
                <a:spcPts val="1049"/>
              </a:spcBef>
              <a:buClr>
                <a:srgbClr val="cc3300"/>
              </a:buClr>
              <a:buFont typeface="Times New Roman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Bef>
                <a:spcPts val="1049"/>
              </a:spcBef>
              <a:buClr>
                <a:srgbClr val="cc3300"/>
              </a:buClr>
              <a:buFont typeface="Times New Roman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-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Bef>
                <a:spcPts val="1049"/>
              </a:spcBef>
              <a:buClr>
                <a:srgbClr val="cc3300"/>
              </a:buClr>
              <a:buFont typeface="Times New Roman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l employ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Bef>
                <a:spcPts val="1049"/>
              </a:spcBef>
              <a:buClr>
                <a:srgbClr val="cc3300"/>
              </a:buClr>
              <a:buFont typeface="Times New Roman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der attitu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Production of Sex disaggregated data   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0" y="1125360"/>
          <a:ext cx="9144000" cy="4970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25360"/>
                    <a:ext cx="9144000" cy="49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Emerging issues   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0" y="1268280"/>
          <a:ext cx="8893080" cy="504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68280"/>
                    <a:ext cx="889308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Legal framework   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0" y="1268280"/>
          <a:ext cx="9144000" cy="504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68280"/>
                    <a:ext cx="914400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455760"/>
            <a:ext cx="9140760" cy="129672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Common issues in ECE  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2209680"/>
            <a:ext cx="9144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2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Mainstreaming of gender into the production of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2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Data ga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2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V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2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Human traffi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2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Informal employ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2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Legal frame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455760"/>
            <a:ext cx="9140760" cy="129672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Issues to address in ECE  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773000"/>
            <a:ext cx="91440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ctr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Garamond"/>
                <a:ea typeface="Times New Roman"/>
              </a:rPr>
              <a:t>Gender sensitization programmes in statistics</a:t>
            </a:r>
            <a:r>
              <a:rPr b="1" lang="en-US" sz="3600" spc="-1" strike="noStrike">
                <a:solidFill>
                  <a:srgbClr val="000000"/>
                </a:solidFill>
                <a:latin typeface="Garamond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ctr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Garamond"/>
                <a:ea typeface="Times New Roman"/>
              </a:rPr>
              <a:t>Legal framework: good practic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ctr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Garamond"/>
                <a:ea typeface="Times New Roman"/>
              </a:rPr>
              <a:t>Reorganization of gender statistics programm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Garamond"/>
                <a:ea typeface="Times New Roman"/>
              </a:rPr>
              <a:t>Development of methodologies in emerging areas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Countries participating in the assessment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4800600"/>
            <a:ext cx="85341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  <a:ea typeface="Courier New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826920" y="1916280"/>
          <a:ext cx="8062920" cy="3720960"/>
        </p:xfrm>
        <a:graphic>
          <a:graphicData uri="http://schemas.openxmlformats.org/drawingml/2006/table">
            <a:tbl>
              <a:tblPr/>
              <a:tblGrid>
                <a:gridCol w="2232360"/>
                <a:gridCol w="1647720"/>
                <a:gridCol w="2265480"/>
                <a:gridCol w="1917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ban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on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cedon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loven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men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org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ldov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jikist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zerbaij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unga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l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urke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lar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zakhst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man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urkmenist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lgar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yrgyzst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kra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oat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tv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rbia &amp; Monteneg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bekist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zech Republ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thuan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lovak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455760"/>
            <a:ext cx="9140760" cy="792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How the assessment was carried out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5400" indent="-95400" algn="just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aramond"/>
                <a:ea typeface="Courier New"/>
              </a:rPr>
              <a:t>  </a:t>
            </a:r>
            <a:r>
              <a:rPr b="1" lang="en-GB" sz="2800" spc="-1" strike="noStrike">
                <a:solidFill>
                  <a:srgbClr val="000000"/>
                </a:solidFill>
                <a:latin typeface="Garamond"/>
                <a:ea typeface="Courier New"/>
              </a:rPr>
              <a:t>Questionnaire sent to Gender Statistics Focal Points (GSFP) in N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 algn="just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aramond"/>
                <a:ea typeface="Courier New"/>
              </a:rPr>
              <a:t>  </a:t>
            </a:r>
            <a:r>
              <a:rPr b="1" lang="en-GB" sz="2800" spc="-1" strike="noStrike">
                <a:solidFill>
                  <a:srgbClr val="000000"/>
                </a:solidFill>
                <a:latin typeface="Garamond"/>
                <a:ea typeface="Courier New"/>
              </a:rPr>
              <a:t>Ad-hoc country visits (Ukraine, Serbia &amp; Montenegro, Azerbaij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 algn="just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aramond"/>
                <a:ea typeface="Courier New"/>
              </a:rPr>
              <a:t>  </a:t>
            </a:r>
            <a:r>
              <a:rPr b="1" lang="en-GB" sz="2800" spc="-1" strike="noStrike">
                <a:solidFill>
                  <a:srgbClr val="000000"/>
                </a:solidFill>
                <a:latin typeface="Garamond"/>
                <a:ea typeface="Courier New"/>
              </a:rPr>
              <a:t>Consultations with donor active in gender statistics in the region (Statistics Swede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 algn="just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aramond"/>
                <a:ea typeface="Courier New"/>
              </a:rPr>
              <a:t>  </a:t>
            </a:r>
            <a:r>
              <a:rPr b="1" lang="en-GB" sz="2800" spc="-1" strike="noStrike">
                <a:solidFill>
                  <a:srgbClr val="000000"/>
                </a:solidFill>
                <a:latin typeface="Garamond"/>
                <a:ea typeface="Courier New"/>
              </a:rPr>
              <a:t>Workshop on gender statistics for Central Asian countries (Ashgabat, July 2004)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4800600"/>
            <a:ext cx="85341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  <a:ea typeface="Courier New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455760"/>
            <a:ext cx="9140760" cy="792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Key results 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4920" y="1268280"/>
            <a:ext cx="83818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885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560" indent="619920" algn="just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aramond"/>
                <a:ea typeface="Courier New"/>
              </a:rPr>
              <a:t>Gender is recognized as an issue to be addressed in the social and economic development of the countries by most government officials but not al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88560" indent="619920" algn="just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aramond"/>
                <a:ea typeface="Courier New"/>
              </a:rPr>
              <a:t>Most of the NSOs have an institutionalized programme on gender statistics but no legal frame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88560" indent="619920" algn="just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aramond"/>
                <a:ea typeface="Courier New"/>
              </a:rPr>
              <a:t>Gender statistics programmes are confined into social and demographic statistics and there is little gender mainstreaming in NS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88560" indent="619920" algn="just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aramond"/>
                <a:ea typeface="Courier New"/>
              </a:rPr>
              <a:t>Some GSFP act as such on an ad-hoc bas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88560" indent="619920" algn="just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aramond"/>
                <a:ea typeface="Courier New"/>
              </a:rPr>
              <a:t>There are data ga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455760"/>
            <a:ext cx="9140760" cy="792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Key results 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838188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54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666720" algn="just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  <a:ea typeface="Courier New"/>
              </a:rPr>
              <a:t>Some users are frustrated because they find official statistics not easy to access and not providing the information they n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666720" algn="just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  <a:ea typeface="Courier New"/>
              </a:rPr>
              <a:t>Only three countries have not produced gender publications in the last 5 years, but the coverage and quality of the existing ones vary from country to count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455760"/>
            <a:ext cx="9140760" cy="792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Key results 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907920"/>
            <a:ext cx="838188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7632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6320" indent="533160" algn="just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  <a:ea typeface="Courier New"/>
              </a:rPr>
              <a:t>Gender statistics is an area where the donor community provided a lot of support and results are vi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632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6320" indent="533160" algn="just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  <a:ea typeface="Courier New"/>
              </a:rPr>
              <a:t>UNDP-ECE could identify the areas where future assistance may be need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632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6320" indent="533160" algn="just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  <a:ea typeface="Courier New"/>
              </a:rPr>
              <a:t>It is possible to distinguish two sets of countries in respect to the development of gender statistics program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40760" cy="115092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ddddd"/>
                </a:solidFill>
                <a:latin typeface="Garamond"/>
              </a:rPr>
              <a:t>Data Gaps</a:t>
            </a: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920" y="620280"/>
            <a:ext cx="7772400" cy="58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ver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ticipation in decision ma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cc00"/>
              </a:buClr>
              <a:buFont typeface="Times New Roman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rticipation in el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cc00"/>
              </a:buClr>
              <a:buFont typeface="Times New Roman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trepreneurshi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ender attitudes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mestic violence and other VAW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formal employ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me-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chool attend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55640" y="1628640"/>
            <a:ext cx="6624720" cy="648000"/>
          </a:xfrm>
          <a:prstGeom prst="ellipse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00000" y="3716280"/>
            <a:ext cx="6624720" cy="865080"/>
          </a:xfrm>
          <a:prstGeom prst="ellipse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0" y="455400"/>
            <a:ext cx="9140760" cy="115092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ddddd"/>
                </a:solidFill>
                <a:latin typeface="Garamond"/>
              </a:rPr>
              <a:t>Data Gaps</a:t>
            </a:r>
            <a:endParaRPr b="0" lang="en-US" sz="5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he need to have data on these areas is particular relevant for the CIS and EE region where there is a general tendency to underestimate gender issu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8T09:32:39Z</dcterms:created>
  <dc:creator>Giovannelli</dc:creator>
  <dc:description/>
  <dc:language>en-US</dc:language>
  <cp:lastModifiedBy>Giulio Magrin</cp:lastModifiedBy>
  <dcterms:modified xsi:type="dcterms:W3CDTF">2004-10-17T12:51:19Z</dcterms:modified>
  <cp:revision>141</cp:revision>
  <dc:subject/>
  <dc:title>THE STATUS OF STATISTICS ON WOMEN AND MEN’S  ENTREPRENEURSHIP IN THE      UNECE REGION </dc:title>
</cp:coreProperties>
</file>