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426-820C-4483-8C72-1226A048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82E-D5FE-41DF-8137-63877C9C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961-F61F-4B5F-A2E0-F6E5180C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936-4F90-49FF-BB34-27D51714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3B5-4A6A-480D-A757-92CC9A5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CF6-1B36-4121-8E5C-639DC0BD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266-34CA-4487-9170-40A7BB06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07D-156B-43B3-9369-563BAD67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C75-CE4C-4EE9-8313-FC07D2A1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1C2-E0EA-4158-939F-0E2984DE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9B5-9F24-4209-AFE5-74ADBC2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C81-D547-4648-BC0B-E0F8FF3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371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79064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594ADD-942E-4AEA-87FF-4E5673144B7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8680" y="5715000"/>
            <a:ext cx="5158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600" spc="-1" strike="noStrike">
                <a:solidFill>
                  <a:srgbClr val="fafd00"/>
                </a:solidFill>
                <a:latin typeface="Arial"/>
              </a:rPr>
              <a:t>Gender attitudes: acceptance or choic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Ko Oudho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908000" y="0"/>
          <a:ext cx="7236000" cy="6669000"/>
        </p:xfrm>
        <a:graphic>
          <a:graphicData uri="http://schemas.openxmlformats.org/drawingml/2006/table">
            <a:tbl>
              <a:tblPr/>
              <a:tblGrid>
                <a:gridCol w="2411640"/>
                <a:gridCol w="2413080"/>
                <a:gridCol w="2411280"/>
              </a:tblGrid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arner typ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ypology of division of household 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ypology of division of child c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earner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everyth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everyth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arnerless but change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greater pa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greater pa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single ear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everything but want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everything but want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9040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one and a half earn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greater part but want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greater part but want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half and half earn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equally divi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equally divi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double earn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ingle earner but more earner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less but wanting m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less but wanting m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82080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ne and a half earners but half and half earner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nothing but wanting m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nothing but wanting m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uble earners but les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4612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568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Multinomial logistic regressi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In logit analysis dependent is binary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aving job (yes/no) </a:t>
            </a:r>
            <a:r>
              <a:rPr b="0" lang="nl-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odd (yes)=p/p-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en independent is binary (m=1/f=0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dd (men)=p1/1-p1 and odd(women)=p2/1-p2 </a:t>
            </a:r>
            <a:r>
              <a:rPr b="0" lang="nl-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dd ratio (men/women) = (p1/1-p1)/(p2/1-p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en independent is multinomia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mmies: odd ratio is relative to reference 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en dependent is multinomia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mmies: odd ratio is relative to reference 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en independent is interva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oefficient is change in odds by change per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So, odds ratio = 1 means (relatively) no effec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62120" y="757080"/>
            <a:ext cx="5819760" cy="53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Analysis of item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No assumptions on level of categories (as in PC or factoranalysi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HOMALS-analysis indicate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rdinality in scale in public ite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ontrasts between neutral categories and one or two extreme categories in personal 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terpretation difficult: a) different situations in which issues are not  very relevant b) preference less important than arrangements by mutual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600120"/>
          <a:ext cx="8254800" cy="5657760"/>
        </p:xfrm>
        <a:graphic>
          <a:graphicData uri="http://schemas.openxmlformats.org/drawingml/2006/table">
            <a:tbl>
              <a:tblPr/>
              <a:tblGrid>
                <a:gridCol w="2742840"/>
                <a:gridCol w="609480"/>
                <a:gridCol w="63504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aracterisation of dimension (low versus high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aid work to be divided versus paid work might be men's task  (pub.op.work-dim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w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vision paid work is more or less an issue versus statements not applicable (pers.op.work-dim.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w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periencing hardly pressure on division paid work versus experiencing pressure  (pers.op.work-dim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w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omen should do housework versus equal division tasks (pub.op.hhwork-dim.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h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ew hesitations in opinion versus maybe child care should be women's task (pub.op.child care-dim.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ild care is women's task versus not agreeing (pub.op.child care-dim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vision child care no clear issue versus statements on division child care  not applicable (pers.op.child care-dim.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c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periencing hardly any pressure on division tasks versus experiencing pressure  (pers.op.child care-dim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c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w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w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w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h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c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c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overlap of majority of item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&lt;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Effect public as well as personal item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hortcomings in quality of items and answering categories: attitude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omparibility of public and personal item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Other relevant factors in personal choice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onceptual issue: Choices on paid work and homework as one-dimensional problem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476360" y="882720"/>
          <a:ext cx="7667640" cy="6097680"/>
        </p:xfrm>
        <a:graphic>
          <a:graphicData uri="http://schemas.openxmlformats.org/drawingml/2006/table">
            <a:tbl>
              <a:tblPr/>
              <a:tblGrid>
                <a:gridCol w="1917720"/>
                <a:gridCol w="1916280"/>
                <a:gridCol w="1998360"/>
                <a:gridCol w="18352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ar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u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br>
                        <a:rPr sz="2000"/>
                      </a:b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14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??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xed (Work-centred/adapti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ypical work-cente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</a:tr>
              <a:tr h="149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um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xed (home-centred/adapti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daptive 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xed (Work-centred/adapti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br>
                        <a:rPr sz="2000"/>
                      </a:b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ypical home-cente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xed (home-centred/adapti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??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1184760" y="260280"/>
            <a:ext cx="72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Hakim’s model disaggregated in two dim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tep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Attitudes and measuremen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Theory of Hakim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What’s the problem?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Research desig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71056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Attitudes (common elements in most definitions)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Oriented on object, person, institution or even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Evaluative componen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Cognitive component 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Affective component 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Stable condition or construc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Intermediary between object stimulus and behavioural response: consistency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600" spc="-1" strike="noStrike">
                <a:solidFill>
                  <a:srgbClr val="fafd00"/>
                </a:solidFill>
                <a:latin typeface="Arial"/>
              </a:rPr>
              <a:t>Hakim - preference theory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Publication: Work-Lifestyle Choices in 21st Century (2000) etc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Heterogeneity of lifestyles of women possible because of new scenario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ontraceptive re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qual opportunities re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xpansion white collar occup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ore jobs for secondary ear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bjective elements in lifestyle choices more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Three groups of preferences (of women)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ome-cent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ork-cent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dap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087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Hakim on attitude measuremen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Preferences versus attitud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ubjective factor too often ignor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More holistic approach (?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Researchers should measure more often values and attitudes by fewer ques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Low predictability of behavior from attitud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in reason: in attitude measurement public beliefs are confused with personal goal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Public moral versus personal preferenc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One should not discriminate   xxx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ich neighbour will you prefer…xxx or yy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People should use more often public transpor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From now on I will go to my work by public transpor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omen and men should divide paid work equall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I/ my wife will go looking for a job tomorrow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Men should do more housework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From now on I/my husband  will do ……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Testing public versus person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Both man and woman should contribute to the family incom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Man should earn the money, the woman should take care of household and famil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Men should do a larger part of the household chores than nowaday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we should divide our tasks at home has been subject of discussion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prefer to be the one who is working outside the home and will be responsible for the household incom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y partner thinks it's important that we divide paid work and caring tasks equally among ourselve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Testing criteri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Assuming that persons in different situations will differ in relevant attitudes concerning that situation: which items will distinguish (explain, predict)  better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Paid work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Housework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All three: today + tomorrow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5:19:07Z</dcterms:created>
  <dc:creator>Oudhof</dc:creator>
  <dc:description/>
  <dc:language>en-US</dc:language>
  <cp:lastModifiedBy>Oudhof</cp:lastModifiedBy>
  <dcterms:modified xsi:type="dcterms:W3CDTF">2004-10-14T12:56:03Z</dcterms:modified>
  <cp:revision>4</cp:revision>
  <dc:subject/>
  <dc:title>Gender attitudes: acceptance or choice</dc:title>
</cp:coreProperties>
</file>