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7EE3-449E-4FBC-BBA4-1B96FA39E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66FC-EDBA-42F6-845A-7C8B1E0A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7B5F-3B97-4E9D-A21B-6B4CF7F3E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205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363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047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205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363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1F20-325D-4C3B-9EB5-8ACE15C5F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DFFE-4927-44C1-9241-239C7C65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612E-4F67-4604-8E93-248DF383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DE61-DADD-4FA4-9CF8-43999D11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0D37-694A-4246-B08D-02BE6E81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04760" y="990360"/>
            <a:ext cx="6553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AA5F-15C1-4822-9EC4-EA1F579C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3643-A9DE-4DC4-9E0E-CF594955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52B1-D825-4B72-9AA4-F439E7AA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CEDF-B66C-4D75-949D-278402D6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665280" indent="-1857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3716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79064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20968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20968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20968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D4CD081-0B0A-4D21-908E-A2CC0A0DA73A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3716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28680" y="5715000"/>
            <a:ext cx="51588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600" spc="-1" strike="noStrike">
                <a:solidFill>
                  <a:srgbClr val="fafd00"/>
                </a:solidFill>
                <a:latin typeface="Arial"/>
              </a:rPr>
              <a:t>Gender attitudes: acceptance or choice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Ko Oudhof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Statistics Netherland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908000" y="0"/>
          <a:ext cx="7236000" cy="6669000"/>
        </p:xfrm>
        <a:graphic>
          <a:graphicData uri="http://schemas.openxmlformats.org/drawingml/2006/table">
            <a:tbl>
              <a:tblPr/>
              <a:tblGrid>
                <a:gridCol w="2411640"/>
                <a:gridCol w="2413080"/>
                <a:gridCol w="2411280"/>
              </a:tblGrid>
              <a:tr h="588960"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Earner typ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Typology of division of household wor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Typology of division of child ca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</a:tr>
              <a:tr h="588960"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ermanent earnerles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ermanently doing everyth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ermanently doing everyth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</a:tr>
              <a:tr h="588960"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Earnerless but change want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ermanently doing greater pa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ermanently doing greater pa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</a:tr>
              <a:tr h="588960"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ermanent single ear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Doing everything but wanting les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Doing everything but wanting les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</a:tr>
              <a:tr h="590400"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ermanent one and a half earne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Doing greater part but wanting les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Doing greater part but wanting les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</a:tr>
              <a:tr h="588960"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ermanent half and half earne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ermanently equally divid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ermanently equally divid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</a:tr>
              <a:tr h="588960"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ermanent double earne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ermanently doing les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ermanently doing les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</a:tr>
              <a:tr h="588960"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Single earner but more earners want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Doing less but wanting mo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Doing less but wanting mo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</a:tr>
              <a:tr h="820800"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One and a half earners but half and half earners want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Doing nothing but wanting mo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Doing nothing but wanting mo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</a:tr>
              <a:tr h="588960"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Double earners but less want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</a:tr>
              <a:tr h="546120">
                <a:tc>
                  <a:txBody>
                    <a:bodyPr lIns="0" rIns="0" tIns="0" bIns="0" anchor="b">
                      <a:noAutofit/>
                    </a:bodyPr>
                    <a:p>
                      <a:pPr marL="289080" indent="-289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Oth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b14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ECE/CES-work session gender statistic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568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ECE/CES-work session gender statistic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fafd00"/>
                </a:solidFill>
                <a:latin typeface="Arial"/>
              </a:rPr>
              <a:t>Multinomial logistic regression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afd00"/>
                </a:solidFill>
                <a:latin typeface="Arial"/>
              </a:rPr>
              <a:t>In logit analysis dependent is binary 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lvl="1" marL="665280" indent="-1857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having job (yes/no) </a:t>
            </a:r>
            <a:r>
              <a:rPr b="0" lang="nl-N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odd (yes)=p/p-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afd00"/>
                </a:solidFill>
                <a:latin typeface="Arial"/>
              </a:rPr>
              <a:t>When independent is binary (m=1/f=0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lvl="1" marL="665280" indent="-1857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Odd (men)=p1/1-p1 and odd(women)=p2/1-p2 </a:t>
            </a:r>
            <a:r>
              <a:rPr b="0" lang="nl-N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5280" indent="-1857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Odd ratio (men/women) = (p1/1-p1)/(p2/1-p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afd00"/>
                </a:solidFill>
                <a:latin typeface="Arial"/>
              </a:rPr>
              <a:t>When independent is multinomial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lvl="1" marL="665280" indent="-1857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mmies: odd ratio is relative to reference categ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afd00"/>
                </a:solidFill>
                <a:latin typeface="Arial"/>
              </a:rPr>
              <a:t>When dependent is multinomial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lvl="1" marL="665280" indent="-1857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mmies: odd ratio is relative to reference categ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afd00"/>
                </a:solidFill>
                <a:latin typeface="Arial"/>
              </a:rPr>
              <a:t>When independent is interval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lvl="1" marL="665280" indent="-1857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Coefficient is change in odds by change per un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afd00"/>
                </a:solidFill>
                <a:latin typeface="Arial"/>
              </a:rPr>
              <a:t>So, odds ratio = 1 means (relatively) no effect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ECE/CES-work session gender statistic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62120" y="757080"/>
            <a:ext cx="5819760" cy="5349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ECE/CES-work session gender statistic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fafd00"/>
                </a:solidFill>
                <a:latin typeface="Arial"/>
              </a:rPr>
              <a:t>Analysis of item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No assumptions on level of categories (as in PC or factoranalysis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HOMALS-analysis indicates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665280" indent="-185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Ordinality in scale in public item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5280" indent="-185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contrasts between neutral categories and one or two extreme categories in personal i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5280" indent="-185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Interpretation difficult: a) different situations in which issues are not  very relevant b) preference less important than arrangements by mutual agre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ECE/CES-work session gender statistic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44600" y="600120"/>
          <a:ext cx="8254800" cy="5657760"/>
        </p:xfrm>
        <a:graphic>
          <a:graphicData uri="http://schemas.openxmlformats.org/drawingml/2006/table">
            <a:tbl>
              <a:tblPr/>
              <a:tblGrid>
                <a:gridCol w="2742840"/>
                <a:gridCol w="609480"/>
                <a:gridCol w="63504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Characterisation of dimension (low versus high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paid work to be divided versus paid work might be men's task  (pub.op.work-dim1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pw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ivision paid work is more or less an issue versus statements not applicable (pers.op.work-dim.1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iw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,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experiencing hardly pressure on division paid work versus experiencing pressure  (pers.op.work-dim.2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iw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-0,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women should do housework versus equal division tasks (pub.op.hhwork-dim.1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ph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-0,8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-0,1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,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few hesitations in opinion versus maybe child care should be women's task (pub.op.child care-dim.1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pc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,3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-0,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-0,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-0,3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child care is women's task versus not agreeing (pub.op.child care-dim2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pc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-0,2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-0,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,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,3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ivision child care no clear issue versus statements on division child care  not applicable (pers.op.child care-dim.1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ic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,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,9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,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-0,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-0,0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-0,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experiencing hardly any pressure on division tasks versus experiencing pressure  (pers.op.child care-dim.2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ic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-0,2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-0,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,9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,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-0,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,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pw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iw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iw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ph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pc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pc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ic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ic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overlap of majority of item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p&lt;.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ECE/CES-work session gender statistic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fafd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lnSpc>
                <a:spcPct val="14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Effect public as well as personal item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lnSpc>
                <a:spcPct val="14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Shortcomings in quality of items and answering categories: attitudes?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lnSpc>
                <a:spcPct val="14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Comparibility of public and personal items?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lnSpc>
                <a:spcPct val="14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Other relevant factors in personal choices?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lnSpc>
                <a:spcPct val="14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Conceptual issue: Choices on paid work and homework as one-dimensional problem?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ECE/CES-work session gender statistic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476360" y="882720"/>
          <a:ext cx="7667640" cy="6097680"/>
        </p:xfrm>
        <a:graphic>
          <a:graphicData uri="http://schemas.openxmlformats.org/drawingml/2006/table">
            <a:tbl>
              <a:tblPr/>
              <a:tblGrid>
                <a:gridCol w="1917720"/>
                <a:gridCol w="1916280"/>
                <a:gridCol w="1998360"/>
                <a:gridCol w="183528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0" lang="nl-NL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are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High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edium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br>
                        <a:rPr sz="2000"/>
                      </a:br>
                      <a:r>
                        <a:rPr b="0" lang="nl-NL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  <a:tr h="149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High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???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ixed (Work-centred/adaptiv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typical work-center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ff">
                        <a:alpha val="50000"/>
                      </a:srgbClr>
                    </a:solidFill>
                  </a:tcPr>
                </a:tc>
              </a:tr>
              <a:tr h="149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edium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ixed (home-centred/adaptiv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daptive typ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ixed (Work-centred/adaptiv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br>
                        <a:rPr sz="2000"/>
                      </a:br>
                      <a:r>
                        <a:rPr b="0" lang="nl-NL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typical home-center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ixed (home-centred/adaptiv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???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1184760" y="260280"/>
            <a:ext cx="72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Hakim’s model disaggregated in two dimen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ECE/CES-work session gender statistic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Steps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fafd00"/>
                </a:solidFill>
                <a:latin typeface="Arial"/>
              </a:rPr>
              <a:t>Attitudes and measurement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fafd00"/>
                </a:solidFill>
                <a:latin typeface="Arial"/>
              </a:rPr>
              <a:t>Theory of Hakim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fafd00"/>
                </a:solidFill>
                <a:latin typeface="Arial"/>
              </a:rPr>
              <a:t>What’s the problem?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fafd00"/>
                </a:solidFill>
                <a:latin typeface="Arial"/>
              </a:rPr>
              <a:t>Research design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fafd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fafd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ECE/CES-work session gender statistic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710560" cy="93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Attitudes (common elements in most definitions)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6985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"/>
              </a:rPr>
              <a:t>Oriented on object, person, institution or event</a:t>
            </a: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"/>
              </a:rPr>
              <a:t>Evaluative component</a:t>
            </a: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"/>
              </a:rPr>
              <a:t>Cognitive component </a:t>
            </a: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"/>
              </a:rPr>
              <a:t>Affective component </a:t>
            </a: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"/>
              </a:rPr>
              <a:t>Stable condition or construct</a:t>
            </a: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"/>
              </a:rPr>
              <a:t>Intermediary between object stimulus and behavioural response: consistency</a:t>
            </a: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ECE/CES-work session gender statistic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600" spc="-1" strike="noStrike">
                <a:solidFill>
                  <a:srgbClr val="fafd00"/>
                </a:solidFill>
                <a:latin typeface="Arial"/>
              </a:rPr>
              <a:t>Hakim - preference theory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afd00"/>
                </a:solidFill>
                <a:latin typeface="Arial"/>
              </a:rPr>
              <a:t>Publication: Work-Lifestyle Choices in 21st Century (2000) etc.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afd00"/>
                </a:solidFill>
                <a:latin typeface="Arial"/>
              </a:rPr>
              <a:t>Heterogeneity of lifestyles of women possible because of new scenario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lvl="1" marL="665280" indent="-1857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Contraceptive revol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5280" indent="-1857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qual opportunities revol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5280" indent="-1857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xpansion white collar occup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5280" indent="-1857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More jobs for secondary earn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5280" indent="-1857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ubjective elements in lifestyle choices more import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afd00"/>
                </a:solidFill>
                <a:latin typeface="Arial"/>
              </a:rPr>
              <a:t>Three groups of preferences (of women) 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lvl="1" marL="665280" indent="-1857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home-cent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5280" indent="-1857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work-cent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5280" indent="-1857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adap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ECE/CES-work session gender statistic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087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ECE/CES-work session gender statistic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fafd00"/>
                </a:solidFill>
                <a:latin typeface="Arial"/>
              </a:rPr>
              <a:t>Hakim on attitude measurement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Preferences versus attitude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Subjective factor too often ignore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More holistic approach (?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Researchers should measure more often values and attitudes by fewer question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Low predictability of behavior from attitude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ain reason: in attitude measurement public beliefs are confused with personal goals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ECE/CES-work session gender statistic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Public moral versus personal preference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afd00"/>
                </a:solidFill>
                <a:latin typeface="Arial"/>
              </a:rPr>
              <a:t>One should not discriminate   xxx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afd00"/>
                </a:solidFill>
                <a:latin typeface="Arial"/>
              </a:rPr>
              <a:t>Which neighbour will you prefer…xxx or yyy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289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afd00"/>
                </a:solidFill>
                <a:latin typeface="Arial"/>
              </a:rPr>
              <a:t>People should use more often public transport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afd00"/>
                </a:solidFill>
                <a:latin typeface="Arial"/>
              </a:rPr>
              <a:t>From now on I will go to my work by public transport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289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afd00"/>
                </a:solidFill>
                <a:latin typeface="Arial"/>
              </a:rPr>
              <a:t>Women and men should divide paid work equally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afd00"/>
                </a:solidFill>
                <a:latin typeface="Arial"/>
              </a:rPr>
              <a:t>I/ my wife will go looking for a job tomorrow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289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afd00"/>
                </a:solidFill>
                <a:latin typeface="Arial"/>
              </a:rPr>
              <a:t>Men should do more housework 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afd00"/>
                </a:solidFill>
                <a:latin typeface="Arial"/>
              </a:rPr>
              <a:t>From now on I/my husband  will do ……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ECE/CES-work session gender statistic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fafd00"/>
                </a:solidFill>
                <a:latin typeface="Arial"/>
              </a:rPr>
              <a:t>Testing public versus persona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afd00"/>
                </a:solidFill>
                <a:latin typeface="Arial"/>
              </a:rPr>
              <a:t>Both man and woman should contribute to the family income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afd00"/>
                </a:solidFill>
                <a:latin typeface="Arial"/>
              </a:rPr>
              <a:t>Man should earn the money, the woman should take care of household and family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afd00"/>
                </a:solidFill>
                <a:latin typeface="Arial"/>
              </a:rPr>
              <a:t>Men should do a larger part of the household chores than nowadays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ow we should divide our tasks at home has been subject of discussion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prefer to be the one who is working outside the home and will be responsible for the household income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y partner thinks it's important that we divide paid work and caring tasks equally among ourselves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ECE/CES-work session gender statistic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fafd00"/>
                </a:solidFill>
                <a:latin typeface="Arial"/>
              </a:rPr>
              <a:t>Testing criterion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Assuming that persons in different situations will differ in relevant attitudes concerning that situation: which items will distinguish (explain, predict)  better?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Paid work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Housework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Child car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9080" indent="-289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afd00"/>
                </a:solidFill>
                <a:latin typeface="Arial"/>
              </a:rPr>
              <a:t>All three: today + tomorrow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ECE/CES-work session gender statistic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15:19:07Z</dcterms:created>
  <dc:creator>Oudhof</dc:creator>
  <dc:description/>
  <dc:language>en-US</dc:language>
  <cp:lastModifiedBy>Oudhof</cp:lastModifiedBy>
  <dcterms:modified xsi:type="dcterms:W3CDTF">2004-10-14T12:56:03Z</dcterms:modified>
  <cp:revision>4</cp:revision>
  <dc:subject/>
  <dc:title>Gender attitudes: acceptance or choice</dc:title>
</cp:coreProperties>
</file>