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B0E-5C2B-4CD3-BD84-5472F520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1BC-7139-4A29-98BD-FEF2BE50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CA4-0B4F-41B1-8EAB-BC945632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046-98F1-4A09-87DC-CED2359B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9CD-DE96-4FF2-8CAC-422A7476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B62-0E3E-405C-B988-321DF75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645-55A4-4251-8712-EE8D6FA8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B18-0734-40AC-8932-659F89DB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A71-ECDE-479B-B794-9F97BEF1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40D-A356-4BF2-B67D-B140241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609-5E33-4D1D-9A5D-F7BA1AC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FF5-52C3-4EFA-AD07-81CC4A1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E3E1-4C57-4B07-8450-DFC843A0F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3333cc"/>
                </a:solidFill>
                <a:latin typeface="Helvetica-Narrow"/>
              </a:rPr>
              <a:t>The Gender Barometer in Finland</a:t>
            </a:r>
            <a:br>
              <a:rPr sz="4400"/>
            </a:br>
            <a:br>
              <a:rPr sz="1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0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 living permanently with their spouse in the common household who have children under the age of 18 living permanently in the household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in your household was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ten responsible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matt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t autum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2640" y="814320"/>
            <a:ext cx="6802560" cy="6022800"/>
            <a:chOff x="512640" y="814320"/>
            <a:chExt cx="6802560" cy="6022800"/>
          </a:xfrm>
        </p:grpSpPr>
        <p:sp>
          <p:nvSpPr>
            <p:cNvPr id="189" name=""/>
            <p:cNvSpPr/>
            <p:nvPr/>
          </p:nvSpPr>
          <p:spPr>
            <a:xfrm>
              <a:off x="512640" y="814320"/>
              <a:ext cx="172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8480" y="814320"/>
              <a:ext cx="539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78120" y="814320"/>
              <a:ext cx="539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17760" y="814320"/>
              <a:ext cx="493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1680" y="814320"/>
              <a:ext cx="766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ther and father equ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8480" y="814320"/>
              <a:ext cx="647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 / child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26120" y="814320"/>
              <a:ext cx="655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other member of the househo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1680" y="814320"/>
              <a:ext cx="809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91320" y="814320"/>
              <a:ext cx="6238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2640" y="2033640"/>
              <a:ext cx="1725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oking on weekdays (also warming of convenience food or food prepared earlier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38480" y="203364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8120" y="203364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17760" y="2033640"/>
              <a:ext cx="49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2033640"/>
              <a:ext cx="766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8480" y="2033640"/>
              <a:ext cx="647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6120" y="2033640"/>
              <a:ext cx="655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81680" y="2033640"/>
              <a:ext cx="80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91320" y="2033640"/>
              <a:ext cx="623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2640" y="294804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hing up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38480" y="294804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8120" y="294804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2948040"/>
              <a:ext cx="49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1680" y="2948040"/>
              <a:ext cx="76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8480" y="2948040"/>
              <a:ext cx="647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6120" y="2948040"/>
              <a:ext cx="655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1680" y="294804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91320" y="2948040"/>
              <a:ext cx="6238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640" y="357336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ing the wash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3573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78120" y="3573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17760" y="3573360"/>
              <a:ext cx="49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1680" y="3573360"/>
              <a:ext cx="76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8480" y="3573360"/>
              <a:ext cx="647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26120" y="3573360"/>
              <a:ext cx="655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1680" y="357336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91320" y="3573360"/>
              <a:ext cx="6238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640" y="4198680"/>
              <a:ext cx="17258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ro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4198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78120" y="4198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17760" y="4198680"/>
              <a:ext cx="493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11680" y="4198680"/>
              <a:ext cx="766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8480" y="4198680"/>
              <a:ext cx="647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6120" y="4198680"/>
              <a:ext cx="655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81680" y="4198680"/>
              <a:ext cx="80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1320" y="4198680"/>
              <a:ext cx="6238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2640" y="482436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ea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38480" y="4824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8120" y="4824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7760" y="4824360"/>
              <a:ext cx="49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11680" y="4824360"/>
              <a:ext cx="76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8480" y="4824360"/>
              <a:ext cx="647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26120" y="4824360"/>
              <a:ext cx="655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81680" y="482436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91320" y="4824360"/>
              <a:ext cx="6238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2640" y="5449680"/>
              <a:ext cx="17258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ily shopp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8480" y="5449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8120" y="5449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17760" y="5449680"/>
              <a:ext cx="493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1680" y="5449680"/>
              <a:ext cx="766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8480" y="5449680"/>
              <a:ext cx="647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26120" y="5449680"/>
              <a:ext cx="655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81680" y="5449680"/>
              <a:ext cx="80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91320" y="5449680"/>
              <a:ext cx="6238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2640" y="6075360"/>
              <a:ext cx="172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ing children to day nursery or school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6075360"/>
              <a:ext cx="53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8120" y="6075360"/>
              <a:ext cx="53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7760" y="6075360"/>
              <a:ext cx="4939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1680" y="6075360"/>
              <a:ext cx="7668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6075360"/>
              <a:ext cx="647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6120" y="6075360"/>
              <a:ext cx="655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81680" y="6075360"/>
              <a:ext cx="80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91320" y="6075360"/>
              <a:ext cx="623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300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3780000"/>
                <a:tab algn="l" pos="475128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habiting or married spouses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13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disagree with your (present) spouse on the following mat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3780000"/>
                <a:tab algn="l" pos="475128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1960" y="838080"/>
            <a:ext cx="6482880" cy="5603760"/>
            <a:chOff x="831960" y="838080"/>
            <a:chExt cx="6482880" cy="5603760"/>
          </a:xfrm>
        </p:grpSpPr>
        <p:sp>
          <p:nvSpPr>
            <p:cNvPr id="263" name=""/>
            <p:cNvSpPr/>
            <p:nvPr/>
          </p:nvSpPr>
          <p:spPr>
            <a:xfrm>
              <a:off x="831960" y="838080"/>
              <a:ext cx="23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71600" y="838080"/>
              <a:ext cx="674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46600" y="838080"/>
              <a:ext cx="89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46600" y="83808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some ext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37320" y="838080"/>
              <a:ext cx="89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7320" y="838080"/>
              <a:ext cx="6775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960" y="1631880"/>
              <a:ext cx="23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aring household work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1600" y="1631880"/>
              <a:ext cx="674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46600" y="1631880"/>
              <a:ext cx="89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6600" y="163188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37320" y="1631880"/>
              <a:ext cx="89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37320" y="1631880"/>
              <a:ext cx="677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1960" y="2257200"/>
              <a:ext cx="233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s with children under the age of 18 living permanently  in their household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ild care, taking them to activities etc.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1600" y="2257200"/>
              <a:ext cx="674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6600" y="225720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46600" y="2257200"/>
              <a:ext cx="99036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37320" y="225720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37320" y="2257200"/>
              <a:ext cx="6775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1960" y="3555720"/>
              <a:ext cx="233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s with children under the age of 10 living permanently in their household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ing absent from work when the child falls ill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71600" y="3555720"/>
              <a:ext cx="674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6600" y="355572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6600" y="3555720"/>
              <a:ext cx="99036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37320" y="355572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37320" y="3555720"/>
              <a:ext cx="6775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1960" y="4854240"/>
              <a:ext cx="23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nding mone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1600" y="4854240"/>
              <a:ext cx="674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6600" y="4854240"/>
              <a:ext cx="89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46600" y="4854240"/>
              <a:ext cx="99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7320" y="4854240"/>
              <a:ext cx="89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7320" y="4854240"/>
              <a:ext cx="6775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1960" y="5479920"/>
              <a:ext cx="233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 of time used for hobbies or leisure pursuits?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eaning spouses’ hobbi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71600" y="5479920"/>
              <a:ext cx="674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46600" y="5479920"/>
              <a:ext cx="89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6600" y="547992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37320" y="5479920"/>
              <a:ext cx="89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7320" y="5479920"/>
              <a:ext cx="6775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-586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1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re in your various living environments any members of the opposite sex who at least sometimes take patronising or disparaging attitudes to your comments or suggestions: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members of opposite sex' in the Blaise-form is in the form 'men or boys', if the respondent is a woman, and 'women or girls', if the respondent is a ma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74880" y="903240"/>
            <a:ext cx="6720840" cy="6013440"/>
            <a:chOff x="974880" y="903240"/>
            <a:chExt cx="6720840" cy="6013440"/>
          </a:xfrm>
        </p:grpSpPr>
        <p:sp>
          <p:nvSpPr>
            <p:cNvPr id="301" name=""/>
            <p:cNvSpPr/>
            <p:nvPr/>
          </p:nvSpPr>
          <p:spPr>
            <a:xfrm>
              <a:off x="974880" y="903240"/>
              <a:ext cx="1725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0360" y="903240"/>
              <a:ext cx="495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95720" y="90324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25720" y="903240"/>
              <a:ext cx="63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080" y="90324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5720" y="90324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v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75360" y="903240"/>
              <a:ext cx="99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6080" y="90324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4880" y="1528920"/>
              <a:ext cx="17254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inful employment as main activity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your workpla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00360" y="1528920"/>
              <a:ext cx="495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95720" y="1528920"/>
              <a:ext cx="62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5720" y="1528920"/>
              <a:ext cx="63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56080" y="152892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65720" y="152892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75360" y="152892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6080" y="1528920"/>
              <a:ext cx="62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74880" y="2490840"/>
              <a:ext cx="17254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udents and schoolchildren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your school or study environmen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0360" y="2490840"/>
              <a:ext cx="495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95720" y="2490840"/>
              <a:ext cx="6296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25720" y="2490840"/>
              <a:ext cx="630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56080" y="2490840"/>
              <a:ext cx="8092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65720" y="2490840"/>
              <a:ext cx="8092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5360" y="2490840"/>
              <a:ext cx="9903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66080" y="2490840"/>
              <a:ext cx="6296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74880" y="3621240"/>
              <a:ext cx="17254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societies and association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00360" y="3621240"/>
              <a:ext cx="495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5720" y="3621240"/>
              <a:ext cx="62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25720" y="3621240"/>
              <a:ext cx="63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6080" y="362124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65720" y="362124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75360" y="362124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66080" y="3621240"/>
              <a:ext cx="62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4880" y="4415040"/>
              <a:ext cx="1725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mong rel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00360" y="4415040"/>
              <a:ext cx="49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5720" y="441504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25720" y="441504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56080" y="441504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65720" y="441504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75360" y="441504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66080" y="441504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74880" y="5040360"/>
              <a:ext cx="1725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mong neighbour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00360" y="5040360"/>
              <a:ext cx="49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5720" y="5040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25720" y="504036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56080" y="5040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5720" y="5040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5360" y="504036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66080" y="5040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74880" y="5665680"/>
              <a:ext cx="1725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leisure environmen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00360" y="5665680"/>
              <a:ext cx="495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95720" y="566568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25720" y="5665680"/>
              <a:ext cx="63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56080" y="566568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65720" y="566568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75360" y="5665680"/>
              <a:ext cx="99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66080" y="566568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74880" y="6291360"/>
              <a:ext cx="1725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mong other friend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00360" y="6291360"/>
              <a:ext cx="49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5720" y="6291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25720" y="629136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56080" y="6291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65720" y="6291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75360" y="629136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6080" y="6291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4920" y="1295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2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representative of the opposite sex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ast two year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008000" y="1925640"/>
            <a:ext cx="6916320" cy="3631680"/>
            <a:chOff x="1008000" y="1925640"/>
            <a:chExt cx="6916320" cy="3631680"/>
          </a:xfrm>
        </p:grpSpPr>
        <p:sp>
          <p:nvSpPr>
            <p:cNvPr id="367" name=""/>
            <p:cNvSpPr/>
            <p:nvPr/>
          </p:nvSpPr>
          <p:spPr>
            <a:xfrm>
              <a:off x="1008000" y="1925640"/>
              <a:ext cx="27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8000" y="1925640"/>
              <a:ext cx="85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62280" y="1925640"/>
              <a:ext cx="116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32280" y="1925640"/>
              <a:ext cx="1291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24320" y="192564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8000" y="2550960"/>
              <a:ext cx="27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de any impertinent remarks about your body or sexualit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08000" y="2550960"/>
              <a:ext cx="85392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2280" y="2550960"/>
              <a:ext cx="1169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32280" y="2550960"/>
              <a:ext cx="1291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24320" y="255096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8000" y="3344760"/>
              <a:ext cx="27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osed sexual relations in an improper contex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08000" y="3344760"/>
              <a:ext cx="85392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2280" y="3344760"/>
              <a:ext cx="1169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32280" y="3344760"/>
              <a:ext cx="1291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24320" y="334476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8000" y="4138560"/>
              <a:ext cx="270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ld dirty jokes or used expressions which you considered insulting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8000" y="4138560"/>
              <a:ext cx="8539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62280" y="4138560"/>
              <a:ext cx="116964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32280" y="4138560"/>
              <a:ext cx="12916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24320" y="4138560"/>
              <a:ext cx="90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8000" y="4932000"/>
              <a:ext cx="27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de a physical pass at you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8000" y="4932000"/>
              <a:ext cx="85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62280" y="4932000"/>
              <a:ext cx="116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32280" y="4932000"/>
              <a:ext cx="1291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4320" y="493200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171468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A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has or have made impertinent remarks concerning your body or sexual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B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B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has or have proposed sexual relations in an improper contex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C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C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has or have told dirty jokes or used expressions which you considered insult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D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has or have made physical passes at you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047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1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you afraid of being a victim of violence or are you therefore on your guar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127160" y="1673280"/>
            <a:ext cx="6721560" cy="4137120"/>
            <a:chOff x="1127160" y="1673280"/>
            <a:chExt cx="6721560" cy="4137120"/>
          </a:xfrm>
        </p:grpSpPr>
        <p:sp>
          <p:nvSpPr>
            <p:cNvPr id="395" name=""/>
            <p:cNvSpPr/>
            <p:nvPr/>
          </p:nvSpPr>
          <p:spPr>
            <a:xfrm>
              <a:off x="1127160" y="1673280"/>
              <a:ext cx="17258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3000" y="1673280"/>
              <a:ext cx="495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48360" y="1673280"/>
              <a:ext cx="630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8360" y="1673280"/>
              <a:ext cx="90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least every now and th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8720" y="1673280"/>
              <a:ext cx="5396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y seldo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18360" y="1673280"/>
              <a:ext cx="63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48720" y="1673280"/>
              <a:ext cx="99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9080" y="1673280"/>
              <a:ext cx="8096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27160" y="2635560"/>
              <a:ext cx="17258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out at night alon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53000" y="2635560"/>
              <a:ext cx="495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48360" y="2635560"/>
              <a:ext cx="63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78360" y="2635560"/>
              <a:ext cx="90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8720" y="2635560"/>
              <a:ext cx="5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18360" y="2635560"/>
              <a:ext cx="63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8720" y="263556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39080" y="2635560"/>
              <a:ext cx="80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7160" y="3429360"/>
              <a:ext cx="17258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using public transport vehicles at nigh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53000" y="3429360"/>
              <a:ext cx="495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48360" y="3429360"/>
              <a:ext cx="63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8360" y="3429360"/>
              <a:ext cx="90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78720" y="3429360"/>
              <a:ext cx="53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8360" y="3429360"/>
              <a:ext cx="63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48720" y="342936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9080" y="3429360"/>
              <a:ext cx="80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27160" y="439128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on dut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53000" y="4391280"/>
              <a:ext cx="495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48360" y="439128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78360" y="439128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78720" y="439128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18360" y="4391280"/>
              <a:ext cx="63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48720" y="439128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39080" y="439128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27160" y="5016600"/>
              <a:ext cx="17258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with your famil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53000" y="5016600"/>
              <a:ext cx="495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48360" y="5016600"/>
              <a:ext cx="63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78360" y="5016600"/>
              <a:ext cx="90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8720" y="5016600"/>
              <a:ext cx="5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8360" y="5016600"/>
              <a:ext cx="63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48720" y="501660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39080" y="5016600"/>
              <a:ext cx="80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ed by the Council for Equality in 1998 and 2001 and by the Unit of Equality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views and the analyses were conducted in Statistics Fin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naire and the analyses were formed in co-operation with a steer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ed interview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to the respon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ed by computer-aided telephone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from the Population Regist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ize 2,500,  acceptable replies 1,9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the barometer interview approximately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the interview have been targeted at certain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naire consists of four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of and attitudes to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s and experiences of his or her own workplace or educational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ciling famil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between women and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28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L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we evaluate quite generally the mutual status of Finnish men and women at present, which one of the following statements corresponds to your own view the be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he status of men in the society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wom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he status of men in the society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wom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he status of women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men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he status of women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m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en and women are equ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L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at do you think of the following state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6400" y="930240"/>
            <a:ext cx="5444640" cy="5486400"/>
            <a:chOff x="806400" y="930240"/>
            <a:chExt cx="5444640" cy="5486400"/>
          </a:xfrm>
        </p:grpSpPr>
        <p:sp>
          <p:nvSpPr>
            <p:cNvPr id="48" name=""/>
            <p:cNvSpPr/>
            <p:nvPr/>
          </p:nvSpPr>
          <p:spPr>
            <a:xfrm>
              <a:off x="806400" y="930240"/>
              <a:ext cx="1844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51040" y="930240"/>
              <a:ext cx="62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81040" y="930240"/>
              <a:ext cx="63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y 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1400" y="930240"/>
              <a:ext cx="809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or less 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1040" y="930240"/>
              <a:ext cx="89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of less dis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21040" y="930240"/>
              <a:ext cx="63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y dis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" y="1692360"/>
              <a:ext cx="1844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omen should play a greater role in politics to add more diversity to the political expertis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51040" y="1692360"/>
              <a:ext cx="62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81040" y="1692360"/>
              <a:ext cx="6300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11400" y="1692360"/>
              <a:ext cx="809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1040" y="1692360"/>
              <a:ext cx="89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21040" y="1692360"/>
              <a:ext cx="6300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6400" y="2759040"/>
              <a:ext cx="1844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and the economy would benefit if there were more women than at present in senior position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51040" y="2759040"/>
              <a:ext cx="629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81040" y="2759040"/>
              <a:ext cx="6300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11400" y="2759040"/>
              <a:ext cx="8092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21040" y="2759040"/>
              <a:ext cx="899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21040" y="2759040"/>
              <a:ext cx="6300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6400" y="3826080"/>
              <a:ext cx="1844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re men than at present should be involved in public social and health care servic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51040" y="3826080"/>
              <a:ext cx="62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81040" y="382608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11400" y="3826080"/>
              <a:ext cx="809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1040" y="3826080"/>
              <a:ext cx="89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21040" y="382608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6400" y="4740480"/>
              <a:ext cx="1844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omen and men have equal opportunities in working lif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51040" y="4740480"/>
              <a:ext cx="62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81040" y="4740480"/>
              <a:ext cx="630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11400" y="4740480"/>
              <a:ext cx="8092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21040" y="4740480"/>
              <a:ext cx="89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21040" y="4740480"/>
              <a:ext cx="630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00" y="5502240"/>
              <a:ext cx="1844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rried women have the full right to work whatever their family situ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1040" y="5502240"/>
              <a:ext cx="62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1040" y="550224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11400" y="5502240"/>
              <a:ext cx="809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1040" y="5502240"/>
              <a:ext cx="89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1040" y="550224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06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4175280"/>
                <a:tab algn="l" pos="525456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 and salary earners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4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your gender cause  disadvantage to you in your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 in the following matters: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4175280"/>
                <a:tab algn="l" pos="525456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280" y="1300320"/>
            <a:ext cx="5942160" cy="5050800"/>
            <a:chOff x="44280" y="1300320"/>
            <a:chExt cx="5942160" cy="5050800"/>
          </a:xfrm>
        </p:grpSpPr>
        <p:sp>
          <p:nvSpPr>
            <p:cNvPr id="86" name=""/>
            <p:cNvSpPr/>
            <p:nvPr/>
          </p:nvSpPr>
          <p:spPr>
            <a:xfrm>
              <a:off x="44280" y="1300320"/>
              <a:ext cx="23400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84280" y="1300320"/>
              <a:ext cx="6750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9280" y="1300320"/>
              <a:ext cx="11268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86080" y="1300320"/>
              <a:ext cx="90036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wh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86440" y="1300320"/>
              <a:ext cx="9000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80" y="1925280"/>
              <a:ext cx="234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alar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84280" y="1925280"/>
              <a:ext cx="67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9280" y="1925280"/>
              <a:ext cx="112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6080" y="192528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86440" y="192528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280" y="2550960"/>
              <a:ext cx="234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eipt of fringe benefits? (e.g. company cars, telephon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84280" y="2550960"/>
              <a:ext cx="675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9280" y="2550960"/>
              <a:ext cx="1126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86080" y="2550960"/>
              <a:ext cx="9003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86440" y="255096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80" y="3344760"/>
              <a:ext cx="234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cess to training? (paid by employ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84280" y="3344760"/>
              <a:ext cx="675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9280" y="3344760"/>
              <a:ext cx="11268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6080" y="3344760"/>
              <a:ext cx="90036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86440" y="3344760"/>
              <a:ext cx="90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280" y="4138200"/>
              <a:ext cx="234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ting information? (e.g. on changes affecting wor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84280" y="4138200"/>
              <a:ext cx="675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9280" y="4138200"/>
              <a:ext cx="1126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86080" y="4138200"/>
              <a:ext cx="9003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86440" y="413820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280" y="4932000"/>
              <a:ext cx="234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tribution of work load?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e.g. women / men have it easier)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84280" y="4932000"/>
              <a:ext cx="675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9280" y="4932000"/>
              <a:ext cx="1126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86080" y="4932000"/>
              <a:ext cx="9003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86440" y="493200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80" y="5725800"/>
              <a:ext cx="234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reer progres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84280" y="5725800"/>
              <a:ext cx="67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9280" y="5725800"/>
              <a:ext cx="112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86080" y="572580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86440" y="572580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10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nd schoolchildren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following matters disturb your studying: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Opposite sex’ in the Blaise form is 'boys or men', if the respondent is a woman and 'girls or women', i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 is a man, 'own sex' the other way aroun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2209680"/>
            <a:ext cx="5940720" cy="3511440"/>
            <a:chOff x="380880" y="2209680"/>
            <a:chExt cx="5940720" cy="3511440"/>
          </a:xfrm>
        </p:grpSpPr>
        <p:sp>
          <p:nvSpPr>
            <p:cNvPr id="123" name=""/>
            <p:cNvSpPr/>
            <p:nvPr/>
          </p:nvSpPr>
          <p:spPr>
            <a:xfrm>
              <a:off x="380880" y="2209680"/>
              <a:ext cx="234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20880" y="2209680"/>
              <a:ext cx="584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5160" y="2209680"/>
              <a:ext cx="12160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21240" y="220968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wh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21240" y="220968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2835000"/>
              <a:ext cx="234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udy materials reflect too much the concrete world and experiences of the opposite sex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20880" y="2835000"/>
              <a:ext cx="584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05160" y="2835000"/>
              <a:ext cx="1216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21240" y="2835000"/>
              <a:ext cx="90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1240" y="2835000"/>
              <a:ext cx="90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3796920"/>
              <a:ext cx="2340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me teachers draw too much from the concrete world and experiences of the opposite sex in selecting the contents of their teaching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20880" y="3796920"/>
              <a:ext cx="5842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5160" y="3796920"/>
              <a:ext cx="12160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21240" y="3796920"/>
              <a:ext cx="900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1240" y="3796920"/>
              <a:ext cx="9003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927320"/>
              <a:ext cx="234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s of the opposite sex get the most interesting assignmen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0880" y="4927320"/>
              <a:ext cx="584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05160" y="4927320"/>
              <a:ext cx="1216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21240" y="4927320"/>
              <a:ext cx="90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21240" y="4927320"/>
              <a:ext cx="90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1428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 and salary earners: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3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questions concern the attitude to the use of family leaves at your workplace. (Family leaves are leaves offering the parents a possibility to stay home nursing their child for a certain period.) Is it difficul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14400" y="1295280"/>
            <a:ext cx="6582960" cy="5267520"/>
            <a:chOff x="914400" y="1295280"/>
            <a:chExt cx="6582960" cy="5267520"/>
          </a:xfrm>
        </p:grpSpPr>
        <p:sp>
          <p:nvSpPr>
            <p:cNvPr id="145" name=""/>
            <p:cNvSpPr/>
            <p:nvPr/>
          </p:nvSpPr>
          <p:spPr>
            <a:xfrm>
              <a:off x="914400" y="1295280"/>
              <a:ext cx="1981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1295280"/>
              <a:ext cx="583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79760" y="1295280"/>
              <a:ext cx="867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8080" y="129528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wha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1295280"/>
              <a:ext cx="53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earl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7360" y="129528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88080" y="129528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400" y="2089080"/>
              <a:ext cx="1981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omen to take a maternity and family leave of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arly a year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95480" y="2089080"/>
              <a:ext cx="5839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79760" y="2089080"/>
              <a:ext cx="867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8080" y="208908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57720" y="2089080"/>
              <a:ext cx="53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97360" y="208908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88080" y="208908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3051000"/>
              <a:ext cx="1981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men to take a paternity leave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three weeks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95480" y="3051000"/>
              <a:ext cx="583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79760" y="3051000"/>
              <a:ext cx="867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8080" y="30510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7720" y="3051000"/>
              <a:ext cx="53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97360" y="305100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8080" y="30510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4400" y="3844800"/>
              <a:ext cx="1981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men to take a family leave of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e to six month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95480" y="3844800"/>
              <a:ext cx="583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79760" y="3844800"/>
              <a:ext cx="867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8080" y="38448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7720" y="3844800"/>
              <a:ext cx="53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97360" y="384480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88080" y="38448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4638600"/>
              <a:ext cx="1981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omen to take a child nursing leave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til the child is  three years ol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4638600"/>
              <a:ext cx="5839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9760" y="4638600"/>
              <a:ext cx="867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8080" y="463860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57720" y="4638600"/>
              <a:ext cx="53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97360" y="463860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88080" y="463860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4400" y="5600520"/>
              <a:ext cx="19810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men to take a child nursing leave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til the child is three years ol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5480" y="5600520"/>
              <a:ext cx="5839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9760" y="5600520"/>
              <a:ext cx="8679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8080" y="5600520"/>
              <a:ext cx="8092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57720" y="5600520"/>
              <a:ext cx="5392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7360" y="5600520"/>
              <a:ext cx="99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8080" y="5600520"/>
              <a:ext cx="8092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9:23:13Z</dcterms:created>
  <dc:creator>UNECE</dc:creator>
  <dc:description/>
  <dc:language>en-US</dc:language>
  <cp:lastModifiedBy>UNECE</cp:lastModifiedBy>
  <dcterms:modified xsi:type="dcterms:W3CDTF">2004-10-20T12:16:41Z</dcterms:modified>
  <cp:revision>38</cp:revision>
  <dc:subject/>
  <dc:title>The Gender Barometer 2004 in Finland Survey Questionnaire[1]  [1] This form has not been used in the interviews in its concrete form, because the interviews were computer-aided. </dc:title>
</cp:coreProperties>
</file>