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C7D-BEC4-4C96-9A95-CBEF3700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108-09AC-407D-8AD7-89CAA677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C11-A5DC-47D6-8167-51940017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913-F2D6-40A6-9368-C00F6096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9F0-5A8E-4B16-835B-BE227451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3F6-3BC0-4EA9-B5F1-A3BC74C4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389-6321-4348-B539-D35E6893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7EF-539E-4C32-9834-CED81062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49B-0A0C-4E27-9F98-5E20A42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A52-26B9-4484-83EB-4B030F1A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E3B-C0D6-4D42-BE97-F4945754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FDB-FC12-4FB7-9A40-CFB18397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D892-D0EF-420F-AD85-FD67D3F3D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3333cc"/>
                </a:solidFill>
                <a:latin typeface="Helvetica-Narrow"/>
              </a:rPr>
              <a:t>The Gender Barometer in Finland</a:t>
            </a:r>
            <a:br>
              <a:rPr sz="4400"/>
            </a:br>
            <a:br>
              <a:rPr sz="1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05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s living permanently with their spouse in the common household who have children under the age of 18 living permanently in the household: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8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 in your household was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ten responsible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ollowing matt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st autum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2640" y="814320"/>
            <a:ext cx="6802560" cy="6022800"/>
            <a:chOff x="512640" y="814320"/>
            <a:chExt cx="6802560" cy="6022800"/>
          </a:xfrm>
        </p:grpSpPr>
        <p:sp>
          <p:nvSpPr>
            <p:cNvPr id="189" name=""/>
            <p:cNvSpPr/>
            <p:nvPr/>
          </p:nvSpPr>
          <p:spPr>
            <a:xfrm>
              <a:off x="512640" y="814320"/>
              <a:ext cx="172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38480" y="814320"/>
              <a:ext cx="539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78120" y="814320"/>
              <a:ext cx="539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17760" y="814320"/>
              <a:ext cx="493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1680" y="814320"/>
              <a:ext cx="7668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ther and father equ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8480" y="814320"/>
              <a:ext cx="647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 / child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26120" y="814320"/>
              <a:ext cx="655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other member of the househo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81680" y="814320"/>
              <a:ext cx="809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91320" y="814320"/>
              <a:ext cx="6238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2640" y="2033640"/>
              <a:ext cx="1725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oking on weekdays (also warming of convenience food or food prepared earlier)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38480" y="2033640"/>
              <a:ext cx="53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8120" y="2033640"/>
              <a:ext cx="53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17760" y="2033640"/>
              <a:ext cx="49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2033640"/>
              <a:ext cx="766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8480" y="2033640"/>
              <a:ext cx="647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6120" y="2033640"/>
              <a:ext cx="655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81680" y="2033640"/>
              <a:ext cx="80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91320" y="2033640"/>
              <a:ext cx="623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2640" y="2948040"/>
              <a:ext cx="17258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hing up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38480" y="294804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78120" y="294804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7760" y="2948040"/>
              <a:ext cx="49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1680" y="2948040"/>
              <a:ext cx="76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8480" y="2948040"/>
              <a:ext cx="647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26120" y="2948040"/>
              <a:ext cx="6555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81680" y="2948040"/>
              <a:ext cx="80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91320" y="2948040"/>
              <a:ext cx="6238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2640" y="3573360"/>
              <a:ext cx="17258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ing the wash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357336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78120" y="357336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17760" y="3573360"/>
              <a:ext cx="49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11680" y="3573360"/>
              <a:ext cx="76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8480" y="3573360"/>
              <a:ext cx="647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26120" y="3573360"/>
              <a:ext cx="6555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1680" y="3573360"/>
              <a:ext cx="80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91320" y="3573360"/>
              <a:ext cx="6238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2640" y="4198680"/>
              <a:ext cx="17258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ro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4198680"/>
              <a:ext cx="5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78120" y="4198680"/>
              <a:ext cx="5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17760" y="4198680"/>
              <a:ext cx="493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11680" y="4198680"/>
              <a:ext cx="766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8480" y="4198680"/>
              <a:ext cx="647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6120" y="4198680"/>
              <a:ext cx="655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81680" y="4198680"/>
              <a:ext cx="80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91320" y="4198680"/>
              <a:ext cx="6238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2640" y="4824360"/>
              <a:ext cx="17258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ea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38480" y="482436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8120" y="482436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7760" y="4824360"/>
              <a:ext cx="49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11680" y="4824360"/>
              <a:ext cx="76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8480" y="4824360"/>
              <a:ext cx="647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26120" y="4824360"/>
              <a:ext cx="6555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81680" y="4824360"/>
              <a:ext cx="80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91320" y="4824360"/>
              <a:ext cx="6238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2640" y="5449680"/>
              <a:ext cx="17258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ily shopp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38480" y="5449680"/>
              <a:ext cx="5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78120" y="5449680"/>
              <a:ext cx="5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17760" y="5449680"/>
              <a:ext cx="493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1680" y="5449680"/>
              <a:ext cx="766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8480" y="5449680"/>
              <a:ext cx="647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26120" y="5449680"/>
              <a:ext cx="655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81680" y="5449680"/>
              <a:ext cx="80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91320" y="5449680"/>
              <a:ext cx="6238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2640" y="6075360"/>
              <a:ext cx="172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ing children to day nursery or school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6075360"/>
              <a:ext cx="53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8120" y="6075360"/>
              <a:ext cx="53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7760" y="6075360"/>
              <a:ext cx="4939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1680" y="6075360"/>
              <a:ext cx="7668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6075360"/>
              <a:ext cx="647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26120" y="6075360"/>
              <a:ext cx="6555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81680" y="6075360"/>
              <a:ext cx="80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91320" y="6075360"/>
              <a:ext cx="623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2300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20"/>
                <a:tab algn="l" pos="274680"/>
                <a:tab algn="l" pos="549360"/>
                <a:tab algn="l" pos="925560"/>
                <a:tab algn="l" pos="1749600"/>
                <a:tab algn="l" pos="2571840"/>
                <a:tab algn="l" pos="3394080"/>
                <a:tab algn="l" pos="3780000"/>
                <a:tab algn="l" pos="4751280"/>
                <a:tab algn="l" pos="5864400"/>
                <a:tab algn="l" pos="6686640"/>
                <a:tab algn="l" pos="7508880"/>
                <a:tab algn="l" pos="8332920"/>
                <a:tab algn="l" pos="9155160"/>
                <a:tab algn="l" pos="9979200"/>
                <a:tab algn="l" pos="11623680"/>
                <a:tab algn="l" pos="12447720"/>
                <a:tab algn="l" pos="13269960"/>
                <a:tab algn="l" pos="14094000"/>
                <a:tab algn="l" pos="14916240"/>
                <a:tab algn="l" pos="15738480"/>
                <a:tab algn="l" pos="17291160"/>
                <a:tab algn="l" pos="17384760"/>
                <a:tab algn="l" pos="18114840"/>
                <a:tab algn="l" pos="18208800"/>
                <a:tab algn="l" pos="18937440"/>
                <a:tab algn="l" pos="19031040"/>
                <a:tab algn="l" pos="19761120"/>
                <a:tab algn="l" pos="19853280"/>
                <a:tab algn="l" pos="83923200"/>
                <a:tab algn="l" pos="84651840"/>
                <a:tab algn="l" pos="84745440"/>
                <a:tab algn="l" pos="85475880"/>
                <a:tab algn="l" pos="85569480"/>
                <a:tab algn="l" pos="86298120"/>
                <a:tab algn="l" pos="86391720"/>
                <a:tab algn="l" pos="872139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habiting or married spouses: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13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disagree with your (present) spouse on the following mat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320"/>
                <a:tab algn="l" pos="274680"/>
                <a:tab algn="l" pos="549360"/>
                <a:tab algn="l" pos="925560"/>
                <a:tab algn="l" pos="1749600"/>
                <a:tab algn="l" pos="2571840"/>
                <a:tab algn="l" pos="3394080"/>
                <a:tab algn="l" pos="3780000"/>
                <a:tab algn="l" pos="4751280"/>
                <a:tab algn="l" pos="5864400"/>
                <a:tab algn="l" pos="6686640"/>
                <a:tab algn="l" pos="7508880"/>
                <a:tab algn="l" pos="8332920"/>
                <a:tab algn="l" pos="9155160"/>
                <a:tab algn="l" pos="9979200"/>
                <a:tab algn="l" pos="11623680"/>
                <a:tab algn="l" pos="12447720"/>
                <a:tab algn="l" pos="13269960"/>
                <a:tab algn="l" pos="14094000"/>
                <a:tab algn="l" pos="14916240"/>
                <a:tab algn="l" pos="15738480"/>
                <a:tab algn="l" pos="17291160"/>
                <a:tab algn="l" pos="17384760"/>
                <a:tab algn="l" pos="18114840"/>
                <a:tab algn="l" pos="18208800"/>
                <a:tab algn="l" pos="18937440"/>
                <a:tab algn="l" pos="19031040"/>
                <a:tab algn="l" pos="19761120"/>
                <a:tab algn="l" pos="19853280"/>
                <a:tab algn="l" pos="83923200"/>
                <a:tab algn="l" pos="84651840"/>
                <a:tab algn="l" pos="84745440"/>
                <a:tab algn="l" pos="85475880"/>
                <a:tab algn="l" pos="85569480"/>
                <a:tab algn="l" pos="86298120"/>
                <a:tab algn="l" pos="86391720"/>
                <a:tab algn="l" pos="87213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1960" y="838080"/>
            <a:ext cx="6482880" cy="5603760"/>
            <a:chOff x="831960" y="838080"/>
            <a:chExt cx="6482880" cy="5603760"/>
          </a:xfrm>
        </p:grpSpPr>
        <p:sp>
          <p:nvSpPr>
            <p:cNvPr id="263" name=""/>
            <p:cNvSpPr/>
            <p:nvPr/>
          </p:nvSpPr>
          <p:spPr>
            <a:xfrm>
              <a:off x="831960" y="838080"/>
              <a:ext cx="233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71600" y="838080"/>
              <a:ext cx="674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46600" y="838080"/>
              <a:ext cx="89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46600" y="83808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some ext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37320" y="838080"/>
              <a:ext cx="89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at 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7320" y="838080"/>
              <a:ext cx="6775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960" y="1631880"/>
              <a:ext cx="23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aring household work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1600" y="1631880"/>
              <a:ext cx="674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46600" y="1631880"/>
              <a:ext cx="89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6600" y="163188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37320" y="1631880"/>
              <a:ext cx="89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37320" y="1631880"/>
              <a:ext cx="677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1960" y="2257200"/>
              <a:ext cx="233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s with children under the age of 18 living permanently  in their household: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ild care, taking them to activities etc.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1600" y="2257200"/>
              <a:ext cx="674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6600" y="2257200"/>
              <a:ext cx="89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46600" y="2257200"/>
              <a:ext cx="99036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37320" y="2257200"/>
              <a:ext cx="89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37320" y="2257200"/>
              <a:ext cx="6775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1960" y="3555720"/>
              <a:ext cx="233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s with children under the age of 10 living permanently in their household: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ing absent from work when the child falls ill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71600" y="3555720"/>
              <a:ext cx="674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6600" y="3555720"/>
              <a:ext cx="89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6600" y="3555720"/>
              <a:ext cx="99036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37320" y="3555720"/>
              <a:ext cx="8996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37320" y="3555720"/>
              <a:ext cx="6775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31960" y="4854240"/>
              <a:ext cx="233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nding money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1600" y="4854240"/>
              <a:ext cx="674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6600" y="4854240"/>
              <a:ext cx="89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46600" y="4854240"/>
              <a:ext cx="99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37320" y="4854240"/>
              <a:ext cx="89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37320" y="4854240"/>
              <a:ext cx="6775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1960" y="5479920"/>
              <a:ext cx="233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ount of time used for hobbies or leisure pursuits?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eaning spouses’ hobbi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71600" y="5479920"/>
              <a:ext cx="674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46600" y="5479920"/>
              <a:ext cx="89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46600" y="547992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37320" y="5479920"/>
              <a:ext cx="89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7320" y="5479920"/>
              <a:ext cx="6775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-586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1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re in your various living environments any members of the opposite sex who at least sometimes take patronising or disparaging attitudes to your comments or suggestions: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members of opposite sex' in the Blaise-form is in the form 'men or boys', if the respondent is a woman, and 'women or girls', if the respondent is a ma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74880" y="903240"/>
            <a:ext cx="6720840" cy="6013440"/>
            <a:chOff x="974880" y="903240"/>
            <a:chExt cx="6720840" cy="6013440"/>
          </a:xfrm>
        </p:grpSpPr>
        <p:sp>
          <p:nvSpPr>
            <p:cNvPr id="301" name=""/>
            <p:cNvSpPr/>
            <p:nvPr/>
          </p:nvSpPr>
          <p:spPr>
            <a:xfrm>
              <a:off x="974880" y="903240"/>
              <a:ext cx="1725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00360" y="903240"/>
              <a:ext cx="495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95720" y="903240"/>
              <a:ext cx="62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25720" y="903240"/>
              <a:ext cx="63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080" y="903240"/>
              <a:ext cx="809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65720" y="903240"/>
              <a:ext cx="809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v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75360" y="903240"/>
              <a:ext cx="99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6080" y="903240"/>
              <a:ext cx="62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4880" y="1528920"/>
              <a:ext cx="17254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inful employment as main activity: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 your workplac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00360" y="1528920"/>
              <a:ext cx="495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95720" y="1528920"/>
              <a:ext cx="62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5720" y="1528920"/>
              <a:ext cx="630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56080" y="152892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65720" y="152892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75360" y="152892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6080" y="1528920"/>
              <a:ext cx="62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74880" y="2490840"/>
              <a:ext cx="17254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udents and schoolchildren: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your school or study environment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00360" y="2490840"/>
              <a:ext cx="495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95720" y="2490840"/>
              <a:ext cx="6296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25720" y="2490840"/>
              <a:ext cx="630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56080" y="2490840"/>
              <a:ext cx="8092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65720" y="2490840"/>
              <a:ext cx="8092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75360" y="2490840"/>
              <a:ext cx="99036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66080" y="2490840"/>
              <a:ext cx="6296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74880" y="3621240"/>
              <a:ext cx="17254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societies and association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00360" y="3621240"/>
              <a:ext cx="495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95720" y="3621240"/>
              <a:ext cx="62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25720" y="3621240"/>
              <a:ext cx="63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56080" y="362124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65720" y="362124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75360" y="362124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66080" y="3621240"/>
              <a:ext cx="62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74880" y="4415040"/>
              <a:ext cx="1725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mong rel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00360" y="4415040"/>
              <a:ext cx="49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5720" y="441504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25720" y="4415040"/>
              <a:ext cx="63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56080" y="441504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65720" y="441504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75360" y="441504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66080" y="441504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74880" y="5040360"/>
              <a:ext cx="1725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mong neighbour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00360" y="5040360"/>
              <a:ext cx="49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95720" y="504036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25720" y="5040360"/>
              <a:ext cx="63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56080" y="504036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65720" y="504036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75360" y="504036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66080" y="504036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74880" y="5665680"/>
              <a:ext cx="1725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leisure environmen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00360" y="5665680"/>
              <a:ext cx="495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95720" y="5665680"/>
              <a:ext cx="62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25720" y="5665680"/>
              <a:ext cx="63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56080" y="5665680"/>
              <a:ext cx="809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65720" y="5665680"/>
              <a:ext cx="809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75360" y="5665680"/>
              <a:ext cx="99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66080" y="5665680"/>
              <a:ext cx="6296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74880" y="6291360"/>
              <a:ext cx="1725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mong other friend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00360" y="6291360"/>
              <a:ext cx="49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95720" y="629136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25720" y="6291360"/>
              <a:ext cx="63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56080" y="629136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65720" y="6291360"/>
              <a:ext cx="809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75360" y="629136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6080" y="6291360"/>
              <a:ext cx="62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04920" y="1295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2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 representative of the opposite sex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ast two year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008000" y="1925640"/>
            <a:ext cx="6916320" cy="3631680"/>
            <a:chOff x="1008000" y="1925640"/>
            <a:chExt cx="6916320" cy="3631680"/>
          </a:xfrm>
        </p:grpSpPr>
        <p:sp>
          <p:nvSpPr>
            <p:cNvPr id="367" name=""/>
            <p:cNvSpPr/>
            <p:nvPr/>
          </p:nvSpPr>
          <p:spPr>
            <a:xfrm>
              <a:off x="1008000" y="1925640"/>
              <a:ext cx="27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08000" y="1925640"/>
              <a:ext cx="85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62280" y="1925640"/>
              <a:ext cx="116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32280" y="1925640"/>
              <a:ext cx="1291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24320" y="192564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8000" y="2550960"/>
              <a:ext cx="27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de any impertinent remarks about your body or sexualit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08000" y="2550960"/>
              <a:ext cx="85392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62280" y="2550960"/>
              <a:ext cx="1169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32280" y="2550960"/>
              <a:ext cx="12916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24320" y="255096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8000" y="3344760"/>
              <a:ext cx="27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osed sexual relations in an improper context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08000" y="3344760"/>
              <a:ext cx="85392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2280" y="3344760"/>
              <a:ext cx="1169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32280" y="3344760"/>
              <a:ext cx="12916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24320" y="334476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08000" y="4138560"/>
              <a:ext cx="2700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ld dirty jokes or used expressions which you considered insulting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8000" y="4138560"/>
              <a:ext cx="85392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62280" y="4138560"/>
              <a:ext cx="116964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32280" y="4138560"/>
              <a:ext cx="12916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24320" y="4138560"/>
              <a:ext cx="900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8000" y="4932000"/>
              <a:ext cx="27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de a physical pass at you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08000" y="4932000"/>
              <a:ext cx="8539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62280" y="4932000"/>
              <a:ext cx="116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32280" y="4932000"/>
              <a:ext cx="1291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24320" y="493200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171468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2A=1: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3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 has or have made impertinent remarks concerning your body or sexual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2B=1: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3B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has or have proposed sexual relations in an improper contex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2C=1: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3C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has or have told dirty jokes or used expressions which you considered insult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2D=1: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3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 has or have made physical passes at you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1047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1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you afraid of being a victim of violence or are you therefore on your guard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127160" y="1673280"/>
            <a:ext cx="6721560" cy="4137120"/>
            <a:chOff x="1127160" y="1673280"/>
            <a:chExt cx="6721560" cy="4137120"/>
          </a:xfrm>
        </p:grpSpPr>
        <p:sp>
          <p:nvSpPr>
            <p:cNvPr id="395" name=""/>
            <p:cNvSpPr/>
            <p:nvPr/>
          </p:nvSpPr>
          <p:spPr>
            <a:xfrm>
              <a:off x="1127160" y="1673280"/>
              <a:ext cx="17258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53000" y="1673280"/>
              <a:ext cx="495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48360" y="1673280"/>
              <a:ext cx="6300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8360" y="1673280"/>
              <a:ext cx="900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least every now and th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78720" y="1673280"/>
              <a:ext cx="5396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y seldo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18360" y="1673280"/>
              <a:ext cx="630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48720" y="1673280"/>
              <a:ext cx="990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9080" y="1673280"/>
              <a:ext cx="8096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27160" y="2635560"/>
              <a:ext cx="17258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you are out at night alon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53000" y="2635560"/>
              <a:ext cx="495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48360" y="2635560"/>
              <a:ext cx="63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78360" y="2635560"/>
              <a:ext cx="90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8720" y="2635560"/>
              <a:ext cx="53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18360" y="2635560"/>
              <a:ext cx="63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48720" y="263556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39080" y="2635560"/>
              <a:ext cx="80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7160" y="3429360"/>
              <a:ext cx="17258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you are using public transport vehicles at night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53000" y="3429360"/>
              <a:ext cx="495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48360" y="3429360"/>
              <a:ext cx="630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78360" y="3429360"/>
              <a:ext cx="90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78720" y="3429360"/>
              <a:ext cx="53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8360" y="3429360"/>
              <a:ext cx="63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48720" y="342936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39080" y="3429360"/>
              <a:ext cx="809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27160" y="4391280"/>
              <a:ext cx="17258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you are on duty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53000" y="4391280"/>
              <a:ext cx="495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48360" y="4391280"/>
              <a:ext cx="63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78360" y="4391280"/>
              <a:ext cx="90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78720" y="4391280"/>
              <a:ext cx="53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18360" y="4391280"/>
              <a:ext cx="63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48720" y="4391280"/>
              <a:ext cx="99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39080" y="4391280"/>
              <a:ext cx="8096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27160" y="5016600"/>
              <a:ext cx="17258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you are with your family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53000" y="5016600"/>
              <a:ext cx="495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48360" y="5016600"/>
              <a:ext cx="63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78360" y="5016600"/>
              <a:ext cx="90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78720" y="5016600"/>
              <a:ext cx="53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8360" y="5016600"/>
              <a:ext cx="63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48720" y="501660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39080" y="5016600"/>
              <a:ext cx="80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ed by the Council for Equality in 1998 and 2001 and by the Unit of Equality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views and the analyses were conducted in Statistics Fin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estionnaire and the analyses were formed in co-operation with a steer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ed interview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to the respon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d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ed by computer-aided telephone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ing from the Population Regist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size 2,500,  acceptable replies 1,9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the barometer interview approximately 15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f the interview have been targeted at certain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estionnaire consists of four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s of and attitudes to 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s and experiences of his or her own workplace or educational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ciling famil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between women and 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28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L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we evaluate quite generally the mutual status of Finnish men and women at present, which one of the following statements corresponds to your own view the be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he status of men in the society is (approximately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than that of wom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he status of men in the society is (approximately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ght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than that of wom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the status of women is (approximately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than that of men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he status of women is (approximately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ght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than that of m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en and women are equ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04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L3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at do you think of the following statem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06400" y="930240"/>
            <a:ext cx="5444640" cy="5486400"/>
            <a:chOff x="806400" y="930240"/>
            <a:chExt cx="5444640" cy="5486400"/>
          </a:xfrm>
        </p:grpSpPr>
        <p:sp>
          <p:nvSpPr>
            <p:cNvPr id="48" name=""/>
            <p:cNvSpPr/>
            <p:nvPr/>
          </p:nvSpPr>
          <p:spPr>
            <a:xfrm>
              <a:off x="806400" y="930240"/>
              <a:ext cx="1844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51040" y="930240"/>
              <a:ext cx="629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81040" y="930240"/>
              <a:ext cx="630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ly ag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11400" y="930240"/>
              <a:ext cx="809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e or less ag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21040" y="930240"/>
              <a:ext cx="899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e of less disag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21040" y="930240"/>
              <a:ext cx="630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ly disag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400" y="1692360"/>
              <a:ext cx="1844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omen should play a greater role in politics to add more diversity to the political expertis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51040" y="1692360"/>
              <a:ext cx="62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81040" y="1692360"/>
              <a:ext cx="6300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11400" y="1692360"/>
              <a:ext cx="809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1040" y="1692360"/>
              <a:ext cx="89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21040" y="1692360"/>
              <a:ext cx="6300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6400" y="2759040"/>
              <a:ext cx="18446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and the economy would benefit if there were more women than at present in senior position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51040" y="2759040"/>
              <a:ext cx="6296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81040" y="2759040"/>
              <a:ext cx="6300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11400" y="2759040"/>
              <a:ext cx="80928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21040" y="2759040"/>
              <a:ext cx="8996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21040" y="2759040"/>
              <a:ext cx="6300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6400" y="3826080"/>
              <a:ext cx="1844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re men than at present should be involved in public social and health care servic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51040" y="3826080"/>
              <a:ext cx="62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81040" y="3826080"/>
              <a:ext cx="630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11400" y="3826080"/>
              <a:ext cx="809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1040" y="3826080"/>
              <a:ext cx="89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21040" y="3826080"/>
              <a:ext cx="630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6400" y="4740480"/>
              <a:ext cx="1844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omen and men have equal opportunities in working lif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51040" y="4740480"/>
              <a:ext cx="62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81040" y="4740480"/>
              <a:ext cx="630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11400" y="4740480"/>
              <a:ext cx="8092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21040" y="4740480"/>
              <a:ext cx="89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21040" y="4740480"/>
              <a:ext cx="630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00" y="5502240"/>
              <a:ext cx="1844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rried women have the full right to work whatever their family situatio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51040" y="5502240"/>
              <a:ext cx="62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81040" y="5502240"/>
              <a:ext cx="630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11400" y="5502240"/>
              <a:ext cx="809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21040" y="5502240"/>
              <a:ext cx="899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1040" y="5502240"/>
              <a:ext cx="630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065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20"/>
                <a:tab algn="l" pos="274680"/>
                <a:tab algn="l" pos="549360"/>
                <a:tab algn="l" pos="925560"/>
                <a:tab algn="l" pos="1749600"/>
                <a:tab algn="l" pos="2571840"/>
                <a:tab algn="l" pos="3394080"/>
                <a:tab algn="l" pos="4175280"/>
                <a:tab algn="l" pos="5254560"/>
                <a:tab algn="l" pos="5864400"/>
                <a:tab algn="l" pos="6686640"/>
                <a:tab algn="l" pos="7508880"/>
                <a:tab algn="l" pos="8332920"/>
                <a:tab algn="l" pos="9155160"/>
                <a:tab algn="l" pos="9979200"/>
                <a:tab algn="l" pos="11623680"/>
                <a:tab algn="l" pos="12447720"/>
                <a:tab algn="l" pos="13269960"/>
                <a:tab algn="l" pos="14094000"/>
                <a:tab algn="l" pos="14916240"/>
                <a:tab algn="l" pos="15738480"/>
                <a:tab algn="l" pos="17291160"/>
                <a:tab algn="l" pos="17384760"/>
                <a:tab algn="l" pos="18114840"/>
                <a:tab algn="l" pos="18208800"/>
                <a:tab algn="l" pos="18937440"/>
                <a:tab algn="l" pos="19031040"/>
                <a:tab algn="l" pos="19761120"/>
                <a:tab algn="l" pos="19853280"/>
                <a:tab algn="l" pos="83923200"/>
                <a:tab algn="l" pos="84651840"/>
                <a:tab algn="l" pos="84745440"/>
                <a:tab algn="l" pos="85475880"/>
                <a:tab algn="l" pos="85569480"/>
                <a:tab algn="l" pos="86298120"/>
                <a:tab algn="l" pos="86391720"/>
                <a:tab algn="l" pos="872139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e and salary earners: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4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your gender cause  disadvantage to you in your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 in the following matters: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320"/>
                <a:tab algn="l" pos="274680"/>
                <a:tab algn="l" pos="549360"/>
                <a:tab algn="l" pos="925560"/>
                <a:tab algn="l" pos="1749600"/>
                <a:tab algn="l" pos="2571840"/>
                <a:tab algn="l" pos="3394080"/>
                <a:tab algn="l" pos="4175280"/>
                <a:tab algn="l" pos="5254560"/>
                <a:tab algn="l" pos="5864400"/>
                <a:tab algn="l" pos="6686640"/>
                <a:tab algn="l" pos="7508880"/>
                <a:tab algn="l" pos="8332920"/>
                <a:tab algn="l" pos="9155160"/>
                <a:tab algn="l" pos="9979200"/>
                <a:tab algn="l" pos="11623680"/>
                <a:tab algn="l" pos="12447720"/>
                <a:tab algn="l" pos="13269960"/>
                <a:tab algn="l" pos="14094000"/>
                <a:tab algn="l" pos="14916240"/>
                <a:tab algn="l" pos="15738480"/>
                <a:tab algn="l" pos="17291160"/>
                <a:tab algn="l" pos="17384760"/>
                <a:tab algn="l" pos="18114840"/>
                <a:tab algn="l" pos="18208800"/>
                <a:tab algn="l" pos="18937440"/>
                <a:tab algn="l" pos="19031040"/>
                <a:tab algn="l" pos="19761120"/>
                <a:tab algn="l" pos="19853280"/>
                <a:tab algn="l" pos="83923200"/>
                <a:tab algn="l" pos="84651840"/>
                <a:tab algn="l" pos="84745440"/>
                <a:tab algn="l" pos="85475880"/>
                <a:tab algn="l" pos="85569480"/>
                <a:tab algn="l" pos="86298120"/>
                <a:tab algn="l" pos="86391720"/>
                <a:tab algn="l" pos="87213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280" y="1300320"/>
            <a:ext cx="5942160" cy="5050800"/>
            <a:chOff x="44280" y="1300320"/>
            <a:chExt cx="5942160" cy="5050800"/>
          </a:xfrm>
        </p:grpSpPr>
        <p:sp>
          <p:nvSpPr>
            <p:cNvPr id="86" name=""/>
            <p:cNvSpPr/>
            <p:nvPr/>
          </p:nvSpPr>
          <p:spPr>
            <a:xfrm>
              <a:off x="44280" y="1300320"/>
              <a:ext cx="23400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84280" y="1300320"/>
              <a:ext cx="6750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59280" y="1300320"/>
              <a:ext cx="11268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86080" y="1300320"/>
              <a:ext cx="90036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mewha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86440" y="1300320"/>
              <a:ext cx="9000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at 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80" y="1925280"/>
              <a:ext cx="234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alar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84280" y="1925280"/>
              <a:ext cx="67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9280" y="1925280"/>
              <a:ext cx="112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6080" y="1925280"/>
              <a:ext cx="90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86440" y="192528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280" y="2550960"/>
              <a:ext cx="234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eipt of fringe benefits? (e.g. company cars, telephon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84280" y="2550960"/>
              <a:ext cx="675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59280" y="2550960"/>
              <a:ext cx="1126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86080" y="2550960"/>
              <a:ext cx="9003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86440" y="255096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80" y="3344760"/>
              <a:ext cx="2340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cess to training? (paid by employ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84280" y="3344760"/>
              <a:ext cx="675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59280" y="3344760"/>
              <a:ext cx="11268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86080" y="3344760"/>
              <a:ext cx="90036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86440" y="3344760"/>
              <a:ext cx="9000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280" y="4138200"/>
              <a:ext cx="234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ting information? (e.g. on changes affecting wor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84280" y="4138200"/>
              <a:ext cx="675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9280" y="4138200"/>
              <a:ext cx="1126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86080" y="4138200"/>
              <a:ext cx="9003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86440" y="413820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280" y="4932000"/>
              <a:ext cx="234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tribution of work load?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e.g. women / men have it easier)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84280" y="4932000"/>
              <a:ext cx="675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59280" y="4932000"/>
              <a:ext cx="1126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86080" y="4932000"/>
              <a:ext cx="9003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86440" y="4932000"/>
              <a:ext cx="9000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80" y="5725800"/>
              <a:ext cx="234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reer progres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84280" y="5725800"/>
              <a:ext cx="675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9280" y="5725800"/>
              <a:ext cx="1126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86080" y="5725800"/>
              <a:ext cx="90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86440" y="572580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110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and schoolchildren: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8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following matters disturb your studying: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Opposite sex’ in the Blaise form is 'boys or men', if the respondent is a woman and 'girls or women', i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 is a man, 'own sex' the other way aroun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0880" y="2209680"/>
            <a:ext cx="5940720" cy="3511440"/>
            <a:chOff x="380880" y="2209680"/>
            <a:chExt cx="5940720" cy="3511440"/>
          </a:xfrm>
        </p:grpSpPr>
        <p:sp>
          <p:nvSpPr>
            <p:cNvPr id="123" name=""/>
            <p:cNvSpPr/>
            <p:nvPr/>
          </p:nvSpPr>
          <p:spPr>
            <a:xfrm>
              <a:off x="380880" y="2209680"/>
              <a:ext cx="234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20880" y="2209680"/>
              <a:ext cx="5842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05160" y="2209680"/>
              <a:ext cx="12160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21240" y="2209680"/>
              <a:ext cx="900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mewha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21240" y="2209680"/>
              <a:ext cx="900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at 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80" y="2835000"/>
              <a:ext cx="2340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320"/>
                  <a:tab algn="l" pos="274680"/>
                  <a:tab algn="l" pos="549360"/>
                  <a:tab algn="l" pos="925560"/>
                  <a:tab algn="l" pos="1749600"/>
                  <a:tab algn="l" pos="2571840"/>
                  <a:tab algn="l" pos="3394080"/>
                  <a:tab algn="l" pos="4175280"/>
                  <a:tab algn="l" pos="5254560"/>
                  <a:tab algn="l" pos="5864400"/>
                  <a:tab algn="l" pos="6686640"/>
                  <a:tab algn="l" pos="7508880"/>
                  <a:tab algn="l" pos="8332920"/>
                  <a:tab algn="l" pos="9155160"/>
                  <a:tab algn="l" pos="9979200"/>
                  <a:tab algn="l" pos="11623680"/>
                  <a:tab algn="l" pos="12447720"/>
                  <a:tab algn="l" pos="13269960"/>
                  <a:tab algn="l" pos="14094000"/>
                  <a:tab algn="l" pos="14916240"/>
                  <a:tab algn="l" pos="15738480"/>
                  <a:tab algn="l" pos="17291160"/>
                  <a:tab algn="l" pos="17384760"/>
                  <a:tab algn="l" pos="18114840"/>
                  <a:tab algn="l" pos="18208800"/>
                  <a:tab algn="l" pos="18937440"/>
                  <a:tab algn="l" pos="19031040"/>
                  <a:tab algn="l" pos="19761120"/>
                  <a:tab algn="l" pos="19853280"/>
                  <a:tab algn="l" pos="83923200"/>
                  <a:tab algn="l" pos="84651840"/>
                  <a:tab algn="l" pos="84745440"/>
                  <a:tab algn="l" pos="85475880"/>
                  <a:tab algn="l" pos="85569480"/>
                  <a:tab algn="l" pos="86298120"/>
                  <a:tab algn="l" pos="86391720"/>
                  <a:tab algn="l" pos="872139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udy materials reflect too much the concrete world and experiences of the opposite sex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20880" y="2835000"/>
              <a:ext cx="584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05160" y="2835000"/>
              <a:ext cx="12160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21240" y="2835000"/>
              <a:ext cx="900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21240" y="2835000"/>
              <a:ext cx="90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880" y="3796920"/>
              <a:ext cx="2340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ome teachers draw too much from the concrete world and experiences of the opposite sex in selecting the contents of their teaching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20880" y="3796920"/>
              <a:ext cx="5842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05160" y="3796920"/>
              <a:ext cx="12160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21240" y="3796920"/>
              <a:ext cx="900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21240" y="3796920"/>
              <a:ext cx="90036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4927320"/>
              <a:ext cx="234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s of the opposite sex get the most interesting assignment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0880" y="4927320"/>
              <a:ext cx="584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05160" y="4927320"/>
              <a:ext cx="1216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21240" y="4927320"/>
              <a:ext cx="900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21240" y="4927320"/>
              <a:ext cx="90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1428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46280"/>
                <a:tab algn="l" pos="192096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e and salary earners: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3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questions concern the attitude to the use of family leaves at your workplace. (Family leaves are leaves offering the parents a possibility to stay home nursing their child for a certain period.) Is it difficul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14400" y="1295280"/>
            <a:ext cx="6582960" cy="5267520"/>
            <a:chOff x="914400" y="1295280"/>
            <a:chExt cx="6582960" cy="5267520"/>
          </a:xfrm>
        </p:grpSpPr>
        <p:sp>
          <p:nvSpPr>
            <p:cNvPr id="145" name=""/>
            <p:cNvSpPr/>
            <p:nvPr/>
          </p:nvSpPr>
          <p:spPr>
            <a:xfrm>
              <a:off x="914400" y="1295280"/>
              <a:ext cx="1981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1295280"/>
              <a:ext cx="5839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79760" y="1295280"/>
              <a:ext cx="8679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at al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8080" y="129528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mewha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1295280"/>
              <a:ext cx="53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earl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97360" y="129528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88080" y="129528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4400" y="2089080"/>
              <a:ext cx="19810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women to take a maternity and family leave of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arly a year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95480" y="2089080"/>
              <a:ext cx="5839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79760" y="2089080"/>
              <a:ext cx="867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8080" y="208908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57720" y="2089080"/>
              <a:ext cx="53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97360" y="208908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88080" y="208908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3051000"/>
              <a:ext cx="1981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men to take a paternity leave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 three weeks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95480" y="3051000"/>
              <a:ext cx="5839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79760" y="3051000"/>
              <a:ext cx="8679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8080" y="305100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57720" y="3051000"/>
              <a:ext cx="53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97360" y="305100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8080" y="305100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14400" y="3844800"/>
              <a:ext cx="1981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men to take a family leave of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e to six month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95480" y="3844800"/>
              <a:ext cx="5839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79760" y="3844800"/>
              <a:ext cx="8679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48080" y="384480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57720" y="3844800"/>
              <a:ext cx="53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97360" y="3844800"/>
              <a:ext cx="9903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88080" y="3844800"/>
              <a:ext cx="809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4638600"/>
              <a:ext cx="19810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women to take a child nursing leave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til the child is  three years old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5480" y="4638600"/>
              <a:ext cx="5839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9760" y="4638600"/>
              <a:ext cx="867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48080" y="463860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57720" y="4638600"/>
              <a:ext cx="53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97360" y="4638600"/>
              <a:ext cx="9903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88080" y="4638600"/>
              <a:ext cx="809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4400" y="5600520"/>
              <a:ext cx="198108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men to take a child nursing leave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til the child is three years old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95480" y="5600520"/>
              <a:ext cx="5839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79760" y="5600520"/>
              <a:ext cx="8679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48080" y="5600520"/>
              <a:ext cx="80928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57720" y="5600520"/>
              <a:ext cx="53928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97360" y="5600520"/>
              <a:ext cx="990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88080" y="5600520"/>
              <a:ext cx="80928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46280"/>
                  <a:tab algn="l" pos="192096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9:23:13Z</dcterms:created>
  <dc:creator>UNECE</dc:creator>
  <dc:description/>
  <dc:language>en-US</dc:language>
  <cp:lastModifiedBy>UNECE</cp:lastModifiedBy>
  <dcterms:modified xsi:type="dcterms:W3CDTF">2004-10-20T12:16:41Z</dcterms:modified>
  <cp:revision>38</cp:revision>
  <dc:subject/>
  <dc:title>The Gender Barometer 2004 in Finland Survey Questionnaire[1]  [1] This form has not been used in the interviews in its concrete form, because the interviews were computer-aided. </dc:title>
</cp:coreProperties>
</file>