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263-F5D8-4C6D-AD19-F65471FB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5FD-5E77-447A-9595-58626CB7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716-B189-4A35-A135-20BA6512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769-3545-4E51-8609-927CE396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813-D3DD-4662-AE38-B5A10D49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BC0-8259-4044-9A0B-7769824B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C6C-E4B0-466F-B3D9-1A6FC90C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510-6996-40D1-BF48-A926F076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C2A-6F81-4D6B-9EA2-0E0CEE1A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AF8-AF05-457F-B6F8-DFFBCE24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19E-1A5A-43F5-A1D7-2202744D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C53-FD49-42C4-9B0D-79F8103B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DEB0-767C-4C1B-BCD9-50C22F7F3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CE Gender Statistics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user’s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 by Eva Fo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304920"/>
          <a:ext cx="3048120" cy="16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304812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952880" y="6094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5335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6778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609480"/>
            <a:ext cx="31240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paper no.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October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ECE Work Session on Gende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ganized in cooperation with UNDP-UNFPA-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Geneva, 18-20 October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5160" y="303840"/>
            <a:ext cx="83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y Rates (15-64 year old age group) in 2000, by three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295280"/>
          <a:ext cx="8534520" cy="1994040"/>
        </p:xfrm>
        <a:graphic>
          <a:graphicData uri="http://schemas.openxmlformats.org/drawingml/2006/table">
            <a:tbl>
              <a:tblPr/>
              <a:tblGrid>
                <a:gridCol w="722520"/>
                <a:gridCol w="1158840"/>
                <a:gridCol w="949320"/>
                <a:gridCol w="949320"/>
                <a:gridCol w="949320"/>
                <a:gridCol w="949320"/>
                <a:gridCol w="949320"/>
                <a:gridCol w="946080"/>
                <a:gridCol w="96048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B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B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5760" y="3733920"/>
            <a:ext cx="9227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E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B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  Activity rates from World Bank report: Gender in Transition 200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bor Market data from GenderStats”, 1999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B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 Labor Force participation rates from World Bank report: Gender in Transitio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bor Market data from labor force surveys”, 1999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Final Report 2003, data collected by each country from own labor stat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Foundation for the Improvement of Living and Working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er points- what else would be usef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(weighted?) averages would be useful- EU, CIS, East European EU, same level of G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al dis-aggregation i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ment rates in general! (Can’t calculate it for 15-64 age group, b/c unemployment rates are for 15+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ment rates for different age groups? (For example, for working age defined for each countr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theless, it is 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wonderful resourc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4038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loads of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ory Behind the Numbers: Women and Employment in Central and Eastern Europe and the CIS” (UNIF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Go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to evaluate conflicting claims in the academic and policy literature on women’s position in the labor markets post 19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ethod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sessing women’s employment chances in 17 countries using UNECE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52280"/>
          <a:ext cx="146196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4619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questions are conf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omen doing worse than before 1990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Yes, most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omen doing worse relative to 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necessarily, but the numbers don’t tell the whol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CE dataset- p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ountries from outside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variety of indicators going back to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s to include gender specific variables, such as time use, access to top level positio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ree, online, access very easy and 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verall: wonderful for research, teaching, or policy making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with state socialist period impossible, practically no data for 1990. What is there may be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4480" y="303480"/>
            <a:ext cx="80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y rates (15-64 year age group, UNECE data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14400" y="1219320"/>
          <a:ext cx="6553080" cy="3716280"/>
        </p:xfrm>
        <a:graphic>
          <a:graphicData uri="http://schemas.openxmlformats.org/drawingml/2006/table">
            <a:tbl>
              <a:tblPr/>
              <a:tblGrid>
                <a:gridCol w="1244520"/>
                <a:gridCol w="1370160"/>
                <a:gridCol w="1369800"/>
                <a:gridCol w="1368720"/>
                <a:gridCol w="1199880"/>
              </a:tblGrid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9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*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997200" y="5119200"/>
            <a:ext cx="75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Data for Poland 1990 refers to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 Data for Bulgaria refers to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* Data for Hungary is from Hungarian Statistical Yearbook, selected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specifically on countries from which data are usually difficult to ob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example, Serbia, Macedonia, Albania, many CIS countri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I found sorely mis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work, unpaid work, immigra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n division of labor, time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 breakd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“inactiv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positions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discrepancies – some larger, some smaller- in different databases.  It is unclear what explains these but this is disconcerting for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6:05:35Z</dcterms:created>
  <dc:creator>Eva Fodor</dc:creator>
  <dc:description/>
  <dc:language>en-US</dc:language>
  <cp:lastModifiedBy>Oyunjargal</cp:lastModifiedBy>
  <dcterms:modified xsi:type="dcterms:W3CDTF">2004-10-17T13:43:30Z</dcterms:modified>
  <cp:revision>20</cp:revision>
  <dc:subject/>
  <dc:title>UNECE Gender Statistics Database</dc:title>
</cp:coreProperties>
</file>