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35B-9300-475A-87C2-69BA00DE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D1B-1C7B-4467-95D7-880B18A1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F61-BDFE-4235-A8A5-90CAD83F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9C4-857D-4659-8343-11B5A8B9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178-5279-4B6B-86A3-908FCE1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D18-0C4F-4108-8D4C-61F9EF7A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5ED-8C96-4157-AB6A-FF41152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E2E-3F21-4808-89DE-3324B351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9AC-202E-4446-981B-B8CAB8D7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289-6E34-4EC3-95FC-36ABD49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DB9-DBC4-4B86-A141-9C5C407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B18-766F-4A99-ADB9-5297090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D14-5B8A-484F-BF9B-0D83DCB7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CE Gender Statistics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user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 by Eva F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04920"/>
          <a:ext cx="3048120" cy="16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304812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952880" y="6094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335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677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609480"/>
            <a:ext cx="31240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paper no.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October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ECE Work Session on Gende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ed in cooperation with UNDP-UNFPA-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Geneva, 18-20 October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5160" y="303840"/>
            <a:ext cx="83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Rates (15-64 year old age group) in 2000, by three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295280"/>
          <a:ext cx="8534520" cy="1994040"/>
        </p:xfrm>
        <a:graphic>
          <a:graphicData uri="http://schemas.openxmlformats.org/drawingml/2006/table">
            <a:tbl>
              <a:tblPr/>
              <a:tblGrid>
                <a:gridCol w="722520"/>
                <a:gridCol w="1158840"/>
                <a:gridCol w="949320"/>
                <a:gridCol w="949320"/>
                <a:gridCol w="949320"/>
                <a:gridCol w="949320"/>
                <a:gridCol w="949320"/>
                <a:gridCol w="946080"/>
                <a:gridCol w="96048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B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B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5760" y="3733920"/>
            <a:ext cx="922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B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 Activity rates from World Bank report: Gender in Transition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or Market data from GenderStats”, 1999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B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Labor Force participation rates from World Bank report: Gender in Transitio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or Market data from labor force surveys”, 1999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Final Report 2003, data collected by each country from own labor stat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Foundation for the Improvement of Living and Work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points- what else would be use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(weighted?) averages would be useful- EU, CIS, East European EU, same level of G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al dis-aggregation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rates in general! (Can’t calculate it for 15-64 age group, b/c unemployment rates are for 15+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rates for different age groups? (For example, for working age defined for each countr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theless, it is 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wonderful resour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oad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ory Behind the Numbers: Women and Employment in Central and Eastern Europe and the CIS” (UNI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Go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to evaluate conflicting claims in the academic and policy literature on women’s position in the labor markets post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ethod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sessing women’s employment chances in 17 countries using UNECE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52280"/>
          <a:ext cx="14619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4619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questions are conf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omen doing worse than before 199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Yes, most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omen doing worse relative to 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necessarily, but the numbers don’t tell the whol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CE dataset- p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ountries from outsid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indicators going back to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to include gender specific variables, such as time use, access to top level positio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ree, online, access very easy and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verall: wonderful for research, teaching, or policy makin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with state socialist period impossible, practically no data for 1990. What is there may be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4480" y="3034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rates (15-64 year age group, UNECE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1219320"/>
          <a:ext cx="6553080" cy="3716280"/>
        </p:xfrm>
        <a:graphic>
          <a:graphicData uri="http://schemas.openxmlformats.org/drawingml/2006/table">
            <a:tbl>
              <a:tblPr/>
              <a:tblGrid>
                <a:gridCol w="1244520"/>
                <a:gridCol w="1370160"/>
                <a:gridCol w="1369800"/>
                <a:gridCol w="1368720"/>
                <a:gridCol w="1199880"/>
              </a:tblGrid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9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997200" y="5119200"/>
            <a:ext cx="75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Data for Poland 1990 refers to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 Data for Bulgaria refers to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 Data for Hungary is from Hungarian Statistical Yearbook, selected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specifically on countries from which data are usually difficult to ob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example, Serbia, Macedonia, Albania, many CIS countri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I found sorely mi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work, unpaid work, immigra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division of labor, time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 break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“inactiv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ositions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discrepancies – some larger, some smaller- in different databases.  It is unclear what explains these but this is disconcerting for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6:05:35Z</dcterms:created>
  <dc:creator>Eva Fodor</dc:creator>
  <dc:description/>
  <dc:language>en-US</dc:language>
  <cp:lastModifiedBy>Oyunjargal</cp:lastModifiedBy>
  <dcterms:modified xsi:type="dcterms:W3CDTF">2004-10-17T13:43:30Z</dcterms:modified>
  <cp:revision>20</cp:revision>
  <dc:subject/>
  <dc:title>UNECE Gender Statistics Database</dc:title>
</cp:coreProperties>
</file>