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0D85F-742B-4C3D-8369-F2FE06BBA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AAF48-1015-4151-8065-D0EE4C42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22307-805A-4F77-BA08-DBA15FF58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38E3E-A228-421D-A768-8C79277A9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32749-8443-4A00-A90F-AC0E3F25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B2927-BF12-4443-9FDB-F89F097C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C4FE0-9412-4EAE-ADB7-E65FECEF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95E86-76A9-475D-86EE-B9423DE7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847D4-82FB-45BA-9192-6B593BC9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08EBB-FCAC-41BD-9150-0B9848F1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7FBE5-C9D8-4E2F-9A35-43FA4067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FD965-28CD-408E-8A8D-4CBFF9D3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un.org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7859-6A84-4D83-8075-7068F56BBA1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-360" y="6552720"/>
            <a:ext cx="3809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ECE Work Session on Gender Statistics (October  200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7672320" y="6400800"/>
            <a:ext cx="1471320" cy="425520"/>
            <a:chOff x="7672320" y="6400800"/>
            <a:chExt cx="1471320" cy="425520"/>
          </a:xfrm>
        </p:grpSpPr>
        <p:pic>
          <p:nvPicPr>
            <p:cNvPr id="7" name="" descr="United Nations Economic Commission for Europe"/>
            <p:cNvPicPr/>
            <p:nvPr/>
          </p:nvPicPr>
          <p:blipFill>
            <a:blip r:embed="rId2"/>
            <a:stretch/>
          </p:blipFill>
          <p:spPr>
            <a:xfrm>
              <a:off x="8100360" y="6443640"/>
              <a:ext cx="1043280" cy="38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unlogo" descr="United Nations">
              <a:hlinkClick r:id="rId3"/>
            </p:cNvPr>
            <p:cNvPicPr/>
            <p:nvPr/>
          </p:nvPicPr>
          <p:blipFill>
            <a:blip r:embed="rId4">
              <a:lum bright="2000"/>
            </a:blip>
            <a:stretch/>
          </p:blipFill>
          <p:spPr>
            <a:xfrm>
              <a:off x="7672320" y="6400800"/>
              <a:ext cx="426240" cy="3585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un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243792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3399"/>
                </a:solidFill>
                <a:latin typeface="Arial"/>
              </a:rPr>
              <a:t>The UNECE-UNDP Website and Database:  Where We Are and Where We Would Like to G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ie Si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t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conomic Commission for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istical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United Nations Economic Commission for Europe"/>
          <p:cNvPicPr/>
          <p:nvPr/>
        </p:nvPicPr>
        <p:blipFill>
          <a:blip r:embed="rId1"/>
          <a:stretch/>
        </p:blipFill>
        <p:spPr>
          <a:xfrm>
            <a:off x="7238880" y="533520"/>
            <a:ext cx="1857600" cy="680760"/>
          </a:xfrm>
          <a:prstGeom prst="rect">
            <a:avLst/>
          </a:prstGeom>
          <a:ln w="0">
            <a:noFill/>
          </a:ln>
        </p:spPr>
      </p:pic>
      <p:pic>
        <p:nvPicPr>
          <p:cNvPr id="48" name="unlogo" descr="United Nations">
            <a:hlinkClick r:id="rId2"/>
          </p:cNvPr>
          <p:cNvPicPr/>
          <p:nvPr/>
        </p:nvPicPr>
        <p:blipFill>
          <a:blip r:embed="rId3">
            <a:lum bright="2000"/>
          </a:blip>
          <a:stretch/>
        </p:blipFill>
        <p:spPr>
          <a:xfrm>
            <a:off x="6477120" y="457200"/>
            <a:ext cx="758880" cy="638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65240" y="42609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UNECE Work Session on Gender Statistics (September 2004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Arial"/>
              </a:rPr>
              <a:t>PC Axis User Interfa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UNECE Work Session on Gender Statistics (September 2004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GB" sz="3800" spc="-1" strike="noStrike">
                <a:solidFill>
                  <a:srgbClr val="003399"/>
                </a:solidFill>
                <a:latin typeface="Arial"/>
              </a:rPr>
              <a:t>Old User Interface</a:t>
            </a: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0" t="-25" r="18018" b="34114"/>
          <a:stretch/>
        </p:blipFill>
        <p:spPr>
          <a:xfrm>
            <a:off x="101520" y="819000"/>
            <a:ext cx="8915400" cy="568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UNECE Work Session on Gender Statistics (September 2004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99"/>
                </a:solidFill>
                <a:latin typeface="Arial"/>
              </a:rPr>
              <a:t>New user interfa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0" t="-1609" r="6999" b="25811"/>
          <a:stretch/>
        </p:blipFill>
        <p:spPr>
          <a:xfrm>
            <a:off x="63360" y="914400"/>
            <a:ext cx="89917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UNECE Work Session on Gender Statistics (September 2004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fr-CH" sz="3400" spc="-1" strike="noStrike">
                <a:solidFill>
                  <a:srgbClr val="003399"/>
                </a:solidFill>
                <a:latin typeface="Arial"/>
              </a:rPr>
              <a:t>Features of PC-Axis, the new user interface</a:t>
            </a:r>
            <a:br>
              <a:rPr sz="38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0" t="0" r="7272" b="15942"/>
          <a:stretch/>
        </p:blipFill>
        <p:spPr>
          <a:xfrm>
            <a:off x="63360" y="914400"/>
            <a:ext cx="8991720" cy="533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UNECE Work Session on Gender Statistics (September 2004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ld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0" t="0" r="11016" b="16764"/>
          <a:stretch/>
        </p:blipFill>
        <p:spPr>
          <a:xfrm>
            <a:off x="76320" y="1003320"/>
            <a:ext cx="8915400" cy="5321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UNECE Work Session on Gender Statistics (September 2004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3399"/>
                </a:solidFill>
                <a:latin typeface="Arial"/>
              </a:rPr>
              <a:t>Sample of what PC Axis can do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0" t="0" r="5308" b="28169"/>
          <a:stretch/>
        </p:blipFill>
        <p:spPr>
          <a:xfrm>
            <a:off x="76320" y="1015920"/>
            <a:ext cx="8991360" cy="492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UNECE Work Session on Gender Statistics (September 2004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3399"/>
                </a:solidFill>
                <a:latin typeface="Arial"/>
              </a:rPr>
              <a:t>PC-Axis Pivot Op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0" t="0" r="6087" b="20288"/>
          <a:stretch/>
        </p:blipFill>
        <p:spPr>
          <a:xfrm>
            <a:off x="152280" y="1066680"/>
            <a:ext cx="8839440" cy="487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UNECE Work Session on Gender Statistics (September 2004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l download o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0" t="0" r="24512" b="5970"/>
          <a:stretch/>
        </p:blipFill>
        <p:spPr>
          <a:xfrm>
            <a:off x="1143000" y="990720"/>
            <a:ext cx="701028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UNECE Work Session on Gender Statistics (September 2004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6000" spc="-1" strike="noStrike">
                <a:solidFill>
                  <a:srgbClr val="0099ff"/>
                </a:solidFill>
                <a:latin typeface="Arial"/>
              </a:rPr>
              <a:t>Where we would like to go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UNECE Work Session on Gender Statistics (September 2004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99"/>
                </a:solidFill>
                <a:latin typeface="Arial"/>
              </a:rPr>
              <a:t>Website Pla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1371600"/>
            <a:ext cx="7391160" cy="50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Website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Updating of 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Strengthen section on Publications.  </a:t>
            </a:r>
            <a:r>
              <a:rPr b="0" i="1" lang="fr-CH" sz="3200" spc="-1" strike="noStrike">
                <a:solidFill>
                  <a:srgbClr val="000000"/>
                </a:solidFill>
                <a:latin typeface="Arial"/>
              </a:rPr>
              <a:t>Feedback would be appreci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Strengthen section on Networks and Links.  </a:t>
            </a:r>
            <a:r>
              <a:rPr b="0" i="1" lang="fr-CH" sz="3200" spc="-1" strike="noStrike">
                <a:solidFill>
                  <a:srgbClr val="000000"/>
                </a:solidFill>
                <a:latin typeface="Arial"/>
              </a:rPr>
              <a:t>Feedback would be appreci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Addition of sections on emerging areas of statistics ie. Entrepreneurship, ICT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UNECE Work Session on Gender Statistics (September 2004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99ff"/>
                </a:solidFill>
                <a:latin typeface="Arial"/>
              </a:rPr>
              <a:t>How we starte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ctober 2000, Orvieto, Italy – Proposal for website at UNECE/UNDP Workshop on Gender Statistics for Policy Monitoring and Benchmarking &amp; Work Session on Gender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y 2001 – Recommendation made for gender indicators for Database at  UNECE/UNDP Task Force Meeting on the Regional Statistics Webs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UNECE Work Session on Gender Statistics (September 2004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Database Plans in Progress and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her, wider range of types of indicators and data 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on of linked data series from multiple sources for gender-relevant indicators for which data is available through international data 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sion of coverage of data to new ar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all, for the Website and Database to become a depository for your statistical materials, publications, questionnair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UNECE Work Session on Gender Statistics (September 2004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site address: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unece.org/stats/gender/web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abase addr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3.unece.org/stat/gender.a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UNECE Work Session on Gender Statistics (September 2004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Arial"/>
              </a:rPr>
              <a:t>We welcome feedback from you in all these are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UNECE Work Session on Gender Statistics (September 2004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99ff"/>
                </a:solidFill>
                <a:latin typeface="Arial"/>
              </a:rPr>
              <a:t>Thank you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UNECE Work Session on Gender Statistics (September 2004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we started (continued)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2001 – Developmental work Gender Statistics Webs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2002 – Developmental work  Gender Statistics Databa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 2002 – First round of data collection.  Gender Questionnaire 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UNECE Work Session on Gender Statistics (September 2004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we started (continued)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il 2002 – Launch of Gender Statistics Webs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2002-April 2003  Questionnaire responses arriving. Preparation, finalization and uploading of data into Data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/June 2003 – Official public launch of Gender Statistics Data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UNECE Work Session on Gender Statistics (September 2004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99ff"/>
                </a:solidFill>
                <a:latin typeface="Arial"/>
              </a:rPr>
              <a:t>Where we are 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UNECE Work Session on Gender Statistics (September 2004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serve as a useful and unique gender reference resource providing information on gender policy issues, data and the linkages between them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UNECE Work Session on Gender Statistics (September 2004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Gender Statistics Websit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sections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 to gender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 of main policy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e gender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ssary of gender-relevant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s and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coming gender meeting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UNECE Work Session on Gender Statistics (September 2004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ff"/>
                </a:solidFill>
                <a:latin typeface="Arial"/>
              </a:rPr>
              <a:t>Gender Statistics Databa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policy areas covered by data in the Datab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y and househ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and ec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life and decision-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me and vio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UNECE Work Session on Gender Statistics (September 2004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3399"/>
                </a:solidFill>
                <a:latin typeface="Arial"/>
              </a:rPr>
              <a:t>Recent Improvements and Innovations to Database Interfac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user interface PC Axis Sleeker look and more user-friend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functionalities: easier search, browsing and download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C Axis will go on-line in December 200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UNECE Work Session on Gender Statistics (September 2004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16:51:34Z</dcterms:created>
  <dc:creator>bisogno enrico</dc:creator>
  <dc:description/>
  <dc:language>en-US</dc:language>
  <cp:lastModifiedBy>Sicat</cp:lastModifiedBy>
  <dcterms:modified xsi:type="dcterms:W3CDTF">2004-10-15T10:18:49Z</dcterms:modified>
  <cp:revision>120</cp:revision>
  <dc:subject/>
  <dc:title>A shared approach to defining migrant populations: an uthopia?</dc:title>
</cp:coreProperties>
</file>