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A29E-9E13-409F-A1E4-8A45A437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563E-C86F-4789-AF7A-3DA1FDA3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F79F-4C07-4540-978E-493AE6CF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A844-35BE-40B5-9EE2-D3E88B3E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4B36-42C1-4A46-94DE-281D1DB2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24034-84B9-42A6-8561-A4D701E7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B772-58E5-4AAE-AE59-29C4E81A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C089-03C7-4350-AF27-F3B79802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7831-1F17-41F9-84C3-4961FA0F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B0F4D-B724-4D74-844B-4BCB833F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59BF-4760-4571-8CF9-9D32B72B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3A8B-840E-45B7-B9DB-23E6D55F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2AC5-DD04-4750-8BF2-ABAE2027A1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ECE Work Session on Gender Statistics (October  200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672320" y="6400800"/>
            <a:ext cx="1471320" cy="425520"/>
            <a:chOff x="7672320" y="6400800"/>
            <a:chExt cx="1471320" cy="425520"/>
          </a:xfrm>
        </p:grpSpPr>
        <p:pic>
          <p:nvPicPr>
            <p:cNvPr id="7" name="" descr="United Nations Economic Commission for Europe"/>
            <p:cNvPicPr/>
            <p:nvPr/>
          </p:nvPicPr>
          <p:blipFill>
            <a:blip r:embed="rId2"/>
            <a:stretch/>
          </p:blipFill>
          <p:spPr>
            <a:xfrm>
              <a:off x="8100360" y="6443640"/>
              <a:ext cx="10432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unlogo" descr="United Nations">
              <a:hlinkClick r:id="rId3"/>
            </p:cNvPr>
            <p:cNvPicPr/>
            <p:nvPr/>
          </p:nvPicPr>
          <p:blipFill>
            <a:blip r:embed="rId4">
              <a:lum bright="2000"/>
            </a:blip>
            <a:stretch/>
          </p:blipFill>
          <p:spPr>
            <a:xfrm>
              <a:off x="7672320" y="6400800"/>
              <a:ext cx="426240" cy="35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3399"/>
                </a:solidFill>
                <a:latin typeface="Arial"/>
              </a:rPr>
              <a:t>The UNECE-UNDP Website and Database:  Where We Are and Where We Would Like to G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ie S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ic Commission for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United Nations Economic Commission for Europe"/>
          <p:cNvPicPr/>
          <p:nvPr/>
        </p:nvPicPr>
        <p:blipFill>
          <a:blip r:embed="rId1"/>
          <a:stretch/>
        </p:blipFill>
        <p:spPr>
          <a:xfrm>
            <a:off x="7238880" y="533520"/>
            <a:ext cx="1857600" cy="680760"/>
          </a:xfrm>
          <a:prstGeom prst="rect">
            <a:avLst/>
          </a:prstGeom>
          <a:ln w="0">
            <a:noFill/>
          </a:ln>
        </p:spPr>
      </p:pic>
      <p:pic>
        <p:nvPicPr>
          <p:cNvPr id="48" name="unlogo" descr="United Nations">
            <a:hlinkClick r:id="rId2"/>
          </p:cNvPr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6477120" y="457200"/>
            <a:ext cx="758880" cy="638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4260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Arial"/>
              </a:rPr>
              <a:t>PC Axis User Interfa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GB" sz="3800" spc="-1" strike="noStrike">
                <a:solidFill>
                  <a:srgbClr val="003399"/>
                </a:solidFill>
                <a:latin typeface="Arial"/>
              </a:rPr>
              <a:t>Old User Interface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-25" r="18018" b="34114"/>
          <a:stretch/>
        </p:blipFill>
        <p:spPr>
          <a:xfrm>
            <a:off x="101520" y="819000"/>
            <a:ext cx="8915400" cy="568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New user interf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-1609" r="6999" b="25811"/>
          <a:stretch/>
        </p:blipFill>
        <p:spPr>
          <a:xfrm>
            <a:off x="63360" y="914400"/>
            <a:ext cx="89917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fr-CH" sz="3400" spc="-1" strike="noStrike">
                <a:solidFill>
                  <a:srgbClr val="003399"/>
                </a:solidFill>
                <a:latin typeface="Arial"/>
              </a:rPr>
              <a:t>Features of PC-Axis, the new user interface</a:t>
            </a:r>
            <a:br>
              <a:rPr sz="3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7272" b="15942"/>
          <a:stretch/>
        </p:blipFill>
        <p:spPr>
          <a:xfrm>
            <a:off x="63360" y="914400"/>
            <a:ext cx="899172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ld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11016" b="16764"/>
          <a:stretch/>
        </p:blipFill>
        <p:spPr>
          <a:xfrm>
            <a:off x="76320" y="1003320"/>
            <a:ext cx="891540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Arial"/>
              </a:rPr>
              <a:t>Sample of what PC Axis can d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5308" b="28169"/>
          <a:stretch/>
        </p:blipFill>
        <p:spPr>
          <a:xfrm>
            <a:off x="76320" y="1015920"/>
            <a:ext cx="8991360" cy="492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Arial"/>
              </a:rPr>
              <a:t>PC-Axis Pivot Op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6087" b="20288"/>
          <a:stretch/>
        </p:blipFill>
        <p:spPr>
          <a:xfrm>
            <a:off x="152280" y="1066680"/>
            <a:ext cx="883944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download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24512" b="5970"/>
          <a:stretch/>
        </p:blipFill>
        <p:spPr>
          <a:xfrm>
            <a:off x="1143000" y="990720"/>
            <a:ext cx="701028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000" spc="-1" strike="noStrike">
                <a:solidFill>
                  <a:srgbClr val="0099ff"/>
                </a:solidFill>
                <a:latin typeface="Arial"/>
              </a:rPr>
              <a:t>Where we would like to g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Website Pla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371600"/>
            <a:ext cx="739116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Websit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Updating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trengthen section on Publications.  </a:t>
            </a: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Feedback would be apprec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trengthen section on Networks and Links.  </a:t>
            </a: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Feedback would be apprec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ddition of sections on emerging areas of statistics ie. Entrepreneurship, ICT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ff"/>
                </a:solidFill>
                <a:latin typeface="Arial"/>
              </a:rPr>
              <a:t>How we start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ctober 2000, Orvieto, Italy – Proposal for website at UNECE/UNDP Workshop on Gender Statistics for Policy Monitoring and Benchmarking &amp; Work Session on Gender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2001 – Recommendation made for gender indicators for Database at  UNECE/UNDP Task Force Meeting on the Regional Statistics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Database Plans in Progress and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er, wider range of types of indicators and data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of linked data series from multiple sources for gender-relevant indicators for which data is available through international data 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 of coverage of data to new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, for the Website and Database to become a depository for your statistical materials, publications, questionnai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site address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unece.org/stats/gender/web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base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3.unece.org/stat/gender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We welcome feedback from you in all these ar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ff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we started (continued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2001 – Developmental work Gender Statistics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002 – Developmental work  Gender Statistics Datab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002 – First round of data collection.  Gender Questionnaire 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we started (continued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002 – Launch of Gender Statistics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2-April 2003  Questionnaire responses arriving. Preparation, finalization and uploading of data into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/June 2003 – Official public launch of Gender Statistics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9ff"/>
                </a:solidFill>
                <a:latin typeface="Arial"/>
              </a:rPr>
              <a:t>Where we are 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serve as a useful and unique gender reference resource providing information on gender policy issues, data and the linkages between the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ender Statistics Webs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sec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to gender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main policy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gender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 of gender-relevant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s and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coming gender meeting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Arial"/>
              </a:rPr>
              <a:t>Gender Statistics Datab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olicy areas covered by data in the Datab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and house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and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life and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e and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Arial"/>
              </a:rPr>
              <a:t>Recent Improvements and Innovations to Database Interfa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user interface PC Axis Sleeker look and more user-friend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unctionalities: easier search, browsing and download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C Axis will go on-line in December 200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6:51:34Z</dcterms:created>
  <dc:creator>bisogno enrico</dc:creator>
  <dc:description/>
  <dc:language>en-US</dc:language>
  <cp:lastModifiedBy>Sicat</cp:lastModifiedBy>
  <dcterms:modified xsi:type="dcterms:W3CDTF">2004-10-15T10:18:49Z</dcterms:modified>
  <cp:revision>120</cp:revision>
  <dc:subject/>
  <dc:title>A shared approach to defining migrant populations: an uthopia?</dc:title>
</cp:coreProperties>
</file>