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919D-9749-4AA5-9961-7B7F9DB43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C0C0-B7D4-406C-AE7C-0D1B43914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stinction between driver and passengers of a car, bus or by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all these are available from the GB National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urvey, and should be from most countries with similar survey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cluding the USA and much of Eur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ave data from thei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C6A2-1FE3-4792-9B79-7E2F9B2C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0DA5-44C2-4F92-AB2D-4D31728C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B06E-4AD2-4167-9577-254BBED9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29A4-4D69-4D90-A101-755FD739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9A0D-455B-4CAA-B37F-7310456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1B8D-3B27-45EC-9331-CC11DBD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1FEB-1869-4830-946D-B348F681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BBCB-1B30-4EA7-A9F5-2DB6631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C544-75C6-47E2-BFE4-07CB089A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05EF-6043-47C3-98EB-B97FD6C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E6B6-F021-457C-9A39-CDB00E5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C426-AFEA-4E70-9B38-075214B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141-2BFE-415D-9255-DFF2CBB829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36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CH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3399"/>
                </a:solidFill>
                <a:latin typeface="Arial"/>
              </a:rPr>
              <a:t>UNECE Gender Statistics Database: The Next Ste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672320" y="6400800"/>
            <a:ext cx="1471320" cy="425520"/>
            <a:chOff x="7672320" y="6400800"/>
            <a:chExt cx="1471320" cy="425520"/>
          </a:xfrm>
        </p:grpSpPr>
        <p:pic>
          <p:nvPicPr>
            <p:cNvPr id="7" name="" descr="United Nations Economic Commission for Europe"/>
            <p:cNvPicPr/>
            <p:nvPr/>
          </p:nvPicPr>
          <p:blipFill>
            <a:blip r:embed="rId2"/>
            <a:stretch/>
          </p:blipFill>
          <p:spPr>
            <a:xfrm>
              <a:off x="8100360" y="6443640"/>
              <a:ext cx="10432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unlogo" descr="United Nations">
              <a:hlinkClick r:id="rId3"/>
            </p:cNvPr>
            <p:cNvPicPr/>
            <p:nvPr/>
          </p:nvPicPr>
          <p:blipFill>
            <a:blip r:embed="rId4">
              <a:lum bright="2000"/>
            </a:blip>
            <a:stretch/>
          </p:blipFill>
          <p:spPr>
            <a:xfrm>
              <a:off x="7672320" y="6400800"/>
              <a:ext cx="426240" cy="35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Arial"/>
              </a:rPr>
              <a:t>UNECE Gender Statistics Database: </a:t>
            </a:r>
            <a:br>
              <a:rPr sz="4000"/>
            </a:br>
            <a:r>
              <a:rPr b="0" lang="fr-CH" sz="4000" spc="-1" strike="noStrike">
                <a:solidFill>
                  <a:srgbClr val="003399"/>
                </a:solidFill>
                <a:latin typeface="Arial"/>
              </a:rPr>
              <a:t>The Next Step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nda M. Ho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 Economic Commission for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United Nations Economic Commission for Europe"/>
          <p:cNvPicPr/>
          <p:nvPr/>
        </p:nvPicPr>
        <p:blipFill>
          <a:blip r:embed="rId1"/>
          <a:stretch/>
        </p:blipFill>
        <p:spPr>
          <a:xfrm>
            <a:off x="7238880" y="533520"/>
            <a:ext cx="1857600" cy="680760"/>
          </a:xfrm>
          <a:prstGeom prst="rect">
            <a:avLst/>
          </a:prstGeom>
          <a:ln w="0">
            <a:noFill/>
          </a:ln>
        </p:spPr>
      </p:pic>
      <p:pic>
        <p:nvPicPr>
          <p:cNvPr id="55" name="unlogo" descr="United Nations">
            <a:hlinkClick r:id="rId2"/>
          </p:cNvPr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6477120" y="457200"/>
            <a:ext cx="758880" cy="6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4260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ed New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with various national expe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fo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ne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Indicato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men and science (EUROSTAT, UNESCO &amp; 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researchers by main field of science &amp;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R&amp;D personnel by sector, occupation &amp;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women in relation to the total no. of students in science &amp;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 &amp; public-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members of decision-making bodies of Central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presidents and vice- presidents of Employer Confe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 of women and men among chiefs of executive boards of top 50 firms publicly on National Stock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verty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poor one person households by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. of poor 1-parent households by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Indica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&amp; transport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/proportion of adults with full driving licenses by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annual number of trips, split by mode of transport by sex (including wal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ment status and family composition (EUROSTAT &amp; 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me (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ce of violence (physical, sexual or psychological) at hands of an intimate partner (e.G, DHS 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4 Questionnaire will be sent in November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naire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data were requested from N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4 table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rospective data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and labor 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ion of data collection activities since some of the data are also collected by other 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 and UN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nd econom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 and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Sourc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eries for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 burden on national statistical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s wider coverage in terms of countries and year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data sources used for linked series on work and economic indicators: GSD, Eurostat, ILO and OE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ed GSD Coverage With New Data Ser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Unemployed - European Un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1295280"/>
          <a:ext cx="76201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Example of Expanded Coverage Through Use of Multiple Sources in the New Data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1447920"/>
          <a:ext cx="72309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2309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3399"/>
                </a:solidFill>
                <a:latin typeface="Arial"/>
              </a:rPr>
              <a:t>Changes to the Question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3962520" cy="289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data collected from the 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4 table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3733560"/>
            <a:ext cx="426708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amount of information requested from 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 table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082960"/>
            <a:ext cx="396252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267080" cy="52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590920"/>
            <a:ext cx="42670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nce on international statistics 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724280"/>
            <a:ext cx="4267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request from N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Number of Tables Requested by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32440"/>
        </p:xfrm>
        <a:graphic>
          <a:graphicData uri="http://schemas.openxmlformats.org/drawingml/2006/table">
            <a:tbl>
              <a:tblPr/>
              <a:tblGrid>
                <a:gridCol w="5473800"/>
                <a:gridCol w="1149120"/>
                <a:gridCol w="11494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es &amp; Househo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Life &amp; Decision-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posed additional indicato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for the Gender Statistics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6:51:34Z</dcterms:created>
  <dc:creator>bisogno enrico</dc:creator>
  <dc:description/>
  <dc:language>en-US</dc:language>
  <cp:lastModifiedBy>Hooper</cp:lastModifiedBy>
  <dcterms:modified xsi:type="dcterms:W3CDTF">2004-10-19T07:37:22Z</dcterms:modified>
  <cp:revision>83</cp:revision>
  <dc:subject/>
  <dc:title>A shared approach to defining migrant populations: an uthopia?</dc:title>
</cp:coreProperties>
</file>