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2234-53B8-4BA6-B808-8234369710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47CE-6D21-40D5-8124-F033836283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istinction between driver and passengers of a car, bus or by f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all these are available from the GB National Tra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urvey, and should be from most countries with similar survey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ncluding the USA and much of Euro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Have data from their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43309-1F30-41E9-A355-487B1DAFA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71B8D-C3C3-4854-AE13-176893B4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10A00-BE37-4957-A2C5-00B87DAEA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ECFA5-51F6-4764-BE16-5A2F0791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A95F4-6A0F-4ACE-BCAB-DA05B71B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9F95A-C305-4DDF-A150-88DC66F2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529F0-C622-4B02-A612-99D707F7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EDBF4-3E40-44C7-A79F-EE855E87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DEA9E-7513-4B06-91E4-F83480FE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E58D1-C25F-4760-87A9-ECC704FE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1A57E-25C3-409B-82CB-9A28AE1D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B814B-CFC8-4EEA-991C-8178CE2D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un.org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BC27-3D37-451F-AFD0-11E5CECF9C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-360" y="6552720"/>
            <a:ext cx="3809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CH" sz="10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000" spc="-1" strike="noStrike">
                <a:solidFill>
                  <a:srgbClr val="003399"/>
                </a:solidFill>
                <a:latin typeface="Arial"/>
              </a:rPr>
              <a:t>UNECE Gender Statistics Database: The Next Ste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672320" y="6400800"/>
            <a:ext cx="1471320" cy="425520"/>
            <a:chOff x="7672320" y="6400800"/>
            <a:chExt cx="1471320" cy="425520"/>
          </a:xfrm>
        </p:grpSpPr>
        <p:pic>
          <p:nvPicPr>
            <p:cNvPr id="7" name="" descr="United Nations Economic Commission for Europe"/>
            <p:cNvPicPr/>
            <p:nvPr/>
          </p:nvPicPr>
          <p:blipFill>
            <a:blip r:embed="rId2"/>
            <a:stretch/>
          </p:blipFill>
          <p:spPr>
            <a:xfrm>
              <a:off x="8100360" y="6443640"/>
              <a:ext cx="1043280" cy="3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unlogo" descr="United Nations">
              <a:hlinkClick r:id="rId3"/>
            </p:cNvPr>
            <p:cNvPicPr/>
            <p:nvPr/>
          </p:nvPicPr>
          <p:blipFill>
            <a:blip r:embed="rId4">
              <a:lum bright="2000"/>
            </a:blip>
            <a:stretch/>
          </p:blipFill>
          <p:spPr>
            <a:xfrm>
              <a:off x="7672320" y="6400800"/>
              <a:ext cx="426240" cy="3585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un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24379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3399"/>
                </a:solidFill>
                <a:latin typeface="Arial"/>
              </a:rPr>
              <a:t>UNECE Gender Statistics Database: </a:t>
            </a:r>
            <a:br>
              <a:rPr sz="4000"/>
            </a:br>
            <a:r>
              <a:rPr b="0" lang="fr-CH" sz="4000" spc="-1" strike="noStrike">
                <a:solidFill>
                  <a:srgbClr val="003399"/>
                </a:solidFill>
                <a:latin typeface="Arial"/>
              </a:rPr>
              <a:t>The Next Step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Linda M. Hoo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UN Economic Commission for Euro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tatistica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United Nations Economic Commission for Europe"/>
          <p:cNvPicPr/>
          <p:nvPr/>
        </p:nvPicPr>
        <p:blipFill>
          <a:blip r:embed="rId1"/>
          <a:stretch/>
        </p:blipFill>
        <p:spPr>
          <a:xfrm>
            <a:off x="7238880" y="533520"/>
            <a:ext cx="1857600" cy="680760"/>
          </a:xfrm>
          <a:prstGeom prst="rect">
            <a:avLst/>
          </a:prstGeom>
          <a:ln w="0">
            <a:noFill/>
          </a:ln>
        </p:spPr>
      </p:pic>
      <p:pic>
        <p:nvPicPr>
          <p:cNvPr id="55" name="unlogo" descr="United Nations">
            <a:hlinkClick r:id="rId2"/>
          </p:cNvPr>
          <p:cNvPicPr/>
          <p:nvPr/>
        </p:nvPicPr>
        <p:blipFill>
          <a:blip r:embed="rId3">
            <a:lum bright="2000"/>
          </a:blip>
          <a:stretch/>
        </p:blipFill>
        <p:spPr>
          <a:xfrm>
            <a:off x="6477120" y="457200"/>
            <a:ext cx="758880" cy="638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65240" y="42609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ggested New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s with various national expe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sts for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ility of new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Indicator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men and science (EUROSTAT, UNESCO &amp; NS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. of researchers by main field of science &amp; s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. of R&amp;D personnel by sector, occupation &amp; s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% of women in relation to the total no. of students in science &amp;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tical &amp; public-decision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ortion of women and men among members of decision-making bodies of Central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ortion of women and men among presidents and vice- presidents of Employer Confed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ortion of women and men among chiefs of executive boards of top 50 firms publicly on National Stock Ex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verty (NS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. of poor one person households by s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. of poor 1-parent households by s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Indicator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der &amp; transport (NS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umber/proportion of adults with full driving licenses by s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erage annual number of trips, split by mode of transport by sex (including wal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ployment status and family composition (EUROSTAT &amp; NS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ime (NS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idence of violence (physical, sexual or psychological) at hands of an intimate partner (e.G, DHS modu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4 Questionnaire will be sent in November 2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naire 20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data were requested from N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rge amount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4 tables requ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trospective data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 and labor int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plication of data collection activities since some of the data are also collected by other international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STAT and UN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and economy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STAT and I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ple Source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Series for Indic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ss burden on national statistical off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ables wider coverage in terms of countries and years cov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national data sources used for linked series on work and economic indicators: GSD, Eurostat, ILO and OE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anded GSD Coverage With New Data Seri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 of Unemployed - European Union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838080" y="1295280"/>
          <a:ext cx="762012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95280"/>
                    <a:ext cx="76201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Example of Expanded Coverage Through Use of Multiple Sources in the New Data 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33520" y="1447920"/>
          <a:ext cx="7230960" cy="464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723096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Changes to the Questionnai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2590560"/>
            <a:ext cx="3962520" cy="2895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data collected from the N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99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4 tables requ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1640" y="3733560"/>
            <a:ext cx="426708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99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d amount of information requested from N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99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1 tables requ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9810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2082960"/>
            <a:ext cx="3962520" cy="5205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2133720"/>
            <a:ext cx="4267080" cy="5205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2590920"/>
            <a:ext cx="426708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nce on international statistics data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4724280"/>
            <a:ext cx="4267080" cy="762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top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request from N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Number of Tables Requested by Y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85800" y="1981080"/>
          <a:ext cx="7772400" cy="4132440"/>
        </p:xfrm>
        <a:graphic>
          <a:graphicData uri="http://schemas.openxmlformats.org/drawingml/2006/table">
            <a:tbl>
              <a:tblPr/>
              <a:tblGrid>
                <a:gridCol w="5473800"/>
                <a:gridCol w="1149120"/>
                <a:gridCol w="1149480"/>
              </a:tblGrid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ilies &amp; Househol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Life &amp; Decision-Ma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Proposed additional indicato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for the Gender Statistics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16:51:34Z</dcterms:created>
  <dc:creator>bisogno enrico</dc:creator>
  <dc:description/>
  <dc:language>en-US</dc:language>
  <cp:lastModifiedBy>Hooper</cp:lastModifiedBy>
  <dcterms:modified xsi:type="dcterms:W3CDTF">2004-10-19T07:37:22Z</dcterms:modified>
  <cp:revision>83</cp:revision>
  <dc:subject/>
  <dc:title>A shared approach to defining migrant populations: an uthopia?</dc:title>
</cp:coreProperties>
</file>