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9.wmf" ContentType="image/x-wmf"/>
  <Override PartName="/ppt/media/image14.png" ContentType="image/png"/>
  <Override PartName="/ppt/media/image11.wmf" ContentType="image/x-wmf"/>
  <Override PartName="/ppt/media/image20.wmf" ContentType="image/x-wmf"/>
  <Override PartName="/ppt/media/image3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png" ContentType="image/png"/>
  <Override PartName="/ppt/media/image2.wmf" ContentType="image/x-wmf"/>
  <Override PartName="/ppt/media/image5.wmf" ContentType="image/x-wmf"/>
  <Override PartName="/ppt/media/image18.png" ContentType="image/png"/>
  <Override PartName="/ppt/media/image7.jpeg" ContentType="image/jpeg"/>
  <Override PartName="/ppt/media/image10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890280" y="4744800"/>
            <a:ext cx="4887720" cy="41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020240" y="869760"/>
            <a:ext cx="4627800" cy="347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890280" y="4744800"/>
            <a:ext cx="4887720" cy="41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ldImg"/>
          </p:nvPr>
        </p:nvSpPr>
        <p:spPr>
          <a:xfrm>
            <a:off x="1020600" y="870120"/>
            <a:ext cx="4627800" cy="3470040"/>
          </a:xfrm>
          <a:prstGeom prst="rect">
            <a:avLst/>
          </a:prstGeom>
          <a:ln w="0">
            <a:noFill/>
          </a:ln>
        </p:spPr>
      </p:sp>
      <p:sp>
        <p:nvSpPr>
          <p:cNvPr id="98" name=""/>
          <p:cNvSpPr/>
          <p:nvPr/>
        </p:nvSpPr>
        <p:spPr>
          <a:xfrm>
            <a:off x="1111320" y="4952880"/>
            <a:ext cx="45943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281520"/>
            <a:ext cx="77724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281520"/>
            <a:ext cx="77724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281520"/>
            <a:ext cx="77724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281520"/>
            <a:ext cx="77724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281520"/>
            <a:ext cx="77724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281520"/>
            <a:ext cx="77724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281520"/>
            <a:ext cx="77724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33336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281520"/>
            <a:ext cx="77724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281520"/>
            <a:ext cx="77724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281520"/>
            <a:ext cx="77724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ca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8388360" y="189000"/>
            <a:ext cx="609480" cy="4651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1052640"/>
            <a:ext cx="9144000" cy="1443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ca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1523880"/>
            <a:ext cx="5867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21333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GENDER STATISTICS</a:t>
            </a:r>
            <a:br>
              <a:rPr sz="3600"/>
            </a:b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Karin Winqvist, Eurostat</a:t>
            </a:r>
            <a:br>
              <a:rPr sz="36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karin.winqvist@cec.eu.int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32000" y="3200400"/>
            <a:ext cx="15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ca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8920" y="333360"/>
            <a:ext cx="8202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Statistics on Income and Living Conditions (SILC)</a:t>
            </a:r>
            <a:r>
              <a:rPr b="1" lang="fr-BE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Arial"/>
              </a:rPr>
              <a:t>Private househo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Arial"/>
              </a:rPr>
              <a:t>Income and social i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Arial"/>
              </a:rPr>
              <a:t>Cross-sectional and Longitudin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2003 (2005 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Arial"/>
              </a:rPr>
              <a:t>25 Member Sta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Arial"/>
              </a:rPr>
              <a:t>Microdata available for researchers (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ca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81520"/>
            <a:ext cx="77724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8964720" cy="65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ca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7448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Arial"/>
              </a:rPr>
              <a:t>Structure of Earnings Survey (SES)</a:t>
            </a:r>
            <a:r>
              <a:rPr b="1" lang="fr-BE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mployees in industry and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Arial"/>
              </a:rPr>
              <a:t>Enterprise and individual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Arial"/>
              </a:rPr>
              <a:t>1995, 2002, 2006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Arial"/>
              </a:rPr>
              <a:t>24 Member states (MT), NO, IS, BG, 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Arial"/>
              </a:rPr>
              <a:t>Micro data available for researchers (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ca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Time use surveys (TUS)</a:t>
            </a:r>
            <a:r>
              <a:rPr b="1" lang="fr-BE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771640" y="981000"/>
            <a:ext cx="3167280" cy="587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ca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 Use Survey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m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1 European countries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BE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K,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 DE, E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ES,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F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IT, LV, LT,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HU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NL, PL, PT,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SK,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FI, SE, UK, N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BG, 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ca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Arial"/>
              </a:rPr>
              <a:t>Time Use Survey (TUS)</a:t>
            </a:r>
            <a:r>
              <a:rPr b="1" lang="fr-BE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Arial"/>
              </a:rPr>
              <a:t>Individuals aged 10 – (var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Arial"/>
              </a:rPr>
              <a:t>Diary and questionnai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Arial"/>
              </a:rPr>
              <a:t>What (what else) were you do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Arial"/>
              </a:rPr>
              <a:t>Who else was pres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Arial"/>
              </a:rPr>
              <a:t>Location/Mode of 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Arial"/>
              </a:rPr>
              <a:t>2000 (1998 – 200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Arial"/>
              </a:rPr>
              <a:t>Microdatabase for statistical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ca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IME USE DI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ca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 and secondary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50920" y="981000"/>
          <a:ext cx="8713800" cy="587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981000"/>
                    <a:ext cx="8713800" cy="58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ca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whom and Wh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79280" y="1052640"/>
          <a:ext cx="8785440" cy="568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052640"/>
                    <a:ext cx="8785440" cy="56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ca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Employ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468360" y="1197000"/>
            <a:ext cx="4969080" cy="41450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211640" y="1197000"/>
            <a:ext cx="5113440" cy="41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ca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5280" y="453600"/>
            <a:ext cx="7016760" cy="41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3600" spc="-1" strike="noStrike">
                <a:solidFill>
                  <a:srgbClr val="000000"/>
                </a:solidFill>
                <a:latin typeface="Arial"/>
              </a:rPr>
              <a:t>COMMISSION  POLIC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Arial"/>
              </a:rPr>
              <a:t>GENDER MAINSTREA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Arial"/>
              </a:rPr>
              <a:t>Statistics by s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Arial"/>
              </a:rPr>
              <a:t>Evaluation of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Arial"/>
              </a:rPr>
              <a:t>Annual report on Gender e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Arial"/>
              </a:rPr>
              <a:t>SPECIFIC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Arial"/>
              </a:rPr>
              <a:t>Empl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Arial"/>
              </a:rPr>
              <a:t>Pay g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Arial"/>
              </a:rPr>
              <a:t>Reconciliation of work and family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Arial"/>
              </a:rPr>
              <a:t>Child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ca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rcRect l="3127" t="15002" r="3127" b="41148"/>
          <a:stretch/>
        </p:blipFill>
        <p:spPr>
          <a:xfrm>
            <a:off x="-252360" y="1125360"/>
            <a:ext cx="9396360" cy="55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ca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rcRect l="1270" t="17512" r="1270" b="48029"/>
          <a:stretch/>
        </p:blipFill>
        <p:spPr>
          <a:xfrm>
            <a:off x="-396720" y="1341360"/>
            <a:ext cx="9540720" cy="51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ca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 pr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rcRect l="0" t="18398" r="0" b="0"/>
          <a:stretch/>
        </p:blipFill>
        <p:spPr>
          <a:xfrm>
            <a:off x="0" y="1197000"/>
            <a:ext cx="8172360" cy="2663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50920" y="3860640"/>
            <a:ext cx="8137440" cy="1008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68360" y="4941720"/>
            <a:ext cx="7920000" cy="115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ca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rcRect l="9391" t="18512" r="13086" b="9637"/>
          <a:stretch/>
        </p:blipFill>
        <p:spPr>
          <a:xfrm>
            <a:off x="250920" y="1197000"/>
            <a:ext cx="8713800" cy="532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ca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920" y="139680"/>
            <a:ext cx="78501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men and men (aged 20 – 64) in Sweden who have carried out activities at different times during an average weekday, Sept 2000 – May 2001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6920" y="981000"/>
            <a:ext cx="74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Women</a:t>
            </a: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-324000" y="549360"/>
            <a:ext cx="5040360" cy="5949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00720" y="476280"/>
            <a:ext cx="4979880" cy="595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ca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Labour Force Survey (LFS)</a:t>
            </a:r>
            <a:r>
              <a:rPr b="1" lang="fr-BE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Arial"/>
              </a:rPr>
              <a:t>Persons aged 15 – (16 for ES, SE, U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abour market (in data base) 1983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d hoc modules 1999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BE" sz="3200" spc="-1" strike="noStrike">
                <a:solidFill>
                  <a:srgbClr val="000000"/>
                </a:solidFill>
                <a:latin typeface="Arial"/>
              </a:rPr>
              <a:t>Quaterly since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sv-SE" sz="3200" spc="-1" strike="noStrike">
                <a:solidFill>
                  <a:srgbClr val="000000"/>
                </a:solidFill>
                <a:latin typeface="Arial"/>
              </a:rPr>
              <a:t>5 Member States, NO, IS, CH,BG, 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Arial"/>
              </a:rPr>
              <a:t>Microdata available for researchers (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ca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333360"/>
            <a:ext cx="8317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AD HOC MODULES - </a:t>
            </a:r>
            <a:r>
              <a:rPr b="1" lang="sv-SE" sz="2800" spc="-1" strike="noStrike">
                <a:solidFill>
                  <a:srgbClr val="000000"/>
                </a:solidFill>
                <a:latin typeface="Arial"/>
              </a:rPr>
              <a:t>11 variables - 1999-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Accidents at work and workrel. health prob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Transition from school to working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Length and pattern of working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Employment of disabled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Life long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Work org. and working time arrang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Reconciliation of work and family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Transition from work to reti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Accidents at work and workrel. health prob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Immigr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ca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-458640"/>
            <a:ext cx="9144000" cy="77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ca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81520"/>
            <a:ext cx="77724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468000" cy="79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ca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8920" y="333360"/>
            <a:ext cx="8202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European Community Household Panel (ECHP)</a:t>
            </a:r>
            <a:r>
              <a:rPr b="1" lang="fr-BE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Arial"/>
              </a:rPr>
              <a:t>Private househo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Arial"/>
              </a:rPr>
              <a:t>Living conditions and labour 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Arial"/>
              </a:rPr>
              <a:t>Longitudin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994 –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Arial"/>
              </a:rPr>
              <a:t>15 Member States (AT and FI from 1995 and ind for SE from 199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BE" sz="3200" spc="-1" strike="noStrike">
                <a:solidFill>
                  <a:srgbClr val="000000"/>
                </a:solidFill>
                <a:latin typeface="Arial"/>
              </a:rPr>
              <a:t>Microdata available for researc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ca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324000" y="0"/>
            <a:ext cx="9649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ca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81520"/>
            <a:ext cx="77724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97218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2T15:15:18Z</dcterms:created>
  <dc:creator/>
  <dc:description/>
  <dc:language>en-US</dc:language>
  <cp:lastModifiedBy>winqvka</cp:lastModifiedBy>
  <cp:lastPrinted>2003-11-12T11:01:19Z</cp:lastPrinted>
  <dcterms:modified xsi:type="dcterms:W3CDTF">2004-10-12T15:58:13Z</dcterms:modified>
  <cp:revision>279</cp:revision>
  <dc:subject/>
  <dc:title>LFS Module 2006   Transition to retirement</dc:title>
</cp:coreProperties>
</file>