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E1B-F11B-4BA9-BA58-6F09D33A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FDF-F4E9-4B61-80FD-D4732B77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6AD-3602-4833-A25A-FD7D195C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473-38A8-46F6-8B55-C084F0F9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EED8-5B45-4871-941A-E5AB43F9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5FCB-4137-49DA-90C7-A0C3546E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C9A0-57B0-46E8-A255-5E95F744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56D6-36C1-436F-A62B-2095F67C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08A2-5404-45CD-959D-3AEF6577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E8C1-5655-4730-B98C-A8E6ED05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77C1-E0FA-48F0-80F2-39353542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212-C2A9-4864-88E8-B6B75B35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E767-36CC-4631-9BE7-80E411D9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64B7-938C-43B9-AE91-5DF15866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7064-FA89-4DDA-B1C7-3701EF6C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0AE0-528A-4427-9F8C-E508368D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DE6E-E079-4C5C-9631-EF34954A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1C0F-53AF-439F-BA58-E710E8C6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A44-25FB-43ED-B704-84546776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EB8-5E51-4FCC-ABC3-039A667D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22E-63CF-498F-98A7-4F02B3E0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8B0-FA87-4069-9F1F-AC177846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B9A-4FB5-4908-B5C4-5FF5DD41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371-1A76-4974-B9DE-0D480612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67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680" y="6172200"/>
            <a:ext cx="711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D064-4457-4D55-8299-2448136714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502480" y="0"/>
            <a:ext cx="64152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715000" y="617184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04560" y="6171840"/>
            <a:ext cx="5105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848720" y="6171840"/>
            <a:ext cx="5839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3D0F-7282-47F8-AE2D-162F2F3C0F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tistics on Violence against Wo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 of Module on Crime and Victimisation in general household  survey in Irela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pic 2, Session 5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502480" y="0"/>
            <a:ext cx="641520" cy="8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B8CA-154E-4CAE-93EF-A63229787F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1: Principal economic status of population and vict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12720" y="1673280"/>
          <a:ext cx="772812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673280"/>
                    <a:ext cx="772812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847-7F8E-4E07-83B3-7BFC861A7BD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2: Likely vict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1752480"/>
          <a:ext cx="800100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00100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3E3-ED22-4230-9EE4-13C6136A69E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3: Victims classified by age group and sex of vict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1120" y="1946160"/>
          <a:ext cx="78105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946160"/>
                    <a:ext cx="78105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61B-304C-4835-AD5A-72FE3FDF8A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4: Victims classified by location of incident and sex of vict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2720" y="1673280"/>
          <a:ext cx="781056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673280"/>
                    <a:ext cx="781056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A3B-9621-4317-B628-6C31FCD566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5: Victims classified by type of crime and sex of vict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1824120"/>
          <a:ext cx="8001000" cy="446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4120"/>
                    <a:ext cx="800100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E08-2263-47A3-82C9-F2CC5BDAFA3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6: Victims classified by whether crime was reported and sex of vict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25320" y="2136600"/>
          <a:ext cx="8001000" cy="417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2136600"/>
                    <a:ext cx="8001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704-7D1C-4103-8118-D41A41A1E2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ble 7: All persons classified by perceptions of safety and sex of p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38080" y="1600200"/>
          <a:ext cx="688176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688176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10F-99A1-45E1-8128-A5B0A0B452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ule 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dule worked well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ther household members may be present during survey int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5,000 households included in the module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 comparable data available from other surveys or from police stat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875-A691-4D74-A1BC-F322610792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national cont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merging volume of statistical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national crime victimisation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tistics Canada 1993 violence against women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national violence against women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9 EU countries invol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STAT violence against women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7FA-2EDE-4EA1-A22B-54A03B8A69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ld Health Organis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 World Report on Violence and Heal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 research recommend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udy must include actions aimed at reducing any stress caused to victi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fer women requesting assistance to support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in multi-purpose surveys only when WHO recommendations can be m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fety of interviewer and interviewee an iss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2F5-4F65-4F52-A56B-38BC5C7022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erview of pres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 focus: Crime and victimisation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rief review of international recommendations for conducting surveys on violence against wo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fulness of general household survey module for collecting more specific statistics on violence against wo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CE4-C8D1-44C1-8AAE-AA386088E1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tistics Cana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ducted a Violence Against Women Survey in 19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rvey conducted by telephone int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cus on crime may limit reporting of assaults within relationships and sexual hara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t interviewees decide time/date of int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D7F-83D2-435D-8909-6E62E46C95B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national Violence Against Women Survey (IVAW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ducted by UN European Institute for Crime Preven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cus on violence against women by 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ilds on International Crime Victimisation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2 participating countries (including 9 from E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ecialised training for interview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viewers are fem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lephone and face-to-face intervie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973-C68E-45BC-BAEF-F442C51A00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lusions from ISTAT surv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ictimisation surveys don’t adequately capture statistics on violence perpetrated by someone close to the vict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nancial, psychological, physical and sexual viol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alitative and quantitative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e and flexibility  required in setting-up and conducting the int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view is str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quires interviewers trained in the top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BF8-D3C0-43AD-A6CB-58FE1463AB1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lusions and Recommend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focussed survey on violence would need to include domestic violence and sexual hara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Statistical Institutes have limited experience of crime statistics but C&amp;V surveys a soft int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&amp;V surveys could be used to raise policy, NSI and user awareness of need for victim surv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SIs have survey and data handling integrity and confidence of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volvement and advice of experts outside NSIs is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B97-3EF3-4381-BAD8-C294C3C28A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lusions ct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ey step is for NSIs to become more involved in compilation and dissemination of crime statisti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ent decision in Ireland by Minister for Justice that the CSO would assume full responsibility for the compilation and publication of crime stat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new CSO Crime Statistics Unit has been set-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itial focus will be on crimes reported to the pol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view and development of victimisation surveys is also within the remit of the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975-2BFD-4235-872C-F5BEC3FB98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NH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Quarterly National Household Survey (QNHS) is conducted by the Central Statistics Off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survey began in September 1997, replacing the annual Labour Force Surv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main purpose is to produce quarterly labour force estim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551-36AC-485E-95C6-557836E5A6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NHS Backgrou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-wide continuous survey of househo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icipation is voluntary - response rate of 9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mand for more social statistics drove introduction of a quarterly labour force survey with social mo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B2F-7A70-4A60-85E1-8CD56D9C3F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NHS Survey Detai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 collected using Computer Assisted Personal Interviewing (CAP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ver 30,000 households per quar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usehold interviewed for 5 consecutive quarters (i.e. 5 wav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NHS also used for social mo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922-291A-4973-8B72-6AA6F57C0C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NHS social modules 1998-200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890720"/>
          <a:ext cx="8215200" cy="489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90720"/>
                    <a:ext cx="82152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89F-C9EA-4C52-8387-3FB8599493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me &amp; victimisation module (C&amp;V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dertaken in Q4 1998 &amp; repeated in Q4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imes against househo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imes against individuals (aged 18 or ov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ft with viol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ft without viol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hysical ass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a crime occurred more than once during the previous 12 months (e.g. burglary) only the most recent occurrence was reco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7E7-39CA-4323-BB23-954B9FB70C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me &amp; victimisation mo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ponse rate to C&amp;V module was 79% (person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 proxy interviews conducted for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xual assault or domestic violence was not covered by the survey - too sensitive and protecting response rate to main employment survey has top 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dule was not focussed on violence against wo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D27-50DE-4AC5-994B-BFD2CC07E4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vel of personal cr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1880" y="1932120"/>
          <a:ext cx="828684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32120"/>
                    <a:ext cx="82868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 Session on Gender Statistics:  Gerry Brady, CSO, Ire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1E3-9FBB-471F-8E91-99B6BBA016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20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0:23:41Z</dcterms:created>
  <dc:creator>daltonp</dc:creator>
  <dc:description/>
  <dc:language>en-US</dc:language>
  <cp:lastModifiedBy>bradyg</cp:lastModifiedBy>
  <cp:lastPrinted>2004-10-14T15:51:43Z</cp:lastPrinted>
  <dcterms:modified xsi:type="dcterms:W3CDTF">2004-10-14T15:52:23Z</dcterms:modified>
  <cp:revision>54</cp:revision>
  <dc:subject/>
  <dc:title>Quarterly National Household Survey</dc:title>
</cp:coreProperties>
</file>