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1A3-4664-4F63-B982-62C728FE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E0F-09AD-4E64-AF0B-F579470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F87-590E-47C6-92FF-0679F7B8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DFB-D55C-463E-BC77-38C810B6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315-0D01-4AF2-9584-707F2A61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BEB-67B0-4CB0-83BD-576D8E5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7A5-6D19-45A9-9367-E081C10C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B0B6-A1CA-44E6-98DA-1152AB6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916-3D0C-4B6A-BA40-E42DC7D7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F2C5-0D53-41D2-9F41-EBE13DCF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8ECA-DD86-4CBE-843D-9092D3E5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BC-72D1-4204-A9C8-E1F84586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EBF-73AB-4669-909B-A79C13B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7D4E-074D-4EF0-B86D-6F73D0E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368-41AB-456B-80E1-E2E05602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9916-0503-4F74-834F-CA2934D9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6539-544C-4756-AF08-194C22E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689-02CE-4C3D-808A-095C56F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FA8-4916-4A04-A8CA-31EA094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F0A-859A-4A56-838C-C4E41496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417-9CBE-4201-B3F4-304FE95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326-BB16-42EA-8664-5271357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B6F-3964-402A-88EA-B0DB7CD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779-D83C-4A90-A9F1-12F0CB2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7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172200"/>
            <a:ext cx="711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18DE-E8D6-4D03-BB87-6B60282CF4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502480" y="0"/>
            <a:ext cx="64152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715000" y="61718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4560" y="6171840"/>
            <a:ext cx="5105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48720" y="6171840"/>
            <a:ext cx="5839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F19-C7A5-4FE9-9EF9-2F98BB0765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s on Violence against Wo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 of Module on Crime and Victimisation in general household  survey in Ire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pic 2, Session 5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502480" y="0"/>
            <a:ext cx="64152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C5CA-1087-4309-A57C-F6CEC655EC2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1: Principal economic status of population and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2720" y="1673280"/>
          <a:ext cx="77281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673280"/>
                    <a:ext cx="77281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D29-CFE6-4A5C-8B2E-9E27F15111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2: Likely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752480"/>
          <a:ext cx="800100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010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BF6-34B1-41A8-A583-D5852B2EF6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3: Victims classified by age group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1120" y="1946160"/>
          <a:ext cx="78105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46160"/>
                    <a:ext cx="78105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DD2-6EE3-471D-828E-3F7D0B0F83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4: Victims classified by location of incident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2720" y="1673280"/>
          <a:ext cx="781056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673280"/>
                    <a:ext cx="781056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F89-CC1C-4189-81CB-427A892151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5: Victims classified by type of crime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824120"/>
          <a:ext cx="800100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4120"/>
                    <a:ext cx="80010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9C1-F56D-4A86-B51B-85BBC1B1AE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6: Victims classified by whether crime was reported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25320" y="2136600"/>
          <a:ext cx="800100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2136600"/>
                    <a:ext cx="8001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BE2-2823-463D-AEA1-D58C2EF0C91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 7: All persons classified by perceptions of safety and sex of p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600200"/>
          <a:ext cx="688176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688176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B30-32B7-49FE-93AB-42DFF129F9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ule worked well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ther household members may be present during survey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,000 households included in the module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comparable data available from other surveys or from police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4FA-1455-4CB6-930B-C04DBC2E29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erging volume of statistical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tional crime victimisatio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stics Canada 1993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tional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9 EU countries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TAT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664-474A-487D-961F-7083EB5C9C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ld Health Orga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World Report on Violence and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research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 must include actions aimed at reducing any stress caused to victi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fer women requesting assistance to suppor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in multi-purpose surveys only when WHO recommendations can be m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fety of interviewer and interviewee an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0A7-268E-4F50-AB3C-0E91CB6BB6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 focus: Crime and victimisation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ief review of international recommendations for conducting surveys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fulness of general household survey module for collecting more specific statistics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F48-5FFD-4790-B110-44AA3C398B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s Can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ducted a Violence Against Women Survey in 19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rvey conducted by telephone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cus on crime may limit reporting of assaults within relationships and sexual hara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interviewees decide time/date of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EBB-BFEB-4D09-9066-91C9FFC9C2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Violence Against Women Survey (IVAW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ducted by UN European Institute for Crime Preven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cus on violence against women by 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ilds on International Crime Victimisatio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2 participating countries (including 9 from E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ised training for intervie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viewers are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lephone and face-to-face inter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91B-EC88-4214-A403-18ECC5CFDD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from ISTAT surv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imisation surveys don’t adequately capture statistics on violence perpetrated by someone close to the vic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ancial, psychological, physical and sexual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alitative and quantitativ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 and flexibility  required in setting-up and conducting the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view is str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quires interviewers trained in the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AF9-0153-4F85-BCED-BFB1A3337D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and Recommend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focussed survey on violence would need to include domestic violence and sexual hara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Statistical Institutes have limited experience of crime statistics but C&amp;V surveys a soft 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&amp;V surveys could be used to raise policy, NSI and user awareness of need for victim surv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SIs have survey and data handling integrity and confidence of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volvement and advice of experts outside NSIs is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DBC-CC83-4AB8-ACB7-922A0562DC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ct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y step is for NSIs to become more involved in compilation and dissemination of crime statist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ent decision in Ireland by Minister for Justice that the CSO would assume full responsibility for the compilation and publication of crime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new CSO Crime Statistics Unit has been set-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itial focus will be on crimes reported to the po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view and development of victimisation surveys is also within the remit of th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651-94BC-4CD9-9C13-39CE1D1840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Quarterly National Household Survey (QNHS) is conducted by the Central Statistics Off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urvey began in September 1997, replacing the annual Labour Force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main purpose is to produce quarterly labour force estim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52-E1E4-4199-906A-9ED97A9693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Backgrou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-wide continuous survey of househo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cipation is voluntary - response rate of 9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mand for more social statistics drove introduction of a quarterly labour force survey with social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963-DEEB-428E-88AC-9506268358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Survey Det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collected using Computer Assisted Personal Interviewing (CA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 30,000 households per quar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usehold interviewed for 5 consecutive quarters (i.e. 5 wav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NHS also used for social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231-7F08-4427-8429-96A80D6698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social modules 1998-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890720"/>
          <a:ext cx="821520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90720"/>
                    <a:ext cx="82152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CDA-EC39-493A-8C72-3E42FF127E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me &amp; victimisation module (C&amp;V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dertaken in Q4 1998 &amp; repeated in Q4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imes against househo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imes against individuals (aged 18 or ov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ft with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ft without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hysical ass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crime occurred more than once during the previous 12 months (e.g. burglary) only the most recent occurrence was reco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72B-AB34-4A3E-9D2D-EF61FA1A57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me &amp; victimisation mo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ponse rate to C&amp;V module was 79% (person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proxy interviews conducted for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xual assault or domestic violence was not covered by the survey - too sensitive and protecting response rate to main employment survey has top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ule was not focussed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A36-AE30-4809-B5E0-BA996CD890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vel of personal cr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1880" y="1932120"/>
          <a:ext cx="82868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32120"/>
                    <a:ext cx="828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4F7-BF98-40B2-A70F-060B932E1D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0:23:41Z</dcterms:created>
  <dc:creator>daltonp</dc:creator>
  <dc:description/>
  <dc:language>en-US</dc:language>
  <cp:lastModifiedBy>bradyg</cp:lastModifiedBy>
  <cp:lastPrinted>2004-10-14T15:51:43Z</cp:lastPrinted>
  <dcterms:modified xsi:type="dcterms:W3CDTF">2004-10-14T15:52:23Z</dcterms:modified>
  <cp:revision>54</cp:revision>
  <dc:subject/>
  <dc:title>Quarterly National Household Survey</dc:title>
</cp:coreProperties>
</file>