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6248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World Health Organization 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                   Gender and Women’s Healt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6248520"/>
            <a:ext cx="7543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28600" y="5943600"/>
          <a:ext cx="7621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7621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53280" y="5791320"/>
            <a:ext cx="82548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821880"/>
            <a:ext cx="8915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oward a common set of indicator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o measure violence against women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0560" y="3500280"/>
            <a:ext cx="6782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3503520"/>
            <a:ext cx="7848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Henrica A.F.M. Jansen, WHO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Times New Roman"/>
                <a:ea typeface="Arial"/>
              </a:rPr>
              <a:t>UNECE Work Session on Gender Statistics, </a:t>
            </a:r>
            <a:br>
              <a:rPr sz="3200"/>
            </a:br>
            <a:r>
              <a:rPr b="0" lang="en-GB" sz="3200" spc="-1" strike="noStrike">
                <a:solidFill>
                  <a:srgbClr val="99ff99"/>
                </a:solidFill>
                <a:latin typeface="Times New Roman"/>
                <a:ea typeface="Arial"/>
              </a:rPr>
              <a:t>Geneva, 18-20 October 2004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3200" spc="-1" strike="noStrike">
                <a:solidFill>
                  <a:srgbClr val="ffff99"/>
                </a:solidFill>
                <a:latin typeface="Times New Roman"/>
              </a:rPr>
              <a:t>More services and better quality of c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3200" spc="-1" strike="noStrike">
                <a:solidFill>
                  <a:srgbClr val="ffff99"/>
                </a:solidFill>
                <a:latin typeface="Times New Roman"/>
              </a:rPr>
              <a:t>More women reporting violenc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162864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00cc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581360"/>
            <a:ext cx="4537080" cy="1068840"/>
          </a:xfrm>
          <a:prstGeom prst="rect">
            <a:avLst/>
          </a:prstGeom>
          <a:solidFill>
            <a:srgbClr val="9933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BAD DATA IS WORSE THAN NO DATA !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5208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What about population-based data on prevalence of violence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904760"/>
            <a:ext cx="87123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revalence figures on violence are highly sensitive to methodological issu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opulation-based research on violence raises major issues of safety and ethic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Results useful for understanding the magnitude and characteristics of violenc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4172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hallenges to developing a common set of indicators on violence against wome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640" y="1773360"/>
            <a:ext cx="69343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Enhancing comparabilit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violence is defined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is violence measured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2. Enhancing disclosu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pportunities to disclose, context, skill of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3. Enhancing safet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rivacy, special training for field staff, support for respondents and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628640"/>
            <a:ext cx="7345440" cy="172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ining the study popul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utoff ag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arital / relationship experienc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egional vs. national stud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1268280"/>
          <a:ext cx="8147160" cy="4714920"/>
        </p:xfrm>
        <a:graphic>
          <a:graphicData uri="http://schemas.openxmlformats.org/drawingml/2006/table">
            <a:tbl>
              <a:tblPr/>
              <a:tblGrid>
                <a:gridCol w="2808360"/>
                <a:gridCol w="533880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cc00"/>
                          </a:solidFill>
                          <a:latin typeface="Times New Roman"/>
                          <a:ea typeface="Arial"/>
                        </a:rPr>
                        <a:t>Country</a:t>
                      </a:r>
                      <a:endParaRPr b="0" lang="en-US" sz="3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cc00"/>
                          </a:solidFill>
                          <a:latin typeface="Times New Roman"/>
                          <a:ea typeface="Arial"/>
                        </a:rPr>
                        <a:t>Study population</a:t>
                      </a:r>
                      <a:endParaRPr b="0" lang="en-US" sz="3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&gt; 18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22-55 married for &gt;2 year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olombi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currently marrie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Nicaragua (DHS)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ever marrie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Philippine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with pregnancy outcome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76360" y="404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WHO VAW stud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26920" y="1600200"/>
          <a:ext cx="7859880" cy="3336840"/>
        </p:xfrm>
        <a:graphic>
          <a:graphicData uri="http://schemas.openxmlformats.org/drawingml/2006/table">
            <a:tbl>
              <a:tblPr/>
              <a:tblGrid>
                <a:gridCol w="2089440"/>
                <a:gridCol w="5770440"/>
              </a:tblGrid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cc00"/>
                          </a:solidFill>
                          <a:latin typeface="Times New Roman"/>
                          <a:ea typeface="Arial"/>
                        </a:rPr>
                        <a:t>Country</a:t>
                      </a:r>
                      <a:endParaRPr b="0" lang="en-US" sz="3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cc00"/>
                          </a:solidFill>
                          <a:latin typeface="Times New Roman"/>
                          <a:ea typeface="Arial"/>
                        </a:rPr>
                        <a:t>Study population</a:t>
                      </a:r>
                      <a:endParaRPr b="0" lang="en-US" sz="3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Bangladesh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ever marrie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Brazil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ever married/cohabiting, currently dating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Peru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Women 15-49 ever married/cohabiting, ever dating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ffect of “study population” on reported prevalence estimates in Nicaragu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26920" y="1600200"/>
          <a:ext cx="7859880" cy="4565520"/>
        </p:xfrm>
        <a:graphic>
          <a:graphicData uri="http://schemas.openxmlformats.org/drawingml/2006/table">
            <a:tbl>
              <a:tblPr/>
              <a:tblGrid>
                <a:gridCol w="504036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urrent physical violence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All women 15-49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Ever married women 15-49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Currently married women 15-49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Formally married women 15-49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ining viol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o defines: the researcher or the respondent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Times New Roman"/>
              </a:rPr>
              <a:t>Types of violence, severit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ime fram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requenc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ultiple perpetrator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Researcher vs. Self-Defined Rates of Past Year Abuse (Japan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Type of Violenc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Research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Self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percent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ny violenc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45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hysic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4.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motion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4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3.2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8.5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4.7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Has your partner ever..... (in the last 12 months has this happened once, a few times, many times?)</a:t>
            </a:r>
            <a:br>
              <a:rPr sz="32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O Study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lapped or threw something at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ushed or shoved you or pulled your hai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Hit with his fist or with something else that could hur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Kicked, dragged or beat you up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hoked or burnt you on purpose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hreatened to use or actually used a gun, knife or  other weapon against you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600200"/>
            <a:ext cx="75438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628640"/>
            <a:ext cx="8281800" cy="136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1053400">
            <a:off x="7093080" y="2204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Moderat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708280"/>
            <a:ext cx="8136000" cy="338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053400">
            <a:off x="5580000" y="5300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66"/>
                </a:solidFill>
                <a:latin typeface="Times New Roman"/>
                <a:ea typeface="Arial"/>
              </a:rPr>
              <a:t>Seve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this talk is abou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evalence of violence against women: possible sources of dat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alient finding on to whom women talk about violence and the implicatio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efinition and measurement of prevalence violence and implications of variations in thi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WHO definition and measurement of partner violence and some relevant finding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uggestions for measuring and presenting violence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Lifetime and current physical partner violence (urban sites)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08120" y="1600200"/>
          <a:ext cx="7726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1600200"/>
                    <a:ext cx="7726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532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ement of s</a:t>
            </a:r>
            <a:r>
              <a:rPr b="0" lang="th-TH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xual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</a:t>
            </a:r>
            <a:r>
              <a:rPr b="0" lang="th-TH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olence by partner</a:t>
            </a:r>
            <a:br>
              <a:rPr sz="3200"/>
            </a:br>
            <a:r>
              <a:rPr b="0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O Stud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Were you ever physically forced to have sexual intercourse when you did not want t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id you ever have sexual intercourse you did not want because you were afraid of what he might do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ver force you to do something sexual that you found degrading or humiliating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00200"/>
            <a:ext cx="75438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verlap lifetime physical and sexual violenc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09680"/>
            <a:ext cx="2819520" cy="198144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438280"/>
            <a:ext cx="2057400" cy="167652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362320"/>
            <a:ext cx="2362320" cy="137160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2209680" cy="152388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572000"/>
            <a:ext cx="2209680" cy="129528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4581360"/>
            <a:ext cx="1600200" cy="1143000"/>
          </a:xfrm>
          <a:prstGeom prst="ellipse">
            <a:avLst/>
          </a:prstGeom>
          <a:noFill/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77336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PERU - CAP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THAILAND - CAP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29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20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3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11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12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18%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hys vio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ex vio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hys vio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ex vio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NAMIBIA - CAP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19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11%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hysical vio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exual vio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uggestions for measuring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domestic violenc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efine the study population broadl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Use behaviorally specific questio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pecify discrete time frames (last year, ever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ue respondent to different contexts and perpetrator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ive multiple opportunities to disclo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59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66ff66"/>
                </a:solidFill>
                <a:latin typeface="Times New Roman"/>
              </a:rPr>
              <a:t>Thank you!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jansenh@who.i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http://www.who.int/gender/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73860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ow common is violence against women?</a:t>
            </a:r>
            <a:br>
              <a:rPr sz="44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efinition of Prevalenc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6280"/>
            <a:ext cx="769644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# women who have experienced abuse in a certain period of tim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t risk” women in the study popul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08640"/>
            <a:ext cx="76201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Records from police, courts, hospital, etc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Population based surveys: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National crime victimization survey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Demographic and reproductive health survey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Focussed specialized survey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Short module added to other survey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rces for data on prevalenc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of VA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o whom do woman talk about physical partner violence?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696960" y="1197000"/>
          <a:ext cx="984096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6960" y="1197000"/>
                    <a:ext cx="984096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1628640"/>
            <a:ext cx="7775280" cy="27853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Many women never talked about it before – implications for the interviewer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Very few women have talked with "formal services" – implications for value of these services as source of dat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554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99"/>
                </a:solidFill>
                <a:latin typeface="Times New Roman"/>
              </a:rPr>
              <a:t>"Because I belong to this Herero culture, I can speak to my family about any form of violence except sexual violence. I had the chance in this study to talk with a stranger about what I was suffering. It helped me a lot, it took a burden away" 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(respondent in Namibia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99280" y="1341360"/>
            <a:ext cx="235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40370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ccording to police records in Nicaragua, 3,000 women reported domestic violence in 1995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3280" y="2421000"/>
            <a:ext cx="4037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ccording to population based surveys 150,000 women suffered domestic violence in 1995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094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rvice based data do not represent the actual situation in the population …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rvice based records are not easy to interpret…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403704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 1997 more than 8,000 cases were reporte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id rates of violence increas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uring this period special police stations for women were opened throughout the country, and media campaigns carried ou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1:05:27Z</dcterms:created>
  <dc:creator>Mary Carroll Ellsberg</dc:creator>
  <dc:description/>
  <dc:language>en-US</dc:language>
  <cp:lastModifiedBy>JansenH</cp:lastModifiedBy>
  <cp:lastPrinted>2001-09-20T13:57:43Z</cp:lastPrinted>
  <dcterms:modified xsi:type="dcterms:W3CDTF">2004-10-25T10:02:07Z</dcterms:modified>
  <cp:revision>79</cp:revision>
  <dc:subject/>
  <dc:title>PowerPoint Presentation</dc:title>
</cp:coreProperties>
</file>