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01C-81FE-44BE-8DC6-BF8D144B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CFF-BEA3-41E7-B204-537B1535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340-8196-4DF4-9A81-0AB64FCD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964-F21F-490F-B47B-B7D25BAE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F79-B9A0-4B59-94C7-A1DF7D66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B8C-3609-4359-9287-DC39C275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D60-A654-441C-BEB8-F10A0037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DC9-B473-4FBF-B4CE-73D638D7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6B3-F277-4740-8722-74C397E8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D79-4EAB-4C62-801B-242594A8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AEB-B968-4790-8895-96DC1020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62C-74AB-43B7-9840-54B4F2B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61F1-90B9-4EDB-999A-DE12E728AE7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137680"/>
            <a:ext cx="5257800" cy="1922400"/>
          </a:xfrm>
          <a:prstGeom prst="rect">
            <a:avLst/>
          </a:prstGeom>
          <a:noFill/>
          <a:ln w="93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talian survey on violence against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093080" y="333360"/>
          <a:ext cx="164304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333360"/>
                    <a:ext cx="16430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50920" y="260280"/>
            <a:ext cx="3025800" cy="633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48320" y="49528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Maria Giuseppina Muratore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Session on Gender Statistics Geneva 19 Octo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484360" y="1456920"/>
            <a:ext cx="633744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a0000"/>
                </a:solidFill>
                <a:latin typeface="Arial"/>
              </a:rPr>
              <a:t>Ivaws pilot test </a:t>
            </a:r>
            <a:r>
              <a:rPr b="0" lang="en-GB" sz="2400" spc="-1" strike="noStrike">
                <a:solidFill>
                  <a:srgbClr val="ba0000"/>
                </a:solidFill>
                <a:latin typeface="Arial"/>
              </a:rPr>
              <a:t>of the first version of the questionnaire on a rather small number of women (78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May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a0000"/>
                </a:solidFill>
                <a:latin typeface="Arial"/>
              </a:rPr>
              <a:t>Qualitative pha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cus group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views to key professionals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October 2002 – April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a0000"/>
                </a:solidFill>
                <a:latin typeface="Arial"/>
              </a:rPr>
              <a:t>Questionnaire and methodology revisio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a0000"/>
                </a:solidFill>
                <a:latin typeface="Arial"/>
              </a:rPr>
              <a:t>Pilot survey</a:t>
            </a:r>
            <a:r>
              <a:rPr b="0" lang="it-IT" sz="24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(April – July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Full fledged surve on 30.000 wome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189000"/>
            <a:ext cx="6264360" cy="10688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IVAWS in Italy: steps i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4038480"/>
            <a:ext cx="50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2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205240"/>
            <a:ext cx="50328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2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6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0000"/>
                </a:solidFill>
                <a:latin typeface="Tempus Sans ITC"/>
              </a:rPr>
              <a:t>Procedure of the qualitative p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Tempus Sans ITC"/>
              </a:rPr>
              <a:t>Sample</a:t>
            </a: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: </a:t>
            </a:r>
            <a:r>
              <a:rPr b="1" lang="en-GB" sz="2800" spc="-1" strike="noStrike">
                <a:solidFill>
                  <a:srgbClr val="0066cc"/>
                </a:solidFill>
                <a:latin typeface="Tempus Sans ITC"/>
              </a:rPr>
              <a:t>6 Focus Groups</a:t>
            </a:r>
            <a:r>
              <a:rPr b="1" lang="en-GB" sz="2800" spc="-1" strike="noStrike">
                <a:solidFill>
                  <a:srgbClr val="000099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Workers in shelters for women victims of violence (2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Women victims of domestic violence (2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Women from the community (1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Interviewers who have already had experience in victimisation surveys (1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Plus </a:t>
            </a:r>
            <a:r>
              <a:rPr b="1" lang="en-GB" sz="2800" spc="-1" strike="noStrike">
                <a:solidFill>
                  <a:srgbClr val="0066cc"/>
                </a:solidFill>
                <a:latin typeface="Tempus Sans ITC"/>
              </a:rPr>
              <a:t>1 group interview</a:t>
            </a: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 with legal and social experts working in the field of violence against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20000"/>
                </a:solidFill>
                <a:latin typeface="Tempus Sans ITC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Each focus group was conducted with two psychologist and was video/audio recorded and then transcrib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According to the group, different questions were posed, with the aim of learning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empus Sans ITC"/>
              </a:rPr>
              <a:t>Content of the question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empus Sans ITC"/>
              </a:rPr>
              <a:t>Procedu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280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What is domestic violence (especially psychological violen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Different expressions of violence </a:t>
            </a:r>
            <a:r>
              <a:rPr b="0" lang="en-GB" sz="1800" spc="-1" strike="noStrike">
                <a:solidFill>
                  <a:srgbClr val="ff3300"/>
                </a:solidFill>
                <a:latin typeface="Tempus Sans ITC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Economical violence, Psychological violence, Physical violence, Sexual viol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How women deal with violence, which is their 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Early precursors of dv, cycle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he attribution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Risk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Consequences of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he role of children or of other push in reporting or going out of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Prejudices and stere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c0000"/>
                </a:solidFill>
                <a:latin typeface="Tempus Sans ITC"/>
              </a:rPr>
              <a:t>Content of the question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How to gain women’s faith (for the training of interview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Feelings experienced from women as regards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Characteristics of intervie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The emotional impact on intervie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What to ask and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Wording and sequ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How to introduce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Length of the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04640"/>
            <a:ext cx="7993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empus Sans ITC"/>
              </a:rPr>
              <a:t>Procedural</a:t>
            </a:r>
            <a:r>
              <a:rPr b="0" lang="en-GB" sz="3600" spc="-1" strike="noStrike">
                <a:solidFill>
                  <a:srgbClr val="ff6600"/>
                </a:solidFill>
                <a:latin typeface="Tempus Sans ITC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Tempus Sans ITC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49600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Tempus Sans ITC"/>
              </a:rPr>
              <a:t>Some resul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Tempus Sans ITC"/>
              </a:rPr>
              <a:t>about contents and procedural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4978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forms are not evident (threatening, downgrading, intimidation, limitation</a:t>
            </a: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 of freedom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essive jealous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men rarely recognized it as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rthermore it’s not visible from a social point of view, so it’s difficult for women to speak about it and give vent to owns fe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’s culturally accepted that a woman has not to be autonomous thoughts, that she has to do what her husband is asking; or that she is or thinks to be  what her husband tell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uld be measured considering the different aspects of the dail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333360"/>
            <a:ext cx="84978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empus Sans ITC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empus Sans ITC"/>
              </a:rPr>
              <a:t>sychological viole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73800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03440" indent="-60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w, I would like to ask about some situations that can happen in relationships. Would you say your husband/partner/ boyfrie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s angry if you speak with other men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supportive towards your work or studies or other activities taking place outside the h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ies to limit your contact with family and friends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s you or keeps track of your whereabouts in a way you find controlling or fright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s you names, insults you or behaves in a way to put you down or to make you feel bad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-609840"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mages or destroys your possessions or property or your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-609840"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constantly suspicious that you have been unfaithful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-609840"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ists on knowing who you are with and where you are at all ti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-609840"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ms or threatens to harm your children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3440" indent="-609840"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ms or threatens to harm someone else close to you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189000"/>
            <a:ext cx="309744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IVAWS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35280" y="404280"/>
            <a:ext cx="3189240" cy="52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cc"/>
                </a:solidFill>
                <a:latin typeface="Tahoma"/>
              </a:rPr>
              <a:t>from the focu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62800" cy="48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he willing to talk with you and exchange your opinions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criticizes you for the way you look, dress, for instance by telling you that you are not very attractive, ugly, inadequate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criticizes you for the way you raise your child, look after the house or cook, for example by telling you that you are not a good mother or that you are incompetent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checks how much you spe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forces you what to wheare, how to arrange your hair, how to behave in public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empus Sans ITC"/>
              </a:rPr>
              <a:t>Economic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no access to bank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no info on family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not allowed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500280"/>
            <a:ext cx="8496360" cy="250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18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 you have any bank or post account registered und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th your name and your husband/cohabit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ner/boyfriend?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19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 you have a credit card, a cash card, or cheque boo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you can use on your joint account or on the accoun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your husband/cohabiting partner/boyfriend n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2852640"/>
            <a:ext cx="3189600" cy="52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from the focu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700360" y="1196640"/>
            <a:ext cx="5975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2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d20000"/>
                </a:solidFill>
                <a:latin typeface="Tahoma"/>
              </a:rPr>
              <a:t>Violence against women exists in all societies, in all cultures and religions and in all social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20000"/>
                </a:solidFill>
                <a:latin typeface="Tahoma"/>
              </a:rPr>
              <a:t>To understand it, we have to accept it as a dimension of “normal relationaship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20000"/>
                </a:solidFill>
                <a:latin typeface="Tahoma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a50021"/>
                </a:solidFill>
                <a:uFillTx/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-family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perception on childre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time the woman shows she wants to ‘leave’ – fle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empus Sans ITC"/>
              </a:rPr>
              <a:t>Risk/escalating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724280"/>
            <a:ext cx="82803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3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 you recall any particular circumstance that irrupt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used the violence of your partn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questions on violence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3933720"/>
            <a:ext cx="3189240" cy="52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from the focu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3520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Lower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Guilt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Loss of faith in relation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Sense of in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mpus Sans ITC"/>
              </a:rPr>
              <a:t>Not talking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6316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empus Sans ITC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19720"/>
            <a:ext cx="828036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13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equently to this episode, did you have to give up you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ily rout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15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ubsequently to this episode, did you have to stay awa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work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ubsequently to this episode, has something changed 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r attitu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3716280"/>
            <a:ext cx="3189240" cy="52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from the focu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0640" indent="-170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olence by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artners enables gradually to isolate from the outside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99320" indent="-163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milies that want to protect themselves or they feel they can not provide any sup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9320" indent="-163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working activity that has been interrupted or preven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9320" indent="-163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bsence of any friendship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9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empus Sans ITC"/>
              </a:rPr>
              <a:t>Role of stereotypes that affect women and those involv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empus Sans ITC"/>
              </a:rPr>
              <a:t>Denial/minimisation of sever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empus Sans ITC"/>
              </a:rPr>
              <a:t>Indif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empus Sans ITC"/>
              </a:rPr>
              <a:t>Not really serious if women don’t leave or don’t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empus Sans ITC"/>
              </a:rPr>
              <a:t>Private ma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44520" y="274680"/>
            <a:ext cx="8569440" cy="4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empus Sans ITC"/>
              </a:rPr>
              <a:t>Social context/attit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1440" y="5157720"/>
            <a:ext cx="864252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19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 you have friends, relatives, or other people with whom you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n talk of yourself, who you trust on whom you can rely if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28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…… did you ever talk to someone else about what has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appened …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4653000"/>
            <a:ext cx="3189600" cy="37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from the focu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7480" indent="-1774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empus Sans ITC"/>
              </a:rPr>
              <a:t>Funnelling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t types of crime analysed are presented with a screening procedure which helps to focus the attention on both the type of violence as well as on all possible auth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The language adopted should be clear and not  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s should also adopt sentences not using jargons or other unclear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empus Sans ITC"/>
              </a:rPr>
              <a:t>No name it</a:t>
            </a: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en-GB" sz="2400" spc="-1" strike="noStrike">
                <a:solidFill>
                  <a:srgbClr val="800000"/>
                </a:solidFill>
                <a:latin typeface="Tempus Sans ITC"/>
              </a:rPr>
              <a:t>‘VIOLENC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ype of violence is defined in a way that women can remember and reflect their lives as if in 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empus Sans ITC"/>
              </a:rPr>
              <a:t> </a:t>
            </a:r>
            <a:r>
              <a:rPr b="0" lang="en-GB" sz="2400" spc="-1" strike="noStrike">
                <a:solidFill>
                  <a:srgbClr val="008000"/>
                </a:solidFill>
                <a:latin typeface="Tempus Sans ITC"/>
              </a:rPr>
              <a:t>Ask gradually about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questions measuring violence should be included grad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empus Sans ITC"/>
              </a:rPr>
              <a:t>Wording and the questionnai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5661000"/>
            <a:ext cx="180036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2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84360" y="3429000"/>
            <a:ext cx="6588360" cy="863640"/>
          </a:xfrm>
          <a:custGeom>
            <a:avLst/>
            <a:gdLst>
              <a:gd name="textAreaLeft" fmla="*/ 101520 w 6588360"/>
              <a:gd name="textAreaRight" fmla="*/ 6486840 w 6588360"/>
              <a:gd name="textAreaTop" fmla="*/ 101520 h 863640"/>
              <a:gd name="textAreaBottom" fmla="*/ 762120 h 863640"/>
            </a:gdLst>
            <a:ahLst/>
            <a:rect l="textAreaLeft" t="textAreaTop" r="textAreaRight" b="textAreaBottom"/>
            <a:pathLst>
              <a:path w="16471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61118" y="21600"/>
                </a:lnTo>
                <a:arcTo wR="3600" hR="3600" stAng="10800000" swAng="5400000"/>
                <a:lnTo>
                  <a:pt x="164718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1628640"/>
            <a:ext cx="6480360" cy="792360"/>
          </a:xfrm>
          <a:custGeom>
            <a:avLst/>
            <a:gdLst>
              <a:gd name="textAreaLeft" fmla="*/ 93240 w 6480360"/>
              <a:gd name="textAreaRight" fmla="*/ 6387120 w 648036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765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72986" y="21600"/>
                </a:lnTo>
                <a:arcTo wR="3600" hR="3600" stAng="10800000" swAng="5400000"/>
                <a:lnTo>
                  <a:pt x="176586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484000" y="792000"/>
            <a:ext cx="665964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B16 –B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Ask questions on the every day life, leisure time, social networks, health, before those on viol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To Go in gradually into the  relationship with the female inter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C, E or Ebis,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Repeat the screening of physical and sexual violence for the actual and the former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We decided to reintroduce again the screening on partners and former partners to facilitate dis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osticipation in E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We inserted the questions on violence from the partner in the section on the partner’s characteristics, after having asked about the relationship and the psychological violence batt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D  -  </a:t>
            </a:r>
            <a:r>
              <a:rPr b="1" lang="it-IT" sz="1600" spc="-1" strike="noStrike">
                <a:solidFill>
                  <a:srgbClr val="008000"/>
                </a:solidFill>
                <a:latin typeface="Arial"/>
              </a:rPr>
              <a:t>More details about last episode of viol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G  -  </a:t>
            </a:r>
            <a:r>
              <a:rPr b="1" lang="it-IT" sz="1600" spc="-1" strike="noStrike">
                <a:solidFill>
                  <a:srgbClr val="008000"/>
                </a:solidFill>
                <a:latin typeface="Arial"/>
              </a:rPr>
              <a:t>More details about last episode viol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it-IT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8000"/>
                </a:solidFill>
                <a:latin typeface="Arial"/>
              </a:rPr>
              <a:t>and history viol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92160"/>
            <a:ext cx="6408720" cy="520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Questionnaire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664000" y="1196640"/>
            <a:ext cx="648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A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Control 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B.  Marital status and respondent characteris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C.  Experience of violence </a:t>
            </a:r>
            <a:r>
              <a:rPr b="1" lang="en-AU" sz="1900" spc="-1" strike="noStrike">
                <a:solidFill>
                  <a:srgbClr val="d20000"/>
                </a:solidFill>
                <a:latin typeface="Arial"/>
              </a:rPr>
              <a:t>by no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D.  Non-partner victimisation repo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E.  Characteristics of current intimate partner </a:t>
            </a:r>
            <a:r>
              <a:rPr b="1" lang="en-AU" sz="1900" spc="-1" strike="noStrike">
                <a:solidFill>
                  <a:srgbClr val="d20000"/>
                </a:solidFill>
                <a:latin typeface="Arial"/>
              </a:rPr>
              <a:t>and  partner experience of violenc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Ebis.</a:t>
            </a:r>
            <a:r>
              <a:rPr b="1" lang="it-IT" sz="19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1" lang="en-AU" sz="1900" spc="-1" strike="noStrike">
                <a:solidFill>
                  <a:srgbClr val="d20000"/>
                </a:solidFill>
                <a:latin typeface="Arial"/>
              </a:rPr>
              <a:t>Characteristics</a:t>
            </a:r>
            <a:r>
              <a:rPr b="1" lang="it-IT" sz="1900" spc="-1" strike="noStrike">
                <a:solidFill>
                  <a:srgbClr val="d20000"/>
                </a:solidFill>
                <a:latin typeface="Arial"/>
              </a:rPr>
              <a:t> of the last partner and </a:t>
            </a:r>
            <a:r>
              <a:rPr b="1" lang="en-AU" sz="1900" spc="-1" strike="noStrike">
                <a:solidFill>
                  <a:srgbClr val="d20000"/>
                </a:solidFill>
                <a:latin typeface="Arial"/>
              </a:rPr>
              <a:t>experience of violence (if there isn’t an actual partn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en-AU" sz="1900" spc="-1" strike="noStrike">
                <a:solidFill>
                  <a:srgbClr val="d20000"/>
                </a:solidFill>
                <a:latin typeface="Arial"/>
              </a:rPr>
              <a:t> Experience of violence by  previous partners and </a:t>
            </a: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characteristics of the violent previous intimate partn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G.  Partner/previous partner victimisation repo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H.  Mother and partner abuse history and    childhood victimis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I.   Conclu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. Quality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189000"/>
            <a:ext cx="6264360" cy="520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Question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808000" y="836640"/>
            <a:ext cx="5940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20000"/>
                </a:solidFill>
                <a:latin typeface="Arial"/>
              </a:rPr>
              <a:t>How to approach the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20000"/>
                </a:solidFill>
                <a:latin typeface="Arial"/>
              </a:rPr>
              <a:t>Characteristics of inter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20000"/>
                </a:solidFill>
                <a:latin typeface="Arial"/>
              </a:rPr>
              <a:t>Context of the interview</a:t>
            </a:r>
            <a:r>
              <a:rPr b="0" lang="it-IT" sz="24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Methodology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2708280"/>
            <a:ext cx="1008000" cy="129708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3860640"/>
            <a:ext cx="4572000" cy="2838240"/>
          </a:xfrm>
          <a:prstGeom prst="rect">
            <a:avLst/>
          </a:prstGeom>
          <a:noFill/>
          <a:ln w="93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Survey orga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Interviewers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Interviewers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Women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Interviewers burn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5280" y="3370320"/>
            <a:ext cx="2841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More attention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700360" y="1557360"/>
            <a:ext cx="6012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Survey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Interviewers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Interviewers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Monitoring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Results of the survey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The pilot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back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55640" y="836280"/>
            <a:ext cx="633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Type of interviewers: two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one group with more expertise in the CATI method 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 second group of women working in shelters for battered women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Type of interviewer’s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hours worked (included the payment during the training ph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Timetable of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from 9am to 9pm, Monday to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from 9am to 7pm on Satur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Possibility to make an appointment and to call to a mobile 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8000"/>
                </a:solidFill>
                <a:latin typeface="Arial"/>
              </a:rPr>
              <a:t>to augment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Toll free number and ma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lnSpc>
                <a:spcPct val="80000"/>
              </a:lnSpc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Reaserch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psichologists during the training and the collection data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Surve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55640" y="836280"/>
            <a:ext cx="633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Interviewers were chosen based on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Fem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Minimum 24 years ol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Comfortable discussing issues related to violence against wom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Sensitivity and matur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Professional experience in CATI surveys as well as in dealing with cases of violence (according to the type of the grou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Prior experience in handling similar sensitive research stud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a0000"/>
                </a:solidFill>
                <a:latin typeface="Arial"/>
              </a:rPr>
              <a:t>Listening skills, empathy, no counsell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a0000"/>
                </a:solidFill>
                <a:latin typeface="Arial"/>
              </a:rPr>
              <a:t>Probing, no judg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a0000"/>
                </a:solidFill>
                <a:latin typeface="Arial"/>
              </a:rPr>
              <a:t>Warm tone of voice that helps creating a positive clim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a0000"/>
                </a:solidFill>
                <a:latin typeface="Arial"/>
              </a:rPr>
              <a:t>Capacity to keep adequate detach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a0000"/>
                </a:solidFill>
                <a:latin typeface="Arial"/>
              </a:rPr>
              <a:t>Skills to elaborate own emotions and to handle unexpected situation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a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Interviewers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629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empus Sans ITC"/>
              </a:rPr>
              <a:t>Violence and, above all, violence in the family is still an </a:t>
            </a:r>
            <a:r>
              <a:rPr b="0" lang="en-GB" sz="3600" spc="-1" strike="noStrike">
                <a:solidFill>
                  <a:srgbClr val="ff3300"/>
                </a:solidFill>
                <a:latin typeface="Tempus Sans ITC"/>
              </a:rPr>
              <a:t>underreported</a:t>
            </a:r>
            <a:r>
              <a:rPr b="0" lang="en-GB" sz="3600" spc="-1" strike="noStrike">
                <a:solidFill>
                  <a:srgbClr val="000000"/>
                </a:solidFill>
                <a:latin typeface="Tempus Sans ITC"/>
              </a:rPr>
              <a:t> and an </a:t>
            </a:r>
            <a:r>
              <a:rPr b="0" lang="en-GB" sz="3600" spc="-1" strike="noStrike">
                <a:solidFill>
                  <a:srgbClr val="ff3300"/>
                </a:solidFill>
                <a:latin typeface="Tempus Sans ITC"/>
              </a:rPr>
              <a:t>understudied </a:t>
            </a:r>
            <a:r>
              <a:rPr b="0" lang="en-GB" sz="3600" spc="-1" strike="noStrike">
                <a:solidFill>
                  <a:srgbClr val="000000"/>
                </a:solidFill>
                <a:latin typeface="Tempus Sans ITC"/>
              </a:rPr>
              <a:t>social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205000"/>
            <a:ext cx="8496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Women rarely disclose what has happened to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empus Sans ITC"/>
              </a:rPr>
              <a:t>and even more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hey report to the pol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mpus Sans ITC"/>
              </a:rPr>
              <a:t>they seek for help in the crisis centres or in other soci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empus Sans ITC"/>
              </a:rPr>
              <a:t>Official data gathered with criminal statistics do not provide enough evidence on violence against women. Especially in cases of domestic viol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4437000"/>
            <a:ext cx="576360" cy="719280"/>
          </a:xfrm>
          <a:prstGeom prst="downArrow">
            <a:avLst>
              <a:gd name="adj1" fmla="val 50000"/>
              <a:gd name="adj2" fmla="val 3119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55640" y="836280"/>
            <a:ext cx="633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ba0000"/>
                </a:solidFill>
                <a:latin typeface="Arial"/>
              </a:rPr>
              <a:t>6 days of theorical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ba0000"/>
                </a:solidFill>
                <a:latin typeface="Arial"/>
              </a:rPr>
              <a:t>From 9am to 2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sexual viol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domestic viol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About the suject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emotional abuse and 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 psychological viol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risk factors - consequ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how to recognize it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how to read the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About the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how to codify the ans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Methodology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the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the contact procedure 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how to handle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no counsel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a0000"/>
                </a:solidFill>
                <a:latin typeface="Arial"/>
              </a:rPr>
              <a:t>About the emotion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w</a:t>
            </a:r>
            <a:r>
              <a:rPr b="0" lang="en-GB" sz="1600" spc="-1" strike="noStrike">
                <a:solidFill>
                  <a:srgbClr val="ba0000"/>
                </a:solidFill>
                <a:latin typeface="Arial"/>
              </a:rPr>
              <a:t>arm tone of voice, communicating </a:t>
            </a:r>
            <a:r>
              <a:rPr b="0" lang="en-GB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ba0000"/>
                </a:solidFill>
                <a:latin typeface="Arial"/>
              </a:rPr>
              <a:t>   skills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                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- learning the detachment and 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ba0000"/>
                </a:solidFill>
                <a:latin typeface="Arial"/>
              </a:rPr>
              <a:t>  empaty 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Interviewers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413000"/>
            <a:ext cx="3816360" cy="16556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3213000"/>
            <a:ext cx="3816360" cy="15112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941720"/>
            <a:ext cx="3889440" cy="16560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55640" y="2708280"/>
            <a:ext cx="633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000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ba0000"/>
                </a:solidFill>
                <a:latin typeface="Arial"/>
              </a:rPr>
              <a:t>2 days of technical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From 9am to 5.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Interviewers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4508640"/>
            <a:ext cx="4319280" cy="15127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3789360"/>
            <a:ext cx="338436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ow to handle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TI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appointment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recal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616572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ba0000"/>
                </a:solidFill>
                <a:latin typeface="Arial"/>
              </a:rPr>
              <a:t>Trial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9280" y="981000"/>
            <a:ext cx="6013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c0000"/>
                </a:solidFill>
                <a:latin typeface="Arial"/>
              </a:rPr>
              <a:t>Traning instrument</a:t>
            </a:r>
            <a:r>
              <a:rPr b="0" lang="it-IT" sz="2400" spc="-1" strike="noStrike">
                <a:solidFill>
                  <a:srgbClr val="ec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ssons, videos, practice, roleplayings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55640" y="836280"/>
            <a:ext cx="633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00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000"/>
                </a:solidFill>
                <a:latin typeface="Arial"/>
              </a:rPr>
              <a:t>Help assistance during the entire collectio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700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000"/>
                </a:solidFill>
                <a:latin typeface="Arial"/>
              </a:rPr>
              <a:t>Every day quality indicators (refusal rate, contact/non contact rate, appointment rate, average lenght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For inter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For interviewe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For time of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At loc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700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000"/>
                </a:solidFill>
                <a:latin typeface="Arial"/>
              </a:rPr>
              <a:t>Debriefing with interviewers every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700"/>
              </a:spcBef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000"/>
                </a:solidFill>
                <a:latin typeface="Arial"/>
              </a:rPr>
              <a:t>Psychologic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Monitoring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55640" y="836280"/>
            <a:ext cx="633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Arial"/>
              </a:rPr>
              <a:t>- two stages random sample stratified at the firs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First s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Arial"/>
              </a:rPr>
              <a:t>- households present on the ufficial list of telephone subscr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Stratification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Arial"/>
              </a:rPr>
              <a:t>- Stratus variable: region and type of municip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Arial"/>
              </a:rPr>
              <a:t>- 1.000 household selected all over the country and a sample of 5000 households for possible substitution (territorial criterion of proxim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Second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Arial"/>
              </a:rPr>
              <a:t>- Women aged 16-7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a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a0000"/>
                </a:solidFill>
                <a:latin typeface="Arial"/>
              </a:rPr>
              <a:t>Selection criter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Arial"/>
              </a:rPr>
              <a:t>- Random selection between eligible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627280" y="836280"/>
            <a:ext cx="6337440" cy="58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Actual and past marital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At the time of the inter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75,8% women were marr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2,2%   had a partner more ux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7,7%   had a boyfri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85,7% (819) women have a partner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section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3,3% (31) women had only a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in the past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        section 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44,1% (419) women had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also in the past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section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3141720"/>
            <a:ext cx="460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5013360"/>
            <a:ext cx="863640" cy="144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6165720"/>
            <a:ext cx="936360" cy="144720"/>
          </a:xfrm>
          <a:custGeom>
            <a:avLst/>
            <a:gdLst>
              <a:gd name="textAreaLeft" fmla="*/ 146160 w 936360"/>
              <a:gd name="textAreaRight" fmla="*/ 819360 w 93636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3789360"/>
            <a:ext cx="720720" cy="289080"/>
          </a:xfrm>
          <a:custGeom>
            <a:avLst/>
            <a:gdLst>
              <a:gd name="textAreaLeft" fmla="*/ 96480 w 720720"/>
              <a:gd name="textAreaRight" fmla="*/ 624240 w 720720"/>
              <a:gd name="textAreaTop" fmla="*/ 57240 h 289080"/>
              <a:gd name="textAreaBottom" fmla="*/ 175680 h 2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76" stAng="-5400000" swAng="-5400000"/>
                <a:lnTo>
                  <a:pt x="0" y="8832"/>
                </a:lnTo>
                <a:arcTo wR="21600" hR="8576" stAng="10800000" swAng="-2898935"/>
                <a:lnTo>
                  <a:pt x="14400" y="21110"/>
                </a:lnTo>
                <a:lnTo>
                  <a:pt x="21600" y="17280"/>
                </a:lnTo>
                <a:lnTo>
                  <a:pt x="14400" y="12470"/>
                </a:lnTo>
                <a:lnTo>
                  <a:pt x="14400" y="16662"/>
                </a:lnTo>
                <a:arcTo wR="21600" hR="8576" stAng="7901065" swAng="2878561"/>
                <a:lnTo>
                  <a:pt x="2" y="8704"/>
                </a:lnTo>
                <a:arcTo wR="21600" hR="8576" stAng="-10779626" swAng="5379626"/>
                <a:close/>
              </a:path>
              <a:path fill="darkenLess" w="21600" h="21600">
                <a:moveTo>
                  <a:pt x="21600" y="0"/>
                </a:moveTo>
                <a:arcTo wR="21600" hR="8576" stAng="-5400000" swAng="-5400000"/>
                <a:lnTo>
                  <a:pt x="0" y="8576"/>
                </a:lnTo>
                <a:arcTo wR="21600" hR="8576" stAng="10800000" swAng="-20374"/>
                <a:lnTo>
                  <a:pt x="2" y="8704"/>
                </a:lnTo>
                <a:arcTo wR="21600" hR="8576" stAng="-10779626" swAng="5379626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55640" y="836280"/>
            <a:ext cx="6337080" cy="58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Questionnaire Informatization 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February – March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Interviewer selection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       (March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Test of the Questionnaire </a:t>
            </a:r>
            <a:r>
              <a:rPr b="0" lang="en-AU" sz="28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March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Training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en-AU" sz="2800" spc="-1" strike="noStrike">
                <a:solidFill>
                  <a:srgbClr val="008000"/>
                </a:solidFill>
                <a:latin typeface="Arial"/>
              </a:rPr>
              <a:t>A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Mailing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A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00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Trial calls and re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of the indicator system      </a:t>
            </a:r>
            <a:r>
              <a:rPr b="0" lang="en-AU" sz="28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A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20000"/>
                </a:solidFill>
                <a:latin typeface="Arial"/>
              </a:rPr>
              <a:t>Collection phase</a:t>
            </a:r>
            <a:r>
              <a:rPr b="0" lang="en-AU" sz="2400" spc="-1" strike="noStrike">
                <a:solidFill>
                  <a:srgbClr val="008000"/>
                </a:solidFill>
                <a:latin typeface="Arial"/>
              </a:rPr>
              <a:t>  (26 April - 9 July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Calendar of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55640" y="1125360"/>
            <a:ext cx="6337080" cy="561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Some 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Phone  calls: 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246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Telephone number contacted: 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2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Telephone number not in target:  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7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(no eligible households 5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d20000"/>
                </a:solidFill>
                <a:latin typeface="Arial"/>
              </a:rPr>
              <a:t>Some r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Cooperation rates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6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Household refusal rate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18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Refusal rate of selected person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3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Interruption rate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2,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Average lenght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28,8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92160"/>
            <a:ext cx="6408720" cy="947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Results about the survey quality and the feasibility of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219640" y="5084640"/>
          <a:ext cx="3384720" cy="1819440"/>
        </p:xfrm>
        <a:graphic>
          <a:graphicData uri="http://schemas.openxmlformats.org/drawingml/2006/table">
            <a:tbl>
              <a:tblPr/>
              <a:tblGrid>
                <a:gridCol w="1152720"/>
                <a:gridCol w="977760"/>
                <a:gridCol w="12542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-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-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-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703600" y="5516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Lenght in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5373720"/>
            <a:ext cx="648000" cy="64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85080" y="5373720"/>
            <a:ext cx="647640" cy="64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56000" y="1125000"/>
            <a:ext cx="6588000" cy="55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442800" indent="-263520">
              <a:lnSpc>
                <a:spcPct val="90000"/>
              </a:lnSpc>
              <a:spcBef>
                <a:spcPts val="451"/>
              </a:spcBef>
              <a:buClr>
                <a:srgbClr val="e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c0000"/>
                </a:solidFill>
                <a:latin typeface="Arial"/>
              </a:rPr>
              <a:t>There are many differences  among the two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c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ec0000"/>
                </a:solidFill>
                <a:latin typeface="Arial"/>
              </a:rPr>
              <a:t>of intervie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1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90000"/>
              </a:lnSpc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Against every expectation, interviewers from shelters  obtained more interviews than the other 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90000"/>
              </a:lnSpc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They were “new” for this work, they didn’t use dangerous authomatisme to maximize their work, each call was an adven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90000"/>
              </a:lnSpc>
              <a:spcBef>
                <a:spcPts val="451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20000"/>
                </a:solidFill>
                <a:latin typeface="Arial"/>
              </a:rPr>
              <a:t>They are able to conquer the household, to put at own ease the respondent, to value 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56000" y="92160"/>
            <a:ext cx="6408720" cy="947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Results about the survey quality and the feasibility of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700360" y="2060640"/>
          <a:ext cx="6227640" cy="2174760"/>
        </p:xfrm>
        <a:graphic>
          <a:graphicData uri="http://schemas.openxmlformats.org/drawingml/2006/table">
            <a:tbl>
              <a:tblPr/>
              <a:tblGrid>
                <a:gridCol w="1896840"/>
                <a:gridCol w="947880"/>
                <a:gridCol w="1249200"/>
                <a:gridCol w="1233720"/>
                <a:gridCol w="900000"/>
              </a:tblGrid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usal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usal of selected 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ers from shel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i professionist interview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00360" y="2997360"/>
            <a:ext cx="5688000" cy="936360"/>
          </a:xfrm>
          <a:custGeom>
            <a:avLst/>
            <a:gdLst>
              <a:gd name="textAreaLeft" fmla="*/ 110160 w 5688000"/>
              <a:gd name="textAreaRight" fmla="*/ 5577840 w 5688000"/>
              <a:gd name="textAreaTop" fmla="*/ 110160 h 936360"/>
              <a:gd name="textAreaBottom" fmla="*/ 826200 h 936360"/>
            </a:gdLst>
            <a:ahLst/>
            <a:rect l="textAreaLeft" t="textAreaTop" r="textAreaRight" b="textAreaBottom"/>
            <a:pathLst>
              <a:path w="1311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7569" y="21600"/>
                </a:lnTo>
                <a:arcTo wR="3600" hR="3600" stAng="10800000" swAng="5400000"/>
                <a:lnTo>
                  <a:pt x="131169" y="3600"/>
                </a:lnTo>
                <a:arcTo wR="3600" hR="3600" stAng="5400000" swAng="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56000" y="1054080"/>
            <a:ext cx="6408720" cy="56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20000"/>
                </a:solidFill>
                <a:latin typeface="Arial"/>
              </a:rPr>
              <a:t>The interviewers from shel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99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20000"/>
                </a:solidFill>
                <a:latin typeface="Arial"/>
              </a:rPr>
              <a:t>Read slowly and entirely th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99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20000"/>
                </a:solidFill>
                <a:latin typeface="Arial"/>
              </a:rPr>
              <a:t>Gave time to reflect and to answer to the interview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spcBef>
                <a:spcPts val="499"/>
              </a:spcBef>
              <a:buClr>
                <a:srgbClr val="d2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20000"/>
                </a:solidFill>
                <a:latin typeface="Arial"/>
              </a:rPr>
              <a:t>create a confiance climate with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00"/>
                </a:solidFill>
                <a:latin typeface="Arial"/>
              </a:rPr>
              <a:t>This means more ability to capture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8000"/>
                </a:solidFill>
                <a:latin typeface="Arial"/>
              </a:rPr>
              <a:t>- Women disclosure themselves more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92160"/>
            <a:ext cx="6408720" cy="520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Results about violen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700360" y="4221000"/>
          <a:ext cx="5976720" cy="2316240"/>
        </p:xfrm>
        <a:graphic>
          <a:graphicData uri="http://schemas.openxmlformats.org/drawingml/2006/table">
            <a:tbl>
              <a:tblPr/>
              <a:tblGrid>
                <a:gridCol w="1973160"/>
                <a:gridCol w="1008720"/>
                <a:gridCol w="1023120"/>
                <a:gridCol w="1026720"/>
                <a:gridCol w="94500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vio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partner violence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violence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violence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ers from shel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i professionist interview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556000" y="92160"/>
            <a:ext cx="6408720" cy="520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Results about violen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449440" y="1125360"/>
          <a:ext cx="6515280" cy="2521080"/>
        </p:xfrm>
        <a:graphic>
          <a:graphicData uri="http://schemas.openxmlformats.org/drawingml/2006/table">
            <a:tbl>
              <a:tblPr/>
              <a:tblGrid>
                <a:gridCol w="1474920"/>
                <a:gridCol w="1008000"/>
                <a:gridCol w="1008000"/>
                <a:gridCol w="1008000"/>
                <a:gridCol w="936720"/>
                <a:gridCol w="107964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partner physical vio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partner sex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o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vio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phys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o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sex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o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ers from shel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i professionist interview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484360" y="3890880"/>
            <a:ext cx="626580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re is a link between length and violenc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 sometimes, the time is not en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i="1" lang="it-IT" sz="1800" spc="-1" strike="noStrike">
                <a:solidFill>
                  <a:srgbClr val="008000"/>
                </a:solidFill>
                <a:latin typeface="Arial"/>
              </a:rPr>
              <a:t>women often recall violence episodes only at the end of the interviews”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s reported in the open-ended notes placed a the end of the questionn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viewers from shelter, furthermore,  are better to help older people in rembering or reporting violence episodes far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3300"/>
                </a:solidFill>
                <a:latin typeface="Tempus Sans ITC"/>
              </a:rPr>
              <a:t>From the Italian Victimization survey it emerges tha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248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ate of sexual violence  reported to the police is absolutely low 12,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ncreases to 15,5% when the offender is a str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ecreases to 4% if the offender is a known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43280" y="1557360"/>
          <a:ext cx="4038840" cy="4464000"/>
        </p:xfrm>
        <a:graphic>
          <a:graphicData uri="http://schemas.openxmlformats.org/drawingml/2006/table">
            <a:tbl>
              <a:tblPr/>
              <a:tblGrid>
                <a:gridCol w="1584360"/>
                <a:gridCol w="1224000"/>
                <a:gridCol w="1230480"/>
              </a:tblGrid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violence repor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viol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ing the life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last three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mpted ra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643280" y="6093000"/>
            <a:ext cx="41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ource: Citizen’s Safety Survey 1997-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556000" y="92160"/>
            <a:ext cx="640872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Results about violenc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3645000"/>
            <a:ext cx="61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8000"/>
                </a:solidFill>
                <a:latin typeface="Arial"/>
              </a:rPr>
              <a:t>They can be found not only in interviewers from shelter, but also in interviewers that directly experienced violence in thei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1197000"/>
            <a:ext cx="2592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vail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fessional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1773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e very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1052640"/>
            <a:ext cx="2808360" cy="20160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56000" y="92160"/>
            <a:ext cx="6408720" cy="947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Other observation on violence indicators: some dou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3068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1557360"/>
            <a:ext cx="62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There are more cases of  former partner violence than of the actual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2924280"/>
            <a:ext cx="55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Many cases of st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20000"/>
                </a:solidFill>
                <a:latin typeface="Arial"/>
              </a:rPr>
              <a:t>Why these differ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8000"/>
                </a:solidFill>
                <a:latin typeface="Arial"/>
              </a:rPr>
              <a:t>Are women so able to change their life and avoid negative relationship </a:t>
            </a:r>
            <a:r>
              <a:rPr b="1" i="1" lang="it-IT" sz="2400" spc="-1" strike="noStrike">
                <a:solidFill>
                  <a:srgbClr val="ba0000"/>
                </a:solidFill>
                <a:latin typeface="Arial"/>
              </a:rPr>
              <a:t>or there are also methodological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56000" y="92160"/>
            <a:ext cx="6408720" cy="10688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Other observation on violence indicators: some dou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84360" y="3068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987280" y="1844280"/>
            <a:ext cx="5699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T’S IMPORTANT TO INTERVIEW THE WOMAN WHEN SHE IS ALONE AT H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D TO CALL BACK AND TO TAKE AN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55920" cy="3357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3068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628720" y="1495440"/>
            <a:ext cx="61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20000"/>
                </a:solidFill>
                <a:latin typeface="Arial"/>
              </a:rPr>
              <a:t>Problems about going in details when the violence episodes are perceveid not se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8000"/>
                </a:solidFill>
                <a:latin typeface="Arial"/>
              </a:rPr>
              <a:t>For instance after a sexual harassment o a minor threat or slap (also by the partner) many questions of the victimization report section are felt as inadequate and are too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260280"/>
            <a:ext cx="6335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Other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result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4360" y="3068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56000" y="1413000"/>
            <a:ext cx="619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estions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20000"/>
                </a:solidFill>
                <a:latin typeface="Arial"/>
              </a:rPr>
              <a:t>Partner’s use of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20000"/>
                </a:solidFill>
                <a:latin typeface="Arial"/>
              </a:rPr>
              <a:t>Decision about the us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20000"/>
                </a:solidFill>
                <a:latin typeface="Arial"/>
              </a:rPr>
              <a:t>History of Parental abuse on women and her  partner (actual or for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20000"/>
                </a:solidFill>
                <a:latin typeface="Arial"/>
              </a:rPr>
              <a:t>Have an higher percentage of “unknown”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260280"/>
            <a:ext cx="6264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Other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result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84360" y="3068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700360" y="1267920"/>
            <a:ext cx="590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blems about wor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d20000"/>
                </a:solidFill>
                <a:latin typeface="Arial"/>
              </a:rPr>
              <a:t>Name as “violent behaviour” episodes considered normal by the woman can lead respondents to unwillingness to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4360" y="260280"/>
            <a:ext cx="6372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Other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ba0000"/>
                </a:solidFill>
                <a:latin typeface="Arial"/>
              </a:rPr>
              <a:t>result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Tahoma"/>
              </a:rPr>
              <a:t>The Pilot Surv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it-IT" sz="8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urvey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nterviewers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onitor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Results of the survey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068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03640" y="836640"/>
            <a:ext cx="5400720" cy="54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15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d fin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Indifference and to be ignored is viol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52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empus Sans ITC"/>
              </a:rPr>
              <a:t>To learn about violence against women (with regard to its prevalence, incidence rate and nature</a:t>
            </a:r>
            <a:r>
              <a:rPr b="0" lang="en-GB" sz="4400" spc="-1" strike="noStrike">
                <a:solidFill>
                  <a:srgbClr val="000000"/>
                </a:solidFill>
                <a:latin typeface="Tempus Sans IT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449440"/>
            <a:ext cx="7920000" cy="47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Information should be gathered from those directly involved (i.e. women), who are asked about their l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empus Sans ITC"/>
              </a:rPr>
              <a:t>Only dedicated surveys on domestic violence can achieve this a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4221000"/>
            <a:ext cx="576360" cy="936720"/>
          </a:xfrm>
          <a:prstGeom prst="downArrow">
            <a:avLst>
              <a:gd name="adj1" fmla="val 50000"/>
              <a:gd name="adj2" fmla="val 40631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520120" cy="17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d20000"/>
                </a:solidFill>
                <a:latin typeface="Tempus Sans ITC"/>
              </a:rPr>
              <a:t>Surveys on violence against women are  complex: need to address sensitive 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2781360"/>
            <a:ext cx="83516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empus Sans ITC"/>
              </a:rPr>
              <a:t>Need methodological and procedural dedicated tools that  help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empus Sans ITC"/>
              </a:rPr>
              <a:t>to disclosur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empus Sans ITC"/>
              </a:rPr>
              <a:t>beforehand to recognize what is violence in he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d20000"/>
                </a:solidFill>
                <a:latin typeface="Arial"/>
              </a:rPr>
              <a:t>The research aims to address several aspect of violence against wo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valence and incidence rate of different types of violence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pecific attention has domestic viole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current or former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sycho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conom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exual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aracteristics of those involved and characteristics, consequences and costs of violence, the history of vio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isk and protective factors related to individuals as well to socio-demographical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every day life context in which violence can aris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1844640"/>
            <a:ext cx="865440" cy="287280"/>
          </a:xfrm>
          <a:prstGeom prst="rightArrow">
            <a:avLst>
              <a:gd name="adj1" fmla="val 50000"/>
              <a:gd name="adj2" fmla="val 7531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d20000"/>
                </a:solidFill>
                <a:latin typeface="Arial"/>
              </a:rPr>
              <a:t>The Italian Experience and the focus on Domestic Viol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860120"/>
            <a:ext cx="850716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dedicated survey is the first one of this kind in Ita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ince 2001 Istat and the Department of Equal Opportunities began to address the issu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t the same time, in 2000 -2001 began the IVAWS Project coordinated by 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uni Unicri Statistics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ct to whom Italy  (through Istat ) parte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some criti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fad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55640" y="1484280"/>
            <a:ext cx="6337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a0000"/>
                </a:solidFill>
                <a:latin typeface="Arial"/>
              </a:rPr>
              <a:t>Survey Feasibili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58600" indent="-280080">
              <a:lnSpc>
                <a:spcPct val="90000"/>
              </a:lnSpc>
              <a:spcBef>
                <a:spcPts val="451"/>
              </a:spcBef>
              <a:buClr>
                <a:srgbClr val="ba0000"/>
              </a:buClr>
              <a:buFont typeface="Arial"/>
              <a:buChar char="–"/>
              <a:tabLst>
                <a:tab algn="l" pos="35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are women and the comunity ready to deal with violence ma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a0000"/>
                </a:solidFill>
                <a:latin typeface="Arial"/>
              </a:rPr>
              <a:t>Women availa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58600" indent="-280080">
              <a:lnSpc>
                <a:spcPct val="90000"/>
              </a:lnSpc>
              <a:spcBef>
                <a:spcPts val="451"/>
              </a:spcBef>
              <a:buClr>
                <a:srgbClr val="ba0000"/>
              </a:buClr>
              <a:buFont typeface="Arial"/>
              <a:buChar char="–"/>
              <a:tabLst>
                <a:tab algn="l" pos="35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Are women ready to answ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buClr>
                <a:srgbClr val="ba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a0000"/>
                </a:solidFill>
                <a:latin typeface="Arial"/>
              </a:rPr>
              <a:t>Women disclo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58600" indent="-280080">
              <a:lnSpc>
                <a:spcPct val="90000"/>
              </a:lnSpc>
              <a:spcBef>
                <a:spcPts val="451"/>
              </a:spcBef>
              <a:buClr>
                <a:srgbClr val="ba0000"/>
              </a:buClr>
              <a:buFont typeface="Arial"/>
              <a:buChar char="–"/>
              <a:tabLst>
                <a:tab algn="l" pos="35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Are women ready to  open themselves and to speak about their violence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5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ba0000"/>
                </a:solidFill>
                <a:latin typeface="Arial"/>
              </a:rPr>
              <a:t>(if 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189000"/>
            <a:ext cx="6264360" cy="10688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3300"/>
                </a:solidFill>
                <a:latin typeface="Arial"/>
              </a:rPr>
              <a:t>Some doubts about the Italian contex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57720"/>
            <a:ext cx="2411280" cy="3500280"/>
          </a:xfrm>
          <a:prstGeom prst="rect">
            <a:avLst/>
          </a:prstGeom>
          <a:solidFill>
            <a:srgbClr val="ffe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The 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Tahoma"/>
              </a:rPr>
              <a:t>Italian background</a:t>
            </a: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Italian steps in IV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Questionnair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methodology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50021"/>
                </a:solidFill>
                <a:latin typeface="Tahoma"/>
              </a:rPr>
              <a:t>The Pilot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365720"/>
            <a:ext cx="792360" cy="1079280"/>
          </a:xfrm>
          <a:custGeom>
            <a:avLst/>
            <a:gdLst>
              <a:gd name="textAreaLeft" fmla="*/ 106200 w 792360"/>
              <a:gd name="textAreaRight" fmla="*/ 686160 w 79236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5373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ed to study more and deeply the questionnaire and the methodology so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22:16Z</dcterms:created>
  <dc:creator>regione abruzzo</dc:creator>
  <dc:description/>
  <dc:language>en-US</dc:language>
  <cp:lastModifiedBy>UNECE</cp:lastModifiedBy>
  <dcterms:modified xsi:type="dcterms:W3CDTF">2004-10-19T09:21:28Z</dcterms:modified>
  <cp:revision>397</cp:revision>
  <dc:subject/>
  <dc:title>Diapositiva 1</dc:title>
</cp:coreProperties>
</file>