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D60-0186-4C7F-A6A9-9F020ED5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F5F-3C6F-4622-893C-10CF7A5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40F-3ADE-4281-B95D-D1170106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F29-A68D-4A32-9893-D45B017F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8E2-4B1F-4065-8095-B32028CD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A31-DD1B-4BB1-B497-8E42A7E0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6A8-CE95-44FD-B742-02D4A2D3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1DB-2A7E-4DFC-8350-B289A6DA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7D9-1FD8-4768-8F08-ED1C9C7A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A86-743C-4A7F-84B5-1D0A151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B6F-6ECF-4BDB-ABB6-4250C42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934-0D8A-49AA-AB2B-72F7C5F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BB62-AA93-4B29-A0BF-5C3A836E1E7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137680"/>
            <a:ext cx="5257800" cy="1922400"/>
          </a:xfrm>
          <a:prstGeom prst="rect">
            <a:avLst/>
          </a:prstGeom>
          <a:noFill/>
          <a:ln w="93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talian survey on violence against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93080" y="333360"/>
          <a:ext cx="16430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33360"/>
                    <a:ext cx="1643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0920" y="260280"/>
            <a:ext cx="3025800" cy="633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48320" y="4952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aria Giuseppina Muratore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Session on Gender Statistics Geneva 19 Octo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484360" y="1456920"/>
            <a:ext cx="633744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Ivaws pilot test </a:t>
            </a:r>
            <a:r>
              <a:rPr b="0" lang="en-GB" sz="2400" spc="-1" strike="noStrike">
                <a:solidFill>
                  <a:srgbClr val="ba0000"/>
                </a:solidFill>
                <a:latin typeface="Arial"/>
              </a:rPr>
              <a:t>of the first version of the questionnaire on a rather small number of women (7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May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Qualitative pha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cus group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s to key professionals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October 2002 – April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Questionnaire and methodology revis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Pilot survey</a:t>
            </a: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April – July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Full fledged surve on 30.000 wome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189000"/>
            <a:ext cx="6264360" cy="1068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VAWS in Italy: steps i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03848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205240"/>
            <a:ext cx="5032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0000"/>
                </a:solidFill>
                <a:latin typeface="Tempus Sans ITC"/>
              </a:rPr>
              <a:t>Procedure of the qualitative 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Tempus Sans ITC"/>
              </a:rPr>
              <a:t>Sample</a:t>
            </a: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1" lang="en-GB" sz="2800" spc="-1" strike="noStrike">
                <a:solidFill>
                  <a:srgbClr val="0066cc"/>
                </a:solidFill>
                <a:latin typeface="Tempus Sans ITC"/>
              </a:rPr>
              <a:t>6 Focus Groups</a:t>
            </a:r>
            <a:r>
              <a:rPr b="1" lang="en-GB" sz="28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Workers in shelters for women victims of violence (2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Women victims of domestic violence (2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Women from the community (1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Interviewers who have already had experience in victimisation surveys (1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Plus </a:t>
            </a:r>
            <a:r>
              <a:rPr b="1" lang="en-GB" sz="2800" spc="-1" strike="noStrike">
                <a:solidFill>
                  <a:srgbClr val="0066cc"/>
                </a:solidFill>
                <a:latin typeface="Tempus Sans ITC"/>
              </a:rPr>
              <a:t>1 group interview</a:t>
            </a: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 with legal and social experts working in the field of violence against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20000"/>
                </a:solidFill>
                <a:latin typeface="Tempus Sans ITC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Each focus group was conducted with two psychologist and was video/audio recorded and then transcrib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According to the group, different questions were posed, with the aim of learning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empus Sans ITC"/>
              </a:rPr>
              <a:t>Content of the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empus Sans ITC"/>
              </a:rPr>
              <a:t>Procedu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280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What is domestic violence (especially psychological violen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Different expressions of violence </a:t>
            </a:r>
            <a:r>
              <a:rPr b="0" lang="en-GB" sz="1800" spc="-1" strike="noStrike">
                <a:solidFill>
                  <a:srgbClr val="ff3300"/>
                </a:solidFill>
                <a:latin typeface="Tempus Sans ITC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Economical violence, Psychological violence, Physical violence, Sexual viol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How women deal with violence, which is their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Early precursors of dv, cycle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 attribution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Risk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Consequences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 role of children or of other push in reporting or going out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Prejudices and stere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0000"/>
                </a:solidFill>
                <a:latin typeface="Tempus Sans ITC"/>
              </a:rPr>
              <a:t>Content of the question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How to gain women’s faith (for the training of intervie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Feelings experienced from women as regards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Characteristics of intervie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The emotional impact on intervie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What to ask and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Wording and sequ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How to introduce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Length of th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79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empus Sans ITC"/>
              </a:rPr>
              <a:t>Procedural</a:t>
            </a:r>
            <a:r>
              <a:rPr b="0" lang="en-GB" sz="3600" spc="-1" strike="noStrike">
                <a:solidFill>
                  <a:srgbClr val="ff6600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Tempus Sans ITC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49600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Tempus Sans ITC"/>
              </a:rPr>
              <a:t>Some resul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Tempus Sans ITC"/>
              </a:rPr>
              <a:t>about contents and procedural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4978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orms are not evident (threatening, downgrading, intimidation, limitation</a:t>
            </a: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 of freedom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ssive jealous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en rarely recognized it as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more it’s not visible from a social point of view, so it’s difficult for women to speak about it and give vent to owns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culturally accepted that a woman has not to be autonomous thoughts, that she has to do what her husband is asking; or that she is or thinks to be  what her husband tell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uld be measured considering the different aspects of the dail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33360"/>
            <a:ext cx="84978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empus Sans ITC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empus Sans ITC"/>
              </a:rPr>
              <a:t>sychological viol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738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w, I would like to ask about some situations that can happen in relationships. Would you say your husband/partner/ boyfrie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s angry if you speak with other men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supportive towards your work or studies or other activities taking place outside the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es to limit your contact with family and friend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s you or keeps track of your whereabouts in a way you find controlling or fright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s you names, insults you or behaves in a way to put you down or to make you feel bad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mages or destroys your possessions or property or your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constantly suspicious that you have been unfaithful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ists on knowing who you are with and where you are at all ti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ms or threatens to harm your children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ms or threatens to harm someone else close to you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189000"/>
            <a:ext cx="309744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IVAWS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280" y="404280"/>
            <a:ext cx="318924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62800" cy="48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e willing to talk with you and exchange your opinion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riticizes you for the way you look, dress, for instance by telling you that you are not very attractive, ugly, inadequat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riticizes you for the way you raise your child, look after the house or cook, for example by telling you that you are not a good mother or that you are incompeten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hecks how much you spe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forces you what to wheare, how to arrange your hair, how to behave in public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Economic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no access to bank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no info on family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not allowed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500280"/>
            <a:ext cx="8496360" cy="250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18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you have any bank or post account registered und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th your name and your husband/cohabi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ner/boyfriend?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19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you have a credit card, a cash card, or cheque b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you can use on your joint account or on the accou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your husband/cohabiting partner/boyfriend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2852640"/>
            <a:ext cx="318960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700360" y="1196640"/>
            <a:ext cx="5975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Violence against women exists in all societies, in all cultures and religions and in all socia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To understand it, we have to accept it as a dimension of “normal relationaship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a50021"/>
                </a:solidFill>
                <a:uFillTx/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-famil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perception on childre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time the woman shows she wants to ‘leave’ – fle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Risk/escalat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724280"/>
            <a:ext cx="82803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3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you recall any particular circumstance that irrup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used the violence of your partn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questions on violence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3933720"/>
            <a:ext cx="318924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3520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Lower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Guilt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Loss of faith in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Sense of in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Not talking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631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19720"/>
            <a:ext cx="828036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1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equently to this episode, did you have to give up you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ily rout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1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ubsequently to this episode, did you have to stay awa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wor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ubsequently to this episode, has something changed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r attitu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3716280"/>
            <a:ext cx="318924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olence by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artners enables gradually to isolate from the outside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-163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milies that want to protect themselves or they feel they can not provide any sup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-163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working activity that has been interrupted or preven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-163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sence of any friendship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Role of stereotypes that affect women and those involv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Denial/minimisation of sever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Indif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Not really serious if women don’t leave or don’t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Private ma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44520" y="274680"/>
            <a:ext cx="8569440" cy="4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empus Sans ITC"/>
              </a:rPr>
              <a:t>Social context/atti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5157720"/>
            <a:ext cx="86425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19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 you have friends, relatives, or other people with whom you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n talk of yourself, who you trust on whom you can rely if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28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 did you ever talk to someone else about what has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appened …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653000"/>
            <a:ext cx="3189600" cy="37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empus Sans ITC"/>
              </a:rPr>
              <a:t>Funnelling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types of crime analysed are presented with a screening procedure which helps to focus the attention on both the type of violence as well as on all possible 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The language adopted should be clear and not  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should also adopt sentences not using jargons or other unclear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empus Sans ITC"/>
              </a:rPr>
              <a:t>No name it</a:t>
            </a: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en-GB" sz="2400" spc="-1" strike="noStrike">
                <a:solidFill>
                  <a:srgbClr val="800000"/>
                </a:solidFill>
                <a:latin typeface="Tempus Sans ITC"/>
              </a:rPr>
              <a:t>‘VIOLENC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ype of violence is defined in a way that women can remember and reflect their lives as if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empus Sans ITC"/>
              </a:rPr>
              <a:t> </a:t>
            </a:r>
            <a:r>
              <a:rPr b="0" lang="en-GB" sz="2400" spc="-1" strike="noStrike">
                <a:solidFill>
                  <a:srgbClr val="008000"/>
                </a:solidFill>
                <a:latin typeface="Tempus Sans ITC"/>
              </a:rPr>
              <a:t>Ask gradually about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questions measuring violence should be included gra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empus Sans ITC"/>
              </a:rPr>
              <a:t>Wording and the questionnai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5661000"/>
            <a:ext cx="180036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84360" y="3429000"/>
            <a:ext cx="6588360" cy="863640"/>
          </a:xfrm>
          <a:custGeom>
            <a:avLst/>
            <a:gdLst>
              <a:gd name="textAreaLeft" fmla="*/ 101520 w 6588360"/>
              <a:gd name="textAreaRight" fmla="*/ 6486840 w 6588360"/>
              <a:gd name="textAreaTop" fmla="*/ 101520 h 863640"/>
              <a:gd name="textAreaBottom" fmla="*/ 762120 h 863640"/>
            </a:gdLst>
            <a:ahLst/>
            <a:rect l="textAreaLeft" t="textAreaTop" r="textAreaRight" b="textAreaBottom"/>
            <a:pathLst>
              <a:path w="1647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1118" y="21600"/>
                </a:lnTo>
                <a:arcTo wR="3600" hR="3600" stAng="10800000" swAng="5400000"/>
                <a:lnTo>
                  <a:pt x="164718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1628640"/>
            <a:ext cx="6480360" cy="792360"/>
          </a:xfrm>
          <a:custGeom>
            <a:avLst/>
            <a:gdLst>
              <a:gd name="textAreaLeft" fmla="*/ 93240 w 6480360"/>
              <a:gd name="textAreaRight" fmla="*/ 6387120 w 648036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765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72986" y="21600"/>
                </a:lnTo>
                <a:arcTo wR="3600" hR="3600" stAng="10800000" swAng="5400000"/>
                <a:lnTo>
                  <a:pt x="176586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84000" y="792000"/>
            <a:ext cx="665964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B16 –B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Ask questions on the every day life, leisure time, social networks, health, before those on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To Go in gradually into the  relationship with the female inter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, E or Ebis,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Repeat the screening of physical and sexual violence for the actual and the former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We decided to reintroduce again the screening on partners and former partners to facilitate dis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osticipation in E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We inserted the questions on violence from the partner in the section on the partner’s characteristics, after having asked about the relationship and the psychological violenc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D  - 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More details about last episode of viol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G  - 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More details about last episode viol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and history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92160"/>
            <a:ext cx="640872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Questionnaire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664000" y="1196640"/>
            <a:ext cx="648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A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Control 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B.  Marital status and respondent character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C.  Experience of violence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by no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D.  Non-partner victimisation re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E.  Characteristics of current intimate partner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and  partner experience of violenc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Ebis.</a:t>
            </a:r>
            <a:r>
              <a:rPr b="1" lang="it-IT" sz="19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Characteristics</a:t>
            </a:r>
            <a:r>
              <a:rPr b="1" lang="it-IT" sz="1900" spc="-1" strike="noStrike">
                <a:solidFill>
                  <a:srgbClr val="d20000"/>
                </a:solidFill>
                <a:latin typeface="Arial"/>
              </a:rPr>
              <a:t> of the last partner and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experience of violence (if there isn’t an actual partn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 Experience of violence by  previous partners and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characteristics of the violent previous intimate partn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G.  Partner/previous partner victimisation re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H.  Mother and partner abuse history and    childhood victimis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I.   Conclu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. Quality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189000"/>
            <a:ext cx="626436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08000" y="836640"/>
            <a:ext cx="594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0000"/>
                </a:solidFill>
                <a:latin typeface="Arial"/>
              </a:rPr>
              <a:t>How to approach the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0000"/>
                </a:solidFill>
                <a:latin typeface="Arial"/>
              </a:rPr>
              <a:t>Characteristics of inter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0000"/>
                </a:solidFill>
                <a:latin typeface="Arial"/>
              </a:rPr>
              <a:t>Context of the interview</a:t>
            </a:r>
            <a:r>
              <a:rPr b="0" lang="it-IT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Methodology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708280"/>
            <a:ext cx="1008000" cy="129708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3860640"/>
            <a:ext cx="4572000" cy="2838240"/>
          </a:xfrm>
          <a:prstGeom prst="rect">
            <a:avLst/>
          </a:prstGeom>
          <a:noFill/>
          <a:ln w="93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Survey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Interviewers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Interviewers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Women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Interviewers bur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5280" y="3370320"/>
            <a:ext cx="2841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More attention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700360" y="1557360"/>
            <a:ext cx="6012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Surve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Interviewers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Interviewer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Monitoring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Results of the survey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The pilo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ype of interviewers: tw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one group with more expertise in the CATI method 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 second group of women working in shelters for battered women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ype of interviewer’s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hours worked (included the payment during the training ph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imetable of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from 9am to 9pm, Monday to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from 9am to 7pm on Satur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Possibility to make an appointment and to call to a mobile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Arial"/>
              </a:rPr>
              <a:t>to augment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oll free number and m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Reaserch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psichologists during the training and the collection data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urve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Interviewers were chosen based on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Fem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Minimum 24 years ol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Comfortable discussing issues related to violence against wom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Sensitivity and matur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Professional experience in CATI surveys as well as in dealing with cases of violence (according to the type of the grou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Prior experience in handling similar sensitive research stud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Listening skills, empathy, no counsell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Probing, no judg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Warm tone of voice that helps creating a positive clim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Capacity to keep adequate detach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Skills to elaborate own emotions and to handle unexpected situation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nterviewers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62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Violence and, above all, violence in the family is still an </a:t>
            </a:r>
            <a:r>
              <a:rPr b="0" lang="en-GB" sz="3600" spc="-1" strike="noStrike">
                <a:solidFill>
                  <a:srgbClr val="ff3300"/>
                </a:solidFill>
                <a:latin typeface="Tempus Sans ITC"/>
              </a:rPr>
              <a:t>underreported</a:t>
            </a: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 and an </a:t>
            </a:r>
            <a:r>
              <a:rPr b="0" lang="en-GB" sz="3600" spc="-1" strike="noStrike">
                <a:solidFill>
                  <a:srgbClr val="ff3300"/>
                </a:solidFill>
                <a:latin typeface="Tempus Sans ITC"/>
              </a:rPr>
              <a:t>understudied </a:t>
            </a: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social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205000"/>
            <a:ext cx="8496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Women rarely disclose what has happened to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empus Sans ITC"/>
              </a:rPr>
              <a:t>and even more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y report to the po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y seek for help in the crisis centres or in other soci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empus Sans ITC"/>
              </a:rPr>
              <a:t>Official data gathered with criminal statistics do not provide enough evidence on violence against women. Especially in cases of domestic vio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4437000"/>
            <a:ext cx="576360" cy="719280"/>
          </a:xfrm>
          <a:prstGeom prst="downArrow">
            <a:avLst>
              <a:gd name="adj1" fmla="val 50000"/>
              <a:gd name="adj2" fmla="val 3119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ba0000"/>
                </a:solidFill>
                <a:latin typeface="Arial"/>
              </a:rPr>
              <a:t>6 days of theorical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ba0000"/>
                </a:solidFill>
                <a:latin typeface="Arial"/>
              </a:rPr>
              <a:t>From 9am to 2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sexual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domestic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About the suject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emotional abuse and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 psychological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risk factors - consequ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recognize it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read the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About the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codify the ans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Methodology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the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the contact procedure 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handle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no counsel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About the emotion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w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arm tone of voice, communicating 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   skills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               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learning the detachment and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 empaty 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nterviewer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413000"/>
            <a:ext cx="3816360" cy="16556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3213000"/>
            <a:ext cx="3816360" cy="15112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941720"/>
            <a:ext cx="3889440" cy="1656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55640" y="2708280"/>
            <a:ext cx="63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2 days of technical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From 9am to 5.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nterviewer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4508640"/>
            <a:ext cx="4319280" cy="1512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3789360"/>
            <a:ext cx="338436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ow to handl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TI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appointment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reca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61657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ba0000"/>
                </a:solidFill>
                <a:latin typeface="Arial"/>
              </a:rPr>
              <a:t>Trial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9280" y="981000"/>
            <a:ext cx="6013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c0000"/>
                </a:solidFill>
                <a:latin typeface="Arial"/>
              </a:rPr>
              <a:t>Traning instrument</a:t>
            </a:r>
            <a:r>
              <a:rPr b="0" lang="it-IT" sz="2400" spc="-1" strike="noStrike">
                <a:solidFill>
                  <a:srgbClr val="ec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ssons, videos, practice, roleplayings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Help assistance during the entire collec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Every day quality indicators (refusal rate, contact/non contact rate, appointment rate, average lenght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or inter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or interview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or time of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t loc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Debriefing with interviewers every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Psycholog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Monitoring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two stages random sample stratified at the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First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households present on the ufficial list of telephone 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tratification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Stratus variable: region and type of municip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1.000 household selected all over the country and a sample of 5000 households for possible substitution (territorial criterion of prox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econd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Women aged 16-7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election criter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Random selection between eligible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627280" y="836280"/>
            <a:ext cx="6337440" cy="58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Actual and past marital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At the time of the int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75,8% women were marr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2,2%   had a partner more ux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7,7%   had a boyfri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85,7% (819) women have a partner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section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3,3% (31) women had only a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in the past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      section 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44,1% (419) women had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lso in the past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se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3141720"/>
            <a:ext cx="460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5013360"/>
            <a:ext cx="863640" cy="144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6165720"/>
            <a:ext cx="936360" cy="144720"/>
          </a:xfrm>
          <a:custGeom>
            <a:avLst/>
            <a:gdLst>
              <a:gd name="textAreaLeft" fmla="*/ 146160 w 936360"/>
              <a:gd name="textAreaRight" fmla="*/ 819360 w 936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3789360"/>
            <a:ext cx="720720" cy="289080"/>
          </a:xfrm>
          <a:custGeom>
            <a:avLst/>
            <a:gdLst>
              <a:gd name="textAreaLeft" fmla="*/ 96480 w 720720"/>
              <a:gd name="textAreaRight" fmla="*/ 624240 w 720720"/>
              <a:gd name="textAreaTop" fmla="*/ 57240 h 289080"/>
              <a:gd name="textAreaBottom" fmla="*/ 1756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76" stAng="-5400000" swAng="-5400000"/>
                <a:lnTo>
                  <a:pt x="0" y="8832"/>
                </a:lnTo>
                <a:arcTo wR="21600" hR="8576" stAng="10800000" swAng="-2898935"/>
                <a:lnTo>
                  <a:pt x="14400" y="21110"/>
                </a:lnTo>
                <a:lnTo>
                  <a:pt x="21600" y="17280"/>
                </a:lnTo>
                <a:lnTo>
                  <a:pt x="14400" y="12470"/>
                </a:lnTo>
                <a:lnTo>
                  <a:pt x="14400" y="16662"/>
                </a:lnTo>
                <a:arcTo wR="21600" hR="8576" stAng="7901065" swAng="2878561"/>
                <a:lnTo>
                  <a:pt x="2" y="8704"/>
                </a:lnTo>
                <a:arcTo wR="21600" hR="8576" stAng="-10779626" swAng="5379626"/>
                <a:close/>
              </a:path>
              <a:path fill="darkenLess" w="21600" h="21600">
                <a:moveTo>
                  <a:pt x="21600" y="0"/>
                </a:moveTo>
                <a:arcTo wR="21600" hR="8576" stAng="-5400000" swAng="-5400000"/>
                <a:lnTo>
                  <a:pt x="0" y="8576"/>
                </a:lnTo>
                <a:arcTo wR="21600" hR="8576" stAng="10800000" swAng="-20374"/>
                <a:lnTo>
                  <a:pt x="2" y="8704"/>
                </a:lnTo>
                <a:arcTo wR="21600" hR="8576" stAng="-10779626" swAng="5379626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Questionnaire Informatization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ebruary – March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Interviewer selection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     (March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Test of the Questionnaire </a:t>
            </a:r>
            <a:r>
              <a:rPr b="0" lang="en-AU" sz="28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March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Training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AU" sz="28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Mailing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Trial calls and re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of the indicator system      </a:t>
            </a:r>
            <a:r>
              <a:rPr b="0" lang="en-AU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Collection phase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(26 April - 9 July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Calendar of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55640" y="1125360"/>
            <a:ext cx="6337080" cy="56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Some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Phone  calls: 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46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elephone number contacted: 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elephone number not in target:  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7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(no eligible households 5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Some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Cooperation rates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6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Household refusal rate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18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Refusal rate of selected person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3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Interruption rate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Average lenght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8,8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92160"/>
            <a:ext cx="6408720" cy="947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the survey quality and the feasibility of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219640" y="5084640"/>
          <a:ext cx="3384720" cy="1819440"/>
        </p:xfrm>
        <a:graphic>
          <a:graphicData uri="http://schemas.openxmlformats.org/drawingml/2006/table">
            <a:tbl>
              <a:tblPr/>
              <a:tblGrid>
                <a:gridCol w="1152720"/>
                <a:gridCol w="977760"/>
                <a:gridCol w="12542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-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-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703600" y="551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Lenght i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5373720"/>
            <a:ext cx="648000" cy="64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85080" y="5373720"/>
            <a:ext cx="647640" cy="64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56000" y="1125000"/>
            <a:ext cx="6588000" cy="55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c0000"/>
                </a:solidFill>
                <a:latin typeface="Arial"/>
              </a:rPr>
              <a:t>There are many differences  among the two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c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ec0000"/>
                </a:solidFill>
                <a:latin typeface="Arial"/>
              </a:rPr>
              <a:t>of inter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1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Against every expectation, interviewers from shelters  obtained more interviews than the other 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hey were “new” for this work, they didn’t use dangerous authomatisme to maximize their work, each call was an adve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hey are able to conquer the household, to put at own ease the respondent, to value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92160"/>
            <a:ext cx="6408720" cy="947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the survey quality and the feasibility of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700360" y="2060640"/>
          <a:ext cx="6227640" cy="2174760"/>
        </p:xfrm>
        <a:graphic>
          <a:graphicData uri="http://schemas.openxmlformats.org/drawingml/2006/table">
            <a:tbl>
              <a:tblPr/>
              <a:tblGrid>
                <a:gridCol w="1896840"/>
                <a:gridCol w="947880"/>
                <a:gridCol w="1249200"/>
                <a:gridCol w="1233720"/>
                <a:gridCol w="900000"/>
              </a:tblGrid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usal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usal of selected 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rs from she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 professionist interview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00360" y="2997360"/>
            <a:ext cx="5688000" cy="936360"/>
          </a:xfrm>
          <a:custGeom>
            <a:avLst/>
            <a:gdLst>
              <a:gd name="textAreaLeft" fmla="*/ 110160 w 5688000"/>
              <a:gd name="textAreaRight" fmla="*/ 5577840 w 5688000"/>
              <a:gd name="textAreaTop" fmla="*/ 110160 h 936360"/>
              <a:gd name="textAreaBottom" fmla="*/ 826200 h 936360"/>
            </a:gdLst>
            <a:ahLst/>
            <a:rect l="textAreaLeft" t="textAreaTop" r="textAreaRight" b="textAreaBottom"/>
            <a:pathLst>
              <a:path w="1311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7569" y="21600"/>
                </a:lnTo>
                <a:arcTo wR="3600" hR="3600" stAng="10800000" swAng="5400000"/>
                <a:lnTo>
                  <a:pt x="131169" y="3600"/>
                </a:lnTo>
                <a:arcTo wR="3600" hR="3600" stAng="5400000" swAng="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56000" y="1054080"/>
            <a:ext cx="6408720" cy="56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The interviewers from shel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99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Read slowly and entirely 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99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Gave time to reflect and to answer to the interview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99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create a confiance climate with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Arial"/>
              </a:rPr>
              <a:t>This means more ability to capture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8000"/>
                </a:solidFill>
                <a:latin typeface="Arial"/>
              </a:rPr>
              <a:t>- Women disclosure themselves more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92160"/>
            <a:ext cx="640872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viole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00360" y="4221000"/>
          <a:ext cx="5976720" cy="2316240"/>
        </p:xfrm>
        <a:graphic>
          <a:graphicData uri="http://schemas.openxmlformats.org/drawingml/2006/table">
            <a:tbl>
              <a:tblPr/>
              <a:tblGrid>
                <a:gridCol w="1973160"/>
                <a:gridCol w="1008720"/>
                <a:gridCol w="1023120"/>
                <a:gridCol w="1026720"/>
                <a:gridCol w="94500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artner violence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violence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violence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rs from she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 professionist interview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56000" y="92160"/>
            <a:ext cx="640872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viole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449440" y="1125360"/>
          <a:ext cx="6515280" cy="2521080"/>
        </p:xfrm>
        <a:graphic>
          <a:graphicData uri="http://schemas.openxmlformats.org/drawingml/2006/table">
            <a:tbl>
              <a:tblPr/>
              <a:tblGrid>
                <a:gridCol w="1474920"/>
                <a:gridCol w="1008000"/>
                <a:gridCol w="1008000"/>
                <a:gridCol w="1008000"/>
                <a:gridCol w="936720"/>
                <a:gridCol w="107964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artner physical 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artner sex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phys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sex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rs from she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 professionist interview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484360" y="3890880"/>
            <a:ext cx="626580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re is a link between length and violenc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 sometimes, the time is not en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008000"/>
                </a:solidFill>
                <a:latin typeface="Arial"/>
              </a:rPr>
              <a:t>women often recall violence episodes only at the end of the interviews”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 reported in the open-ended notes placed a the end of the questionn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viewers from shelter, furthermore,  are better to help older people in rembering or reporting violence episodes far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3300"/>
                </a:solidFill>
                <a:latin typeface="Tempus Sans ITC"/>
              </a:rPr>
              <a:t>From the Italian Victimization survey it emerges tha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48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ate of sexual violence  reported to the police is absolutely low 12,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ncreases to 15,5% when the offender is a str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creases to 4% if the offender is a known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43280" y="1557360"/>
          <a:ext cx="4038840" cy="4464000"/>
        </p:xfrm>
        <a:graphic>
          <a:graphicData uri="http://schemas.openxmlformats.org/drawingml/2006/table">
            <a:tbl>
              <a:tblPr/>
              <a:tblGrid>
                <a:gridCol w="1584360"/>
                <a:gridCol w="1224000"/>
                <a:gridCol w="123048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iolence repo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viol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the life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last thre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mpted ra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643280" y="6093000"/>
            <a:ext cx="41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ource: Citizen’s Safety Survey 1997-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Results about violenc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364500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8000"/>
                </a:solidFill>
                <a:latin typeface="Arial"/>
              </a:rPr>
              <a:t>They can be found not only in interviewers from shelter, but also in interviewers that directly experienced violence in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1197000"/>
            <a:ext cx="2592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ail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fessional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77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e very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1052640"/>
            <a:ext cx="2808360" cy="2016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56000" y="92160"/>
            <a:ext cx="6408720" cy="947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Other observation on violence indicators: some dou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1557360"/>
            <a:ext cx="62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here are more cases of  former partner violence than of the actual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2924280"/>
            <a:ext cx="55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Many cases of s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Why thes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8000"/>
                </a:solidFill>
                <a:latin typeface="Arial"/>
              </a:rPr>
              <a:t>Are women so able to change their life and avoid negative relationship </a:t>
            </a:r>
            <a:r>
              <a:rPr b="1" i="1" lang="it-IT" sz="2400" spc="-1" strike="noStrike">
                <a:solidFill>
                  <a:srgbClr val="ba0000"/>
                </a:solidFill>
                <a:latin typeface="Arial"/>
              </a:rPr>
              <a:t>or there are also methodological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56000" y="92160"/>
            <a:ext cx="6408720" cy="1068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 observation on violence indicators: some dou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87280" y="1844280"/>
            <a:ext cx="5699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’S IMPORTANT TO INTERVIEW THE WOMAN WHEN SHE IS ALONE AT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D TO CALL BACK AND TO TAKE AN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55920" cy="3357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628720" y="1495440"/>
            <a:ext cx="61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Problems about going in details when the violence episodes are perceveid not se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8000"/>
                </a:solidFill>
                <a:latin typeface="Arial"/>
              </a:rPr>
              <a:t>For instance after a sexual harassment o a minor threat or slap (also by the partner) many questions of the victimization report section are felt as inadequate and are too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260280"/>
            <a:ext cx="633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result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56000" y="1413000"/>
            <a:ext cx="619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estions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Partner’s use of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Decision about the us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History of Parental abuse on women and her  partner (actual or for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Have an higher percentage of “unknown”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260280"/>
            <a:ext cx="6264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result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700360" y="126792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blems about wor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d20000"/>
                </a:solidFill>
                <a:latin typeface="Arial"/>
              </a:rPr>
              <a:t>Name as “violent behaviour” episodes considered normal by the woman can lead respondents to unwillingness to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260280"/>
            <a:ext cx="637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result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03640" y="836640"/>
            <a:ext cx="540072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d fin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Indifference and to be ignored is vio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52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To learn about violence against women (with regard to its prevalence, incidence rate and nature</a:t>
            </a:r>
            <a:r>
              <a:rPr b="0" lang="en-GB" sz="4400" spc="-1" strike="noStrike">
                <a:solidFill>
                  <a:srgbClr val="000000"/>
                </a:solidFill>
                <a:latin typeface="Tempus Sans IT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449440"/>
            <a:ext cx="79200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Information should be gathered from those directly involved (i.e. women), who are asked about their l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empus Sans ITC"/>
              </a:rPr>
              <a:t>Only dedicated surveys on domestic violence can achieve this 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22100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520120" cy="17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d20000"/>
                </a:solidFill>
                <a:latin typeface="Tempus Sans ITC"/>
              </a:rPr>
              <a:t>Surveys on violence against women are  complex: need to address sensitive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351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empus Sans ITC"/>
              </a:rPr>
              <a:t>Need methodological and procedural dedicated tools that  help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empus Sans ITC"/>
              </a:rPr>
              <a:t>to disclosur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empus Sans ITC"/>
              </a:rPr>
              <a:t>beforehand to recognize what is violence in he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d20000"/>
                </a:solidFill>
                <a:latin typeface="Arial"/>
              </a:rPr>
              <a:t>The research aims to address several aspect of violence against wo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valence and incidence rate of different types of violence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pecific attention has domestic viole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current or former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sych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conom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xual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aracteristics of those involved and characteristics, consequences and costs of violence, the history of vio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isk and protective factors related to individuals as well to socio-demographical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every day life context in which violence can aris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1844640"/>
            <a:ext cx="865440" cy="287280"/>
          </a:xfrm>
          <a:prstGeom prst="rightArrow">
            <a:avLst>
              <a:gd name="adj1" fmla="val 50000"/>
              <a:gd name="adj2" fmla="val 753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d20000"/>
                </a:solidFill>
                <a:latin typeface="Arial"/>
              </a:rPr>
              <a:t>The Italian Experience and the focus on Domestic Viol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860120"/>
            <a:ext cx="850716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edicated survey is the first one of this kind in Ita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ince 2001 Istat and the Department of Equal Opportunities began to address the issu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t the same time, in 2000 -2001 began the IVAWS Project coordinated by 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uni Unicri Statistic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ct to whom Italy  (through Istat ) parte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some cri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55640" y="1484280"/>
            <a:ext cx="6337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Survey Feasibil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-280080">
              <a:lnSpc>
                <a:spcPct val="90000"/>
              </a:lnSpc>
              <a:spcBef>
                <a:spcPts val="451"/>
              </a:spcBef>
              <a:buClr>
                <a:srgbClr val="ba0000"/>
              </a:buClr>
              <a:buFont typeface="Arial"/>
              <a:buChar char="–"/>
              <a:tabLst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are women and the comunity ready to deal with violence ma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Women avail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-280080">
              <a:lnSpc>
                <a:spcPct val="90000"/>
              </a:lnSpc>
              <a:spcBef>
                <a:spcPts val="451"/>
              </a:spcBef>
              <a:buClr>
                <a:srgbClr val="ba0000"/>
              </a:buClr>
              <a:buFont typeface="Arial"/>
              <a:buChar char="–"/>
              <a:tabLst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Are women ready to answ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Women disclo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-280080">
              <a:lnSpc>
                <a:spcPct val="90000"/>
              </a:lnSpc>
              <a:spcBef>
                <a:spcPts val="451"/>
              </a:spcBef>
              <a:buClr>
                <a:srgbClr val="ba0000"/>
              </a:buClr>
              <a:buFont typeface="Arial"/>
              <a:buChar char="–"/>
              <a:tabLst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Are women ready to  open themselves and to speak about their violence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(if 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89000"/>
            <a:ext cx="6264360" cy="1068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ome doubts about the Italian contex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talian background</a:t>
            </a: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36572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5373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ed to study more and deeply the questionnaire and the methodology so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22:16Z</dcterms:created>
  <dc:creator>regione abruzzo</dc:creator>
  <dc:description/>
  <dc:language>en-US</dc:language>
  <cp:lastModifiedBy>UNECE</cp:lastModifiedBy>
  <dcterms:modified xsi:type="dcterms:W3CDTF">2004-10-19T09:21:28Z</dcterms:modified>
  <cp:revision>397</cp:revision>
  <dc:subject/>
  <dc:title>Diapositiva 1</dc:title>
</cp:coreProperties>
</file>