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3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880920" y="736200"/>
            <a:ext cx="491040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4"/>
          </p:nvPr>
        </p:nvSpPr>
        <p:spPr>
          <a:xfrm>
            <a:off x="0" y="932976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5"/>
          </p:nvPr>
        </p:nvSpPr>
        <p:spPr>
          <a:xfrm>
            <a:off x="3778200" y="932976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F636-2B56-44D9-9D27-28F7B06D2A4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80920" y="736560"/>
            <a:ext cx="4910400" cy="3683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Different definitions: because of different sources (mitä tutkimuksia on kopioitu), different legis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f3c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f3c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2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ftr" idx="1"/>
          </p:nvPr>
        </p:nvSpPr>
        <p:spPr>
          <a:xfrm>
            <a:off x="3504960" y="6400440"/>
            <a:ext cx="5398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Tahoma"/>
              </a:rPr>
              <a:t>Work Session on Gender Statistics, Geneva, 18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  <a:ea typeface="Tahoma"/>
              </a:rPr>
              <a:t>–</a:t>
            </a:r>
            <a:r>
              <a:rPr b="0" lang="fi-FI" sz="1200" spc="-1" strike="noStrike">
                <a:solidFill>
                  <a:srgbClr val="ffffff"/>
                </a:solidFill>
                <a:latin typeface="Tahoma"/>
              </a:rPr>
              <a:t>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119160"/>
            <a:ext cx="9142560" cy="6738480"/>
            <a:chOff x="0" y="119160"/>
            <a:chExt cx="9142560" cy="6738480"/>
          </a:xfrm>
        </p:grpSpPr>
        <p:sp>
          <p:nvSpPr>
            <p:cNvPr id="55" name=""/>
            <p:cNvSpPr/>
            <p:nvPr/>
          </p:nvSpPr>
          <p:spPr>
            <a:xfrm>
              <a:off x="685800" y="6530760"/>
              <a:ext cx="3505320" cy="326880"/>
            </a:xfrm>
            <a:prstGeom prst="rect">
              <a:avLst/>
            </a:prstGeom>
            <a:solidFill>
              <a:srgbClr val="f3c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5800" y="2439720"/>
              <a:ext cx="8456760" cy="761760"/>
            </a:xfrm>
            <a:prstGeom prst="rect">
              <a:avLst/>
            </a:prstGeom>
            <a:solidFill>
              <a:srgbClr val="f3c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80920" y="119160"/>
              <a:ext cx="6696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80920" y="3492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5760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0350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1261800"/>
              <a:ext cx="6696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4922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7190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949400"/>
              <a:ext cx="66960" cy="630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21780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4538520" y="6672240"/>
              <a:ext cx="4332600" cy="64440"/>
              <a:chOff x="4538520" y="6672240"/>
              <a:chExt cx="4332600" cy="64440"/>
            </a:xfrm>
          </p:grpSpPr>
          <p:sp>
            <p:nvSpPr>
              <p:cNvPr id="67" name=""/>
              <p:cNvSpPr/>
              <p:nvPr/>
            </p:nvSpPr>
            <p:spPr>
              <a:xfrm>
                <a:off x="4538520" y="6672240"/>
                <a:ext cx="66960" cy="6444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48360" y="6672240"/>
                <a:ext cx="66600" cy="6444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57840" y="6672240"/>
                <a:ext cx="65160" cy="6444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67320" y="6672240"/>
                <a:ext cx="65160" cy="6444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977160" y="6672240"/>
                <a:ext cx="66600" cy="6444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586640" y="6672240"/>
                <a:ext cx="66600" cy="6444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96120" y="6672240"/>
                <a:ext cx="66960" cy="6444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05960" y="6672240"/>
                <a:ext cx="65160" cy="6444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80920" y="806400"/>
              <a:ext cx="66960" cy="630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0" y="3695400"/>
              <a:ext cx="1909800" cy="1909440"/>
              <a:chOff x="0" y="3695400"/>
              <a:chExt cx="1909800" cy="1909440"/>
            </a:xfrm>
          </p:grpSpPr>
          <p:sp>
            <p:nvSpPr>
              <p:cNvPr id="77" name=""/>
              <p:cNvSpPr/>
              <p:nvPr/>
            </p:nvSpPr>
            <p:spPr>
              <a:xfrm>
                <a:off x="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0156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4132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5398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Tahoma"/>
              </a:rPr>
              <a:t>Work Session on Gender Statistics, Geneva, 18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  <a:ea typeface="Tahoma"/>
              </a:rPr>
              <a:t>–</a:t>
            </a:r>
            <a:r>
              <a:rPr b="0" lang="fi-FI" sz="1200" spc="-1" strike="noStrike">
                <a:solidFill>
                  <a:srgbClr val="ffffff"/>
                </a:solidFill>
                <a:latin typeface="Tahoma"/>
              </a:rPr>
              <a:t>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ic.gov.a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15856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International Violence Against Women Surve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(IVAW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057400" y="3504960"/>
            <a:ext cx="6400800" cy="23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ffffff"/>
                </a:solidFill>
                <a:latin typeface="Tahoma"/>
              </a:rPr>
              <a:t>Sami Nevala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ffffff"/>
                </a:solidFill>
                <a:latin typeface="Tahoma"/>
              </a:rPr>
              <a:t>European Institute for Crime Prevention and Control, affiliated with the United Nations (HEUNI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ffffff"/>
                </a:solidFill>
                <a:latin typeface="Tahoma"/>
              </a:rPr>
              <a:t>Helsinki, Finland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ahoma"/>
              </a:rPr>
              <a:t>Sexual violence, 5 ite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Forced you into sexual intercourse?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Attempted to force you into sexual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intercourse?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Touched you sexually against your will?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Forced you into sexual activity with someone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else?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12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Other sexual violence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ahoma"/>
              </a:rPr>
              <a:t>Victimisation repor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where did it occur, guns involved, dangerousness of the inciden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injuries, coping, emotional effects of violence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use of services, talking to any other people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eporting to police, reasons for not reporting, court process, satisfaction with the police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o far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Start of the project in 1997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First draft of the questionnaire, development of project documents, pre-pilot in Estonia (2000), search for national coordinator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Expert meetings in Vancouver (2001) and Turin (2002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-&gt; Questionnaire and project manual ready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for use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o far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Five countries have completed the fieldwork and are proceeding with national data analysis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Five other countries are conducting the interviews during the 1st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ahoma"/>
              </a:rPr>
              <a:t>–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3rd quarters of 2004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Questionnaire and Project manual are available for new countrie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o far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8764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First country report released in October 2004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Available at </a:t>
            </a:r>
            <a:r>
              <a:rPr b="0" lang="en-US" sz="2900" spc="-1" strike="noStrike" u="sng">
                <a:solidFill>
                  <a:srgbClr val="f3c20f"/>
                </a:solidFill>
                <a:uFillTx/>
                <a:latin typeface="Tahoma"/>
                <a:hlinkClick r:id="rId1"/>
              </a:rPr>
              <a:t>www.aic.gov.au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-&gt;Publication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-&gt;Research and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public policy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series, No. 56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IVAWS%20report%20Australia_Sivu_001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006720" cy="42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IVAWS%20report%20Australia%20taul%20p38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552920" cy="52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ture developmen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Ancillary meeting on IVAWS at the 11th United Nations Congress on Crime Prevention and Control in Bangkok, 18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ahoma"/>
              </a:rPr>
              <a:t>–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25 April 2005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Results of a comparative analysi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International seminar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ternational Project Tea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8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Anna Alvazzi del Frate (United Nations Office on Drugs and Crime)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Holly Johnson (Statistics Canada / Australian Institute of Criminology)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Natalia Ollus (United Nations Office on Drugs and Crime, Regional Office for Southern Africa)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Sami Nevala, project manager (HEUNI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ahoma"/>
              </a:rPr>
              <a:t>International mandat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studying “the causes and consequences of violence against women and the effectiveness of preventive measures”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Beijing Declaration and Platform for Action, Fourth United Nations World Conference on Women, Beijing 199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to develop crime surveys on the nature of violence against women”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solution on “Elimination of Violence against Women”, Sixth Session, United Nations Commission on Crime Prevention and Criminal Justice, 199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7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ahoma"/>
              </a:rPr>
              <a:t>Problems for comparis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National violence against women surveys have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fferent defini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fferences in cultural and social fact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fferent methods of data collec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fferences in samp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bjectives of IVA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Collect cross-cultural, comparable data on prevalence, incidence of violence against women, consequences and characteristics of violence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Use the results to develop criminal justice policies, crime prevention, police responses and legislation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Raise awareness on violence against women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articipating countri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905120"/>
            <a:ext cx="429408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Australia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Costa Rica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the Czech Republic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Denmark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Greece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49920" y="1905120"/>
            <a:ext cx="429408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Italy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Mozambique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the Philippines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Poland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Switzerland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International Crime Victim Survey (ICVS, 1989-&gt;)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sweep of the survey in 20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beginning, implemented in over 70 countr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National violence against women surveys (Canada 1993, USA 1995-96, New Zealand 1996, Australia 1996, Finland 1997, Lithuania 1998, Sweden 2001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ahoma"/>
              </a:rPr>
              <a:t>Structure of the questionnai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ffffff"/>
                </a:solidFill>
                <a:latin typeface="Tahoma"/>
              </a:rPr>
              <a:t>Control form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ffffff"/>
                </a:solidFill>
                <a:latin typeface="Tahoma"/>
              </a:rPr>
              <a:t>Marital status and respondent characteristic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ffffff"/>
                </a:solidFill>
                <a:latin typeface="Tahoma"/>
              </a:rPr>
              <a:t>Experience of violenc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ffffff"/>
                </a:solidFill>
                <a:latin typeface="Tahoma"/>
              </a:rPr>
              <a:t>Non-partner victimisation repor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ffffff"/>
                </a:solidFill>
                <a:latin typeface="Tahoma"/>
              </a:rPr>
              <a:t>Partner victimisation repor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ffffff"/>
                </a:solidFill>
                <a:latin typeface="Tahoma"/>
              </a:rPr>
              <a:t>Characteristics of violent previous partn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ffffff"/>
                </a:solidFill>
                <a:latin typeface="Tahoma"/>
              </a:rPr>
              <a:t>Characteristics of current intimate partn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ffffff"/>
                </a:solidFill>
                <a:latin typeface="Tahoma"/>
              </a:rPr>
              <a:t>Optional: Mother abuse history and childhood victimisatio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ffffff"/>
                </a:solidFill>
                <a:latin typeface="Tahoma"/>
              </a:rPr>
              <a:t>Income &amp; conclusio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ahoma"/>
              </a:rPr>
              <a:t>Physical violence, 7 ite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Threatened to hurt you physically?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Threw something at you or hit you with something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that hurt or frightened you?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Pushed or grabbed you or twisted your arm or pulled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your hair in a way that really hurt or scared you?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Slapped, kicked, bit, or hit you with a fist?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Strangled, tried to suffocate you, burned or scalded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you on purpose?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Used or threatened to use a knife or gun on you?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  <a:ea typeface="Times New Roman"/>
              </a:rPr>
              <a:t>7</a:t>
            </a:r>
            <a:r>
              <a:rPr b="0" lang="en-AU" sz="21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AU" sz="2100" spc="-1" strike="noStrike">
                <a:solidFill>
                  <a:srgbClr val="ffffff"/>
                </a:solidFill>
                <a:latin typeface="Tahoma"/>
                <a:ea typeface="Times New Roman"/>
              </a:rPr>
              <a:t>Other physical violence?</a:t>
            </a:r>
            <a:r>
              <a:rPr b="0" lang="fi-FI" sz="2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2:18:57Z</dcterms:created>
  <dc:creator>Ollus Natalia</dc:creator>
  <dc:description/>
  <dc:language>en-US</dc:language>
  <cp:lastModifiedBy>Oyunjargal</cp:lastModifiedBy>
  <cp:lastPrinted>2003-07-07T16:19:45Z</cp:lastPrinted>
  <dcterms:modified xsi:type="dcterms:W3CDTF">2004-10-18T16:17:44Z</dcterms:modified>
  <cp:revision>48</cp:revision>
  <dc:subject/>
  <dc:title>Status of advancement of the IVAWS</dc:title>
</cp:coreProperties>
</file>