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880920" y="736200"/>
            <a:ext cx="491040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0" y="932976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778200" y="932976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0841-1D64-4614-95CC-B535B176F8B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80920" y="736560"/>
            <a:ext cx="4910400" cy="368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ifferent definitions: because of different sources (mitä tutkimuksia on kopioitu), different legis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f3c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f3c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2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1"/>
          </p:nvPr>
        </p:nvSpPr>
        <p:spPr>
          <a:xfrm>
            <a:off x="3504960" y="6400440"/>
            <a:ext cx="5398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Work Session on Gender Statistics, Geneva, 18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119160"/>
            <a:ext cx="9142560" cy="6738480"/>
            <a:chOff x="0" y="119160"/>
            <a:chExt cx="9142560" cy="6738480"/>
          </a:xfrm>
        </p:grpSpPr>
        <p:sp>
          <p:nvSpPr>
            <p:cNvPr id="55" name=""/>
            <p:cNvSpPr/>
            <p:nvPr/>
          </p:nvSpPr>
          <p:spPr>
            <a:xfrm>
              <a:off x="685800" y="6530760"/>
              <a:ext cx="3505320" cy="326880"/>
            </a:xfrm>
            <a:prstGeom prst="rect">
              <a:avLst/>
            </a:prstGeom>
            <a:solidFill>
              <a:srgbClr val="f3c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439720"/>
              <a:ext cx="8456760" cy="761760"/>
            </a:xfrm>
            <a:prstGeom prst="rect">
              <a:avLst/>
            </a:prstGeom>
            <a:solidFill>
              <a:srgbClr val="f3c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11916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3492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576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035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26180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4922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719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949400"/>
              <a:ext cx="6696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2178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538520" y="6672240"/>
              <a:ext cx="4332600" cy="64440"/>
              <a:chOff x="4538520" y="6672240"/>
              <a:chExt cx="4332600" cy="64440"/>
            </a:xfrm>
          </p:grpSpPr>
          <p:sp>
            <p:nvSpPr>
              <p:cNvPr id="67" name=""/>
              <p:cNvSpPr/>
              <p:nvPr/>
            </p:nvSpPr>
            <p:spPr>
              <a:xfrm>
                <a:off x="4538520" y="6672240"/>
                <a:ext cx="669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48360" y="6672240"/>
                <a:ext cx="6660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840" y="6672240"/>
                <a:ext cx="651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67320" y="6672240"/>
                <a:ext cx="651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977160" y="6672240"/>
                <a:ext cx="6660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86640" y="6672240"/>
                <a:ext cx="6660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96120" y="6672240"/>
                <a:ext cx="669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5960" y="6672240"/>
                <a:ext cx="65160" cy="6444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0920" y="806400"/>
              <a:ext cx="6696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3695400"/>
              <a:ext cx="1909800" cy="1909440"/>
              <a:chOff x="0" y="3695400"/>
              <a:chExt cx="1909800" cy="190944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56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132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5398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Work Session on Gender Statistics, Geneva, 18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ic.gov.a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15856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International Violence Against Women Surve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(IVAW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57400" y="3504960"/>
            <a:ext cx="6400800" cy="23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ffffff"/>
                </a:solidFill>
                <a:latin typeface="Tahoma"/>
              </a:rPr>
              <a:t>Sami Neval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ffffff"/>
                </a:solidFill>
                <a:latin typeface="Tahoma"/>
              </a:rPr>
              <a:t>European Institute for Crime Prevention and Control, affiliated with the United Nations (HEUNI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ffffff"/>
                </a:solidFill>
                <a:latin typeface="Tahoma"/>
              </a:rPr>
              <a:t>Helsinki, Finlan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Sexual violence, 5 it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Forced you into sexual intercourse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Attempted to force you into sexual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intercourse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Touched you sexually against your will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Forced you into sexual activity with someone 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else?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Other sexual violence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Victimisation repo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where did it occur, guns involved, dangerousness of the inciden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injuries, coping, emotional effects of violenc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use of services, talking to any other peop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eporting to police, reasons for not reporting, court process, satisfaction with the polic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 far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tart of the project in 1997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rst draft of the questionnaire, development of project documents, pre-pilot in Estonia (2000), search for national coordinator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Expert meetings in Vancouver (2001) and Turin (2002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-&gt; Questionnaire and project manual read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or us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 far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ve countries have completed the fieldwork and are proceeding with national data analysis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ve other countries are conducting the interviews during the 1st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3rd quarters of 2004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Questionnaire and Project manual are available for new countrie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 far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8764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First country report released in October 2004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vailable at </a:t>
            </a:r>
            <a:r>
              <a:rPr b="0" lang="en-US" sz="2900" spc="-1" strike="noStrike" u="sng">
                <a:solidFill>
                  <a:srgbClr val="f3c20f"/>
                </a:solidFill>
                <a:uFillTx/>
                <a:latin typeface="Tahoma"/>
                <a:hlinkClick r:id="rId1"/>
              </a:rPr>
              <a:t>www.aic.gov.au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-&gt;Publication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-&gt;Research and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public polic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eries, No. 56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IVAWS%20report%20Australia_Sivu_001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00672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IVAWS%20report%20Australia%20taul%20p38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55292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ncillary meeting on IVAWS at the 11th United Nations Congress on Crime Prevention and Control in Bangkok, 18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25 April 2005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Results of a comparative analysi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nternational semin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national Project Te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Anna Alvazzi del Frate (United Nations Office on Drugs and Crime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Holly Johnson (Statistics Canada / Australian Institute of Criminology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Natalia Ollus (United Nations Office on Drugs and Crime, Regional Office for Southern Africa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Sami Nevala, project manager (HEUNI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International manda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studying “the causes and consequences of violence against women and the effectiveness of preventive measures”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Beijing Declaration and Platform for Action, Fourth United Nations World Conference on Women, Beijing 199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to develop crime surveys on the nature of violence against women”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solution on “Elimination of Violence against Women”, Sixth Session, United Nations Commission on Crime Prevention and Criminal Justice, 19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7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Problems for compari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National violence against women surveys hav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t defini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ces in cultural and social fac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t methods of data coll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ces in samp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bjectives of IVA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ollect cross-cultural, comparable data on prevalence, incidence of violence against women, consequences and characteristics of violenc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Use the results to develop criminal justice policies, crime prevention, police responses and legislatio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Raise awareness on violence against women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articipating countr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905120"/>
            <a:ext cx="429408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Australia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Costa Rica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zech Republic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Denmark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Greece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49920" y="1905120"/>
            <a:ext cx="429408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Italy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Mozambique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the Philippines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Polan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  <a:ea typeface="Times New Roman"/>
              </a:rPr>
              <a:t>Switzerlan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nternational Crime Victim Survey (ICVS, 1989-&gt;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sweep of the survey in 20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beginning, implemented in over 70 count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National violence against women surveys (Canada 1993, USA 1995-96, New Zealand 1996, Australia 1996, Finland 1997, Lithuania 1998, Sweden 2001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Structure of the questionnai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Control for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Marital status and respondent characteristic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Experience of violenc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Non-partner victimisation repor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Partner victimisation repor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Characteristics of violent previous partn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Characteristics of current intimate partn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Optional: Mother abuse history and childhood victimisatio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ahoma"/>
              </a:rPr>
              <a:t>Income &amp; conclusio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ahoma"/>
              </a:rPr>
              <a:t>Physical violence, 7 it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Threatened to hurt you physically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Threw something at you or hit you with something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that hurt or frightened you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Pushed or grabbed you or twisted your arm or pulled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your hair in a way that really hurt or scared you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Slapped, kicked, bit, or hit you with a fist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Strangled, tried to suffocate you, burned or scalded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you on purpose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  <a:ea typeface="Arial"/>
              </a:rPr>
              <a:t>Used or threatened to use a knife or gun on you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  <a:ea typeface="Times New Roman"/>
              </a:rPr>
              <a:t>7</a:t>
            </a:r>
            <a:r>
              <a:rPr b="0" lang="en-AU" sz="21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AU" sz="2100" spc="-1" strike="noStrike">
                <a:solidFill>
                  <a:srgbClr val="ffffff"/>
                </a:solidFill>
                <a:latin typeface="Tahoma"/>
                <a:ea typeface="Times New Roman"/>
              </a:rPr>
              <a:t>Other physical violence?</a:t>
            </a:r>
            <a:r>
              <a:rPr b="0" lang="fi-FI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XIth International Symposium on Victimology, Stellenbosch, South Africa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2:18:57Z</dcterms:created>
  <dc:creator>Ollus Natalia</dc:creator>
  <dc:description/>
  <dc:language>en-US</dc:language>
  <cp:lastModifiedBy>Oyunjargal</cp:lastModifiedBy>
  <cp:lastPrinted>2003-07-07T16:19:45Z</cp:lastPrinted>
  <dcterms:modified xsi:type="dcterms:W3CDTF">2004-10-18T16:17:44Z</dcterms:modified>
  <cp:revision>48</cp:revision>
  <dc:subject/>
  <dc:title>Status of advancement of the IVAWS</dc:title>
</cp:coreProperties>
</file>