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244-3EF9-4AF2-B1CB-128C3A2B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74A-E10D-436B-9332-ADE5EF7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C83-1C94-4704-B2FD-E2B67186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8BA-239E-4F44-9DA4-CF38EC62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9B0-41DA-4A44-AD2E-A991A9BE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653-7441-4A7D-BD05-C442F0EB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7B4-CD2F-41D6-8C1F-7F9B5552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037-4C95-4790-814E-AB946C8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FFC-858A-4765-9D37-F8747232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105-8535-43E2-9907-41FFC66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2F4-CC43-4EB2-998E-2CC673FE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177-E708-43C1-95C9-3DB024B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B97C-EBF6-4F3C-8145-E56C698D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5003" t="14584" r="22659" b="9376"/>
          <a:stretch/>
        </p:blipFill>
        <p:spPr>
          <a:xfrm>
            <a:off x="21337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6564" t="13540" r="22659" b="12502"/>
          <a:stretch/>
        </p:blipFill>
        <p:spPr>
          <a:xfrm>
            <a:off x="1523880" y="0"/>
            <a:ext cx="63468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3505320"/>
            <a:ext cx="90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0:10:38Z</dcterms:created>
  <dc:creator>UNECE</dc:creator>
  <dc:description/>
  <dc:language>en-US</dc:language>
  <cp:lastModifiedBy>UNECE</cp:lastModifiedBy>
  <dcterms:modified xsi:type="dcterms:W3CDTF">2004-10-18T14:56:58Z</dcterms:modified>
  <cp:revision>4</cp:revision>
  <dc:subject/>
  <dc:title>PowerPoint Presentation</dc:title>
</cp:coreProperties>
</file>