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1F7-5ACA-45BF-859C-84AB40FC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32B-D727-42EE-886F-89CA5498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E40-6C3D-4DF9-9D85-008DD0E1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3FB-F2EF-42DD-AB0D-2739D6E3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1BC-DB6A-4FE1-A434-580A92C1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6C2-32E5-420B-ADF2-7B132B4E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ACB-6585-4B9E-A6CF-9D984A72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3AA-CA5A-4143-B2C7-0BF2BAAD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3F4-9755-468C-8491-CE27B292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527-AE57-44E4-9F1D-309ABDA3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F85-09F1-40A7-99C6-9A6A326C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941-B856-4A9B-B216-6D4F7090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2949-DAC6-4E45-8F74-E39F13452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5003" t="14584" r="22659" b="9376"/>
          <a:stretch/>
        </p:blipFill>
        <p:spPr>
          <a:xfrm>
            <a:off x="21337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6564" t="13540" r="22659" b="12502"/>
          <a:stretch/>
        </p:blipFill>
        <p:spPr>
          <a:xfrm>
            <a:off x="1523880" y="0"/>
            <a:ext cx="63468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0" y="3505320"/>
            <a:ext cx="90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0:10:38Z</dcterms:created>
  <dc:creator>UNECE</dc:creator>
  <dc:description/>
  <dc:language>en-US</dc:language>
  <cp:lastModifiedBy>UNECE</cp:lastModifiedBy>
  <dcterms:modified xsi:type="dcterms:W3CDTF">2004-10-18T14:56:58Z</dcterms:modified>
  <cp:revision>4</cp:revision>
  <dc:subject/>
  <dc:title>PowerPoint Presentation</dc:title>
</cp:coreProperties>
</file>