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5C1174-86FA-41FB-9604-E2866445E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154D9D-6AD9-490F-BF28-0962980F8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FCCAF8-D3A4-44E4-96EA-104BA2F93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44F429-4E2C-48B7-AEA5-42C9388BA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C50AE-49B2-4270-8606-AC870C08C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36F45-AAC0-48C1-AD3E-7BCBC7662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DA92A-A8C5-4190-A90B-4F7E1D78D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FC331-6A30-4EE0-BBBA-36BEF10C1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66DF3-EA9B-4FDA-9AD6-E36C6CB54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519F0-E43B-413D-B259-39A976C93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DE960-36B4-43EB-8FE2-39CC014FD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618730-0AA3-4132-94D2-B5EC62A44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E06D6-F0D0-4DD2-99F1-7911D21A4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FB949-D57A-42F2-9D00-10C44A96E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07EAC-1EA1-4A1B-AEE9-247FFF9CB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09AA9-5932-4E1E-BEDC-A979CFA08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8F2C6-9065-47EA-BD82-41B8544F3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B5E5E0-3487-4C16-82C8-D3AE00EBC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BDE24D-7800-4D92-AF14-79ADF800B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040745-E89B-4A1F-A2AA-E7C1EC8BA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D8202F-49DD-4DB2-885E-9FC194AEA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892E59-3A2E-4B21-A5E5-E719D90B8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2E8774-6E21-4514-A9CA-71B44A8FB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F91FA4-CAF9-442D-A36E-6D934FEFF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4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E0901-64A0-4066-A71E-A993133C86C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df4e3"/>
                </a:gs>
                <a:gs pos="100000">
                  <a:srgbClr val="fcc6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df4e3"/>
                </a:gs>
                <a:gs pos="100000">
                  <a:srgbClr val="ff9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fcc6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fcc6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f977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fcc6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f977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f977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f97715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f97715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4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df4e3"/>
                </a:gs>
                <a:gs pos="100000">
                  <a:srgbClr val="fcc6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f977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fcc6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fcc6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f977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fcc6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f977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fcc6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f977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7CDC1-9F98-404B-92F6-0EAB0B4FEC9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97715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4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ender Statistics, achievements and challeng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tional Institute of Statis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ban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4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TAT &amp; Gender Statistic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3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der Issues: great importance in the country. This means: need for gender statistic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AT is the key institution of producing and disseminating data in the country; it has a crucial role regarding gender statistic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nce 1998: Women and Men in Alban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icipation in different researches and studies regarding gender issu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ying to improve the current situation of gender statistic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4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gis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tatistical law does not specify the production and dissemination of sex-disaggregated dat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recent law on equal opportunities outlines the collection of sex-disaggregated dat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4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llabor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th different NGOs, Committee for Equal Opportunities, research and academic institutions (Gender Institute FoS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for a better coordination with the other producers: ministries in order to improve the administrative records (one of the main sources of data).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Some ministries does not collect sex-disaggregated data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4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national collabo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ry positive : they stress on the need for gender statistic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national partners are very committed in supporting INSTAT to improve gender statistic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da-Statistic Sweden, UNDP, SD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4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ome  </a:t>
            </a:r>
            <a:r>
              <a:rPr b="1" i="1" lang="en-US" sz="3600" spc="-1" strike="noStrike">
                <a:solidFill>
                  <a:srgbClr val="cc3300"/>
                </a:solidFill>
                <a:latin typeface="Times New Roman"/>
              </a:rPr>
              <a:t>achievement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SMS: useful sex-disaggregated data (employment, poverty, education et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research publication based on Census 2001 data </a:t>
            </a:r>
            <a:r>
              <a:rPr b="0" i="1" lang="en-US" sz="2800" spc="-1" strike="noStrike">
                <a:solidFill>
                  <a:srgbClr val="cc3300"/>
                </a:solidFill>
                <a:latin typeface="Times New Roman"/>
              </a:rPr>
              <a:t>Gender Perspectives in Albani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der perspectives in NSSED …… 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3300"/>
                </a:solidFill>
                <a:latin typeface="Times New Roman"/>
              </a:rPr>
              <a:t>Common Country Assessment 2004.</a:t>
            </a:r>
            <a:r>
              <a:rPr b="0" i="1" lang="en-US" sz="2800" spc="-1" strike="noStrike">
                <a:solidFill>
                  <a:srgbClr val="ff99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hapter on Gender equality and a strong effort to mainstream gender through the entire document.</a:t>
            </a:r>
            <a:r>
              <a:rPr b="0" i="1" lang="en-US" sz="2800" spc="-1" strike="noStrike">
                <a:solidFill>
                  <a:srgbClr val="ff99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of the objectives</a:t>
            </a:r>
            <a:r>
              <a:rPr b="0" i="1" lang="en-US" sz="2800" spc="-1" strike="noStrike">
                <a:solidFill>
                  <a:srgbClr val="ff9900"/>
                </a:solidFill>
                <a:latin typeface="Times New Roman"/>
              </a:rPr>
              <a:t> : </a:t>
            </a:r>
            <a:r>
              <a:rPr b="0" i="1" lang="en-US" sz="2800" spc="-1" strike="noStrike">
                <a:solidFill>
                  <a:srgbClr val="cc3300"/>
                </a:solidFill>
                <a:latin typeface="Times New Roman"/>
              </a:rPr>
              <a:t>Identify data gap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4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blems…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olence against Women : 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lack of dat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 sources: different studies and surveys by NGOs and IOs.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No institutional response……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Need for surveys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ctually no Time Use Survey, LFS or HBS – useful sources of sex- disaggregated data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Hope that INSTAT will conduct a LFS or HBS in the future: include questions on Time Us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4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deas for the (near) fu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ove the relationship between users-producers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cc3300"/>
                </a:solidFill>
                <a:latin typeface="Times New Roman"/>
              </a:rPr>
              <a:t>Propose to all the interested users to send to INSTAT their needs on sex-disaggregated data or on analysis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ganize activities to improve the coordination between producers: raise the awareness for the importance of collecting sex-disaggregated dat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4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0000"/>
                </a:solidFill>
                <a:latin typeface="Times New Roman"/>
              </a:rPr>
              <a:t>Wishes</a:t>
            </a:r>
            <a:r>
              <a:rPr b="0" i="1" lang="en-US" sz="4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4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ve more completed sex-disaggregated dat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these data to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fight against gender inequaliti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6T16:55:06Z</dcterms:created>
  <dc:creator>Ermira</dc:creator>
  <dc:description/>
  <dc:language>en-US</dc:language>
  <cp:lastModifiedBy>UNECE</cp:lastModifiedBy>
  <dcterms:modified xsi:type="dcterms:W3CDTF">2004-10-18T09:41:43Z</dcterms:modified>
  <cp:revision>11</cp:revision>
  <dc:subject/>
  <dc:title>Gender Statistics, achievements and challenges</dc:title>
</cp:coreProperties>
</file>