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D0BA-1195-4772-AC9C-B73A73B2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7AEF-287C-4141-AEBB-C797B197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FC51D-30DA-44DE-908D-FF44E7CE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54C1-4444-4994-AC45-D5EED147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0263-A482-4944-80CA-B7FE4B08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D0EC-A3C9-479B-AF3E-DC852E53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C0D4-4486-4053-8D09-DDF256E1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83B2-63D5-4D25-8822-369D26DC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0542-7872-42B8-BC96-229BD8B4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A6AC-F3A4-451B-A602-61D00C6D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6061-26B6-47CC-A188-4993F841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730D-A732-4545-B0E7-EB2811B3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549A-A09E-4D3F-B354-08C47F84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2E79-715F-4997-BD55-D848078F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90FB-F8A1-4D71-AA1B-12B0549F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3815-6DB4-4428-9F23-74A576DD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031F-F1D3-44B1-9809-70B9207C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100C-6AA0-4205-81DD-74C428A5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6EBF-66B5-4959-B1FF-22795E1D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A856-4A65-46DA-B179-638EAF4E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9DF7-B4D4-409A-B0DE-D599A6F6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3953E-562A-410F-854C-D6B2CCA5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25AD-6EEA-4E2B-9644-A9BECEB9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CA21-B106-43C0-8FBC-A6F9790C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252B-46F5-4394-853C-DDA028BE7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df4e3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df4e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977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977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977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97715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9771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df4e3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977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977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977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977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0810-40B1-4BB9-B20C-D392DD82D6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97715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der Statistics, achievements and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Institute of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T &amp; Gender Statisti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Issues: great importance in the country. This means: need for gender statistic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T is the key institution of producing and disseminating data in the country; it has a crucial role regarding gende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1998: Women and Men in Alb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ion in different researches and studies regarding gender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ing to improve the current situation of gende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tistical law does not specify the production and dissemination of sex-disaggregated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cent law on equal opportunities outlines the collection of sex-disaggregated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different NGOs, Committee for Equal Opportunities, research and academic institutions (Gender Institute Fo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a better coordination with the other producers: ministries in order to improve the administrative records (one of the main sources of data)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me ministries does not collect sex-disaggregated data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positive : they stress on the need for gender stat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 partners are very committed in supporting INSTAT to improve gender stat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a-Statistic Sweden, UNDP, S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SMS: useful sex-disaggregated data (employment, poverty, education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earch publication based on Census 2001 data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Gender Perspectives in Alb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perspectives in NSSED ……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Common Country Assessment 2004.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apter on Gender equality and a strong effort to mainstream gender through the entire document.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objectives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Identify data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s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ence against Women :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ack of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ources: different studies and surveys by NGOs and IOs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 institutional response……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Need for survey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ually no Time Use Survey, LFS or HBS – useful sources of sex- disaggregated data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pe that INSTAT will conduct a LFS or HBS in the future: include questions on Time 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as for the (near)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the relationship between users-producer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cc3300"/>
                </a:solidFill>
                <a:latin typeface="Times New Roman"/>
              </a:rPr>
              <a:t>Propose to all the interested users to send to INSTAT their needs on sex-disaggregated data or on analysi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 activities to improve the coordination between producers: raise the awareness for the importance of collecting sex-disaggregated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Wishes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more completed sex-disaggregated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se data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ght against gender inequal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55:06Z</dcterms:created>
  <dc:creator>Ermira</dc:creator>
  <dc:description/>
  <dc:language>en-US</dc:language>
  <cp:lastModifiedBy>UNECE</cp:lastModifiedBy>
  <dcterms:modified xsi:type="dcterms:W3CDTF">2004-10-18T09:41:43Z</dcterms:modified>
  <cp:revision>11</cp:revision>
  <dc:subject/>
  <dc:title>Gender Statistics, achievements and challenges</dc:title>
</cp:coreProperties>
</file>