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592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611CF8-4F60-47A5-83DB-4A68B03D2453}" type="datetime3">
              <a:rPr b="0" lang="en-GB" sz="10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56880" y="77004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920" y="4704840"/>
            <a:ext cx="4983120" cy="4473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392760"/>
            <a:ext cx="2960640" cy="53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16360" y="9410400"/>
            <a:ext cx="2959200" cy="539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636B6A-B52F-4B6E-A1F5-9EAB3DAE1B1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7240" y="77004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920" y="4704840"/>
            <a:ext cx="4983120" cy="44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meant to be a presentation of about 15 – 20 minutes, giving you a down-to-earth summary of the project within the context of SDM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9F24-BBE4-475F-853C-77D761276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7720" y="3984840"/>
            <a:ext cx="7797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E447-A7AD-40BF-9EC2-0C33CE3A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3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FCB3-7332-44EE-9AF1-99E3F1396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4360" y="167652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1000" y="167652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7720" y="398484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4360" y="398484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1000" y="3984840"/>
            <a:ext cx="25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029F-06AF-40DE-A3E9-C9397499F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1A2D-9CBA-4D08-8E48-5AE7E940E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336E-810D-4FD8-B2B8-1A8900FC8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2831-C8D2-403D-849B-8412F828D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8A46-8B5E-4A43-9795-27BC4F229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0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962B-9CAF-43B1-9FE8-FB9E14876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7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2930-3D4B-44C9-A187-D4C55E5E9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3720" y="398484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52AF-3A13-48D7-A933-F4B2D0FD9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3720" y="1676520"/>
            <a:ext cx="380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3984840"/>
            <a:ext cx="7797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74AB-A8B7-46D4-9E75-76BF07DF5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751"/>
              </a:spcBef>
              <a:buClr>
                <a:srgbClr val="8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751"/>
              </a:spcBef>
              <a:buClr>
                <a:srgbClr val="8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848720" y="640080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143000"/>
            <a:ext cx="7924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838080" y="533520"/>
            <a:ext cx="1305000" cy="39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050320" y="6489360"/>
            <a:ext cx="5731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936F-D537-40F4-82C3-555B5B01469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 A C K G R O U N D     B R I E F I N G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N D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 E X T     S T E P S</a:t>
            </a:r>
            <a:br>
              <a:rPr sz="2400"/>
            </a:br>
            <a:br>
              <a:rPr sz="2000"/>
            </a:br>
            <a:br>
              <a:rPr sz="1200"/>
            </a:b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METIS</a:t>
            </a:r>
            <a:br>
              <a:rPr sz="1400"/>
            </a:b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Geneva, February 2004</a:t>
            </a:r>
            <a:br>
              <a:rPr sz="1200"/>
            </a:b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6324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62064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tatistical  Data  and  Metadata  Exchange  Initi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72360" y="6643800"/>
            <a:ext cx="97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185560"/>
            <a:ext cx="98298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ojects (shared funding and resources) launched in June 2002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atch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t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etadata </a:t>
            </a: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commo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ocabulary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etadata </a:t>
            </a: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repositori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587"/>
              </a:spcBef>
              <a:spcAft>
                <a:spcPts val="1188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practical case study on emerging e-standards</a:t>
            </a:r>
            <a:r>
              <a:rPr b="0" lang="en-GB" sz="19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Aft>
                <a:spcPts val="18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109680" y="633240"/>
            <a:ext cx="466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is SDMX? (2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C228-114D-438E-AE80-90E20D9E6D15}" type="slidenum">
              <a:t>10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36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Overall goal: reality check on emerging standards by building prototyp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Aft>
                <a:spcPts val="36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losely coordinated work with other projects – exploring ways to validate practical impact of project deliverabl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Aft>
                <a:spcPts val="36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Builds on experimentation taking place in different SDMX institutions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rt from other institutions and central bank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652560" y="639720"/>
            <a:ext cx="3583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se Stud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0E39-279E-4195-B62E-DB12B80B144E}" type="slidenum">
              <a:t>11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se Study: general approac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elected the BIS-IMF-OECD-World Bank hub o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xternal deb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for the demo exampl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27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viewed available and emerging standard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3600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ablished experimental XML standards based on      existing statistical exchange standards (i.e. GESMES/TS metadata “key family” concepts)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999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uilt a metadata registr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pulated i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with links to where the data can be foun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9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uil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b services (r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gistration, search, transformation, compariso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0573-C6D4-4FF8-BD18-BA6538678E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se Study: key findin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echnology could be made to work better for statistical data exchange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ommon information model underlies all statistical dat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ommon standards cut across different patterns of data exchange:    bilateral, gateway, data sharing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otential of (new) web technology is significant 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11"/>
              </a:spcBef>
              <a:spcAft>
                <a:spcPts val="238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XML is widely supported by software vendors, making it easier to use                   off-the-shelf tools to develop applications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registry-based architecture for metadata can facilitate navigation                        (i.e. data google)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use of web services enables automated data exchange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ossible to build on existing infrastructures, technologies and standard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3ED5-A38A-4EE3-A133-15C78CB34DA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 of information model:  metadata “key family”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98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92320" y="1039680"/>
            <a:ext cx="1326600" cy="1627200"/>
            <a:chOff x="292320" y="1039680"/>
            <a:chExt cx="1326600" cy="1627200"/>
          </a:xfrm>
        </p:grpSpPr>
        <p:sp>
          <p:nvSpPr>
            <p:cNvPr id="111" name=""/>
            <p:cNvSpPr/>
            <p:nvPr/>
          </p:nvSpPr>
          <p:spPr>
            <a:xfrm>
              <a:off x="292320" y="103968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Coun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15238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82280" y="838080"/>
            <a:ext cx="2062080" cy="1747440"/>
            <a:chOff x="1682280" y="838080"/>
            <a:chExt cx="2062080" cy="1747440"/>
          </a:xfrm>
        </p:grpSpPr>
        <p:sp>
          <p:nvSpPr>
            <p:cNvPr id="114" name=""/>
            <p:cNvSpPr/>
            <p:nvPr/>
          </p:nvSpPr>
          <p:spPr>
            <a:xfrm>
              <a:off x="2018160" y="83808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tock/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682280" y="1288080"/>
              <a:ext cx="804240" cy="1297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18720" y="1295280"/>
            <a:ext cx="2343600" cy="1304640"/>
            <a:chOff x="2718720" y="1295280"/>
            <a:chExt cx="2343600" cy="1304640"/>
          </a:xfrm>
        </p:grpSpPr>
        <p:sp>
          <p:nvSpPr>
            <p:cNvPr id="117" name=""/>
            <p:cNvSpPr/>
            <p:nvPr/>
          </p:nvSpPr>
          <p:spPr>
            <a:xfrm>
              <a:off x="2824200" y="129528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Unit Multi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6720" y="17524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181320" y="1978920"/>
              <a:ext cx="910440" cy="62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18720" y="1685160"/>
              <a:ext cx="582480" cy="89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54240" y="3757680"/>
            <a:ext cx="2025000" cy="1957320"/>
            <a:chOff x="1254240" y="3757680"/>
            <a:chExt cx="2025000" cy="1957320"/>
          </a:xfrm>
        </p:grpSpPr>
        <p:sp>
          <p:nvSpPr>
            <p:cNvPr id="122" name=""/>
            <p:cNvSpPr/>
            <p:nvPr/>
          </p:nvSpPr>
          <p:spPr>
            <a:xfrm>
              <a:off x="2332080" y="449568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23520" y="4952880"/>
              <a:ext cx="83844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357560" y="4766040"/>
              <a:ext cx="865800" cy="30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254240" y="4643640"/>
              <a:ext cx="1024920" cy="2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440360" y="4060440"/>
              <a:ext cx="776520" cy="48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1611000" y="3757680"/>
              <a:ext cx="780840" cy="703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52520" y="2057400"/>
            <a:ext cx="3391200" cy="1219320"/>
            <a:chOff x="4952520" y="2057400"/>
            <a:chExt cx="3391200" cy="1219320"/>
          </a:xfrm>
        </p:grpSpPr>
        <p:sp>
          <p:nvSpPr>
            <p:cNvPr id="129" name=""/>
            <p:cNvSpPr/>
            <p:nvPr/>
          </p:nvSpPr>
          <p:spPr>
            <a:xfrm flipH="1">
              <a:off x="4952520" y="2514600"/>
              <a:ext cx="83844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48200" y="205740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Time/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F06C-A1D4-46AA-AF1C-602D91C4EEEB}" type="slidenum">
              <a:t>14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7400" y="3805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mple tool for creating a key family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69200" cy="54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22EB-1FBC-440A-8A39-6147FD88C4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readsheet input to XML output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1219320"/>
            <a:ext cx="69120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4937-7BD6-48FF-9246-CD7415C189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0496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tterns of Data Exchang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41300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Bilater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dividual provider-to-consumer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uld be batch or web disse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ariety of format standards </a:t>
            </a: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1152360"/>
            <a:ext cx="3519360" cy="189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86320" y="3160800"/>
            <a:ext cx="3071880" cy="1563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57800" y="30481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7242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89548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Gatew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ny bilateral-to-central authority then on to others (bilater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ill many bilateral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ypical in data bank exerc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64832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Arial"/>
              </a:rPr>
              <a:t>Data sha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istical hubs through common standards and forma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/metadata useable without prior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semination could replace re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80000" y="4807080"/>
            <a:ext cx="2808360" cy="19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27AA-76A8-4E53-BFBA-E7D229D0BACF}" type="slidenum">
              <a:t>17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764640"/>
            <a:ext cx="868680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GESMES/TS Reporting &amp; Registry-Based Dissemination (1) </a:t>
            </a:r>
            <a:endParaRPr b="0" lang="en-US" sz="1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mainfrm"/>
          <p:cNvSpPr/>
          <p:nvPr/>
        </p:nvSpPr>
        <p:spPr>
          <a:xfrm>
            <a:off x="1990800" y="312408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3526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0574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33526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mainfrm"/>
          <p:cNvSpPr/>
          <p:nvPr/>
        </p:nvSpPr>
        <p:spPr>
          <a:xfrm>
            <a:off x="6562800" y="312408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0574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971800"/>
            <a:ext cx="3124440" cy="838080"/>
          </a:xfrm>
          <a:prstGeom prst="rightArrow">
            <a:avLst>
              <a:gd name="adj1" fmla="val 50000"/>
              <a:gd name="adj2" fmla="val 9320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5640" y="4227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8800" y="41511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12480" y="41590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2520" y="42051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cument"/>
          <p:cNvSpPr/>
          <p:nvPr/>
        </p:nvSpPr>
        <p:spPr>
          <a:xfrm>
            <a:off x="4114800" y="2209680"/>
            <a:ext cx="457200" cy="676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8680" y="144792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MES/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0000" y="5065560"/>
            <a:ext cx="81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the sender renders the data out of the database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MES/TS EDIFACT, and sends it to a counter-party acco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ior agreement. When received by the counter-party, it goes throu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teway and is passed into their internal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EA8F-00D5-4C8F-B1BA-A031521C43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6922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GESMES/TS Reporting &amp; Registry-Based Dissemination (2)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mainfrm"/>
          <p:cNvSpPr/>
          <p:nvPr/>
        </p:nvSpPr>
        <p:spPr>
          <a:xfrm>
            <a:off x="1990800" y="220968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709400">
            <a:off x="1295280" y="274284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2057400"/>
            <a:ext cx="0" cy="33526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2971800"/>
            <a:ext cx="76212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36200">
            <a:off x="7315200" y="28195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mainfrm"/>
          <p:cNvSpPr/>
          <p:nvPr/>
        </p:nvSpPr>
        <p:spPr>
          <a:xfrm>
            <a:off x="6562800" y="2286000"/>
            <a:ext cx="600120" cy="676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057400"/>
            <a:ext cx="0" cy="34290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2209680"/>
            <a:ext cx="3124440" cy="838440"/>
          </a:xfrm>
          <a:prstGeom prst="rightArrow">
            <a:avLst>
              <a:gd name="adj1" fmla="val 50000"/>
              <a:gd name="adj2" fmla="val 931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5640" y="4227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3440" y="306864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&amp; 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3440" y="304812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&amp; 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32520" y="42051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ocument"/>
          <p:cNvSpPr/>
          <p:nvPr/>
        </p:nvSpPr>
        <p:spPr>
          <a:xfrm>
            <a:off x="4140360" y="1773360"/>
            <a:ext cx="457200" cy="67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1197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of GESMES/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DMX-M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2755400">
            <a:off x="1295280" y="39618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mainfrm"/>
          <p:cNvSpPr/>
          <p:nvPr/>
        </p:nvSpPr>
        <p:spPr>
          <a:xfrm>
            <a:off x="1905120" y="4048200"/>
            <a:ext cx="600120" cy="676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2840" y="48369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mainfrm"/>
          <p:cNvSpPr/>
          <p:nvPr/>
        </p:nvSpPr>
        <p:spPr>
          <a:xfrm>
            <a:off x="6638760" y="4048200"/>
            <a:ext cx="600120" cy="676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197600">
            <a:off x="7391520" y="403812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343400"/>
            <a:ext cx="914400" cy="18288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putr3"/>
          <p:cNvSpPr/>
          <p:nvPr/>
        </p:nvSpPr>
        <p:spPr>
          <a:xfrm>
            <a:off x="1752480" y="5867280"/>
            <a:ext cx="1057320" cy="7621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3040" y="60958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4864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457200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67040" y="51195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0226000">
            <a:off x="2743200" y="563832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8800" y="48006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434340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2560" y="3922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45200" y="567540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l of SDMX-M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2520" y="4797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326800">
            <a:off x="3347640" y="5373720"/>
            <a:ext cx="3311640" cy="287280"/>
          </a:xfrm>
          <a:prstGeom prst="rightArrow">
            <a:avLst>
              <a:gd name="adj1" fmla="val 50000"/>
              <a:gd name="adj2" fmla="val 28818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ocument"/>
          <p:cNvSpPr/>
          <p:nvPr/>
        </p:nvSpPr>
        <p:spPr>
          <a:xfrm>
            <a:off x="5148360" y="5013360"/>
            <a:ext cx="457200" cy="67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C096-349B-48A6-B083-5B006331EC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SDMX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047760" y="633240"/>
            <a:ext cx="27572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3846-C1D2-4149-86A8-50096E0F7FB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sible registry-based infrastruct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113360" y="1295280"/>
            <a:ext cx="1295280" cy="1763640"/>
            <a:chOff x="4113360" y="1295280"/>
            <a:chExt cx="1295280" cy="1763640"/>
          </a:xfrm>
        </p:grpSpPr>
        <p:sp>
          <p:nvSpPr>
            <p:cNvPr id="198" name=""/>
            <p:cNvSpPr/>
            <p:nvPr/>
          </p:nvSpPr>
          <p:spPr>
            <a:xfrm>
              <a:off x="4232160" y="1295280"/>
              <a:ext cx="1025640" cy="1295640"/>
            </a:xfrm>
            <a:prstGeom prst="can">
              <a:avLst>
                <a:gd name="adj" fmla="val 31537"/>
              </a:avLst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64080" y="2214360"/>
              <a:ext cx="393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3924360" y="2565000"/>
            <a:ext cx="431640" cy="863640"/>
          </a:xfrm>
          <a:prstGeom prst="line">
            <a:avLst/>
          </a:prstGeom>
          <a:ln w="57240">
            <a:solidFill>
              <a:srgbClr val="96969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6360" y="3352680"/>
            <a:ext cx="5602320" cy="1143000"/>
            <a:chOff x="36360" y="3352680"/>
            <a:chExt cx="5602320" cy="1143000"/>
          </a:xfrm>
        </p:grpSpPr>
        <p:sp>
          <p:nvSpPr>
            <p:cNvPr id="202" name=""/>
            <p:cNvSpPr/>
            <p:nvPr/>
          </p:nvSpPr>
          <p:spPr>
            <a:xfrm>
              <a:off x="1866960" y="3886200"/>
              <a:ext cx="144792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Class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Sch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3080" y="3886200"/>
              <a:ext cx="121896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Key 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60" y="3429000"/>
              <a:ext cx="52563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2080" y="3886200"/>
              <a:ext cx="121896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Data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480" y="3352680"/>
              <a:ext cx="55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gistry Services - Reg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45080" y="4495680"/>
            <a:ext cx="1295280" cy="2111400"/>
            <a:chOff x="6445080" y="4495680"/>
            <a:chExt cx="1295280" cy="2111400"/>
          </a:xfrm>
        </p:grpSpPr>
        <p:grpSp>
          <p:nvGrpSpPr>
            <p:cNvPr id="208" name=""/>
            <p:cNvGrpSpPr/>
            <p:nvPr/>
          </p:nvGrpSpPr>
          <p:grpSpPr>
            <a:xfrm>
              <a:off x="6445080" y="5105520"/>
              <a:ext cx="1295280" cy="1501560"/>
              <a:chOff x="6445080" y="5105520"/>
              <a:chExt cx="1295280" cy="1501560"/>
            </a:xfrm>
          </p:grpSpPr>
          <p:sp>
            <p:nvSpPr>
              <p:cNvPr id="209" name=""/>
              <p:cNvSpPr/>
              <p:nvPr/>
            </p:nvSpPr>
            <p:spPr>
              <a:xfrm>
                <a:off x="6808680" y="510552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6789240" y="565596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istic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>
              <a:off x="716292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2" name=""/>
          <p:cNvCxnSpPr>
            <a:stCxn id="213" idx="0"/>
            <a:endCxn id="198" idx="4"/>
          </p:cNvCxnSpPr>
          <p:nvPr/>
        </p:nvCxnSpPr>
        <p:spPr>
          <a:xfrm flipV="1" rot="16200000">
            <a:off x="5497920" y="1701720"/>
            <a:ext cx="1486440" cy="1967760"/>
          </a:xfrm>
          <a:prstGeom prst="bentConnector2">
            <a:avLst/>
          </a:prstGeom>
          <a:ln w="57240">
            <a:solidFill>
              <a:srgbClr val="969696"/>
            </a:solidFill>
            <a:prstDash val="sysDot"/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563868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6477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4495680"/>
            <a:ext cx="5638680" cy="2130480"/>
            <a:chOff x="0" y="4495680"/>
            <a:chExt cx="5638680" cy="2130480"/>
          </a:xfrm>
        </p:grpSpPr>
        <p:grpSp>
          <p:nvGrpSpPr>
            <p:cNvPr id="217" name=""/>
            <p:cNvGrpSpPr/>
            <p:nvPr/>
          </p:nvGrpSpPr>
          <p:grpSpPr>
            <a:xfrm>
              <a:off x="2209680" y="5124600"/>
              <a:ext cx="1295640" cy="1501560"/>
              <a:chOff x="2209680" y="5124600"/>
              <a:chExt cx="1295640" cy="1501560"/>
            </a:xfrm>
          </p:grpSpPr>
          <p:sp>
            <p:nvSpPr>
              <p:cNvPr id="218" name=""/>
              <p:cNvSpPr/>
              <p:nvPr/>
            </p:nvSpPr>
            <p:spPr>
              <a:xfrm>
                <a:off x="2575080" y="512460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2554200" y="5675040"/>
                <a:ext cx="60660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343400" y="5122800"/>
              <a:ext cx="1295280" cy="1503000"/>
              <a:chOff x="4343400" y="5122800"/>
              <a:chExt cx="1295280" cy="1503000"/>
            </a:xfrm>
          </p:grpSpPr>
          <p:sp>
            <p:nvSpPr>
              <p:cNvPr id="221" name=""/>
              <p:cNvSpPr/>
              <p:nvPr/>
            </p:nvSpPr>
            <p:spPr>
              <a:xfrm>
                <a:off x="4707000" y="512280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200000">
                <a:off x="4687560" y="567468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 B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276720" y="5105520"/>
              <a:ext cx="1293840" cy="1503000"/>
              <a:chOff x="3276720" y="5105520"/>
              <a:chExt cx="1293840" cy="1503000"/>
            </a:xfrm>
          </p:grpSpPr>
          <p:sp>
            <p:nvSpPr>
              <p:cNvPr id="224" name=""/>
              <p:cNvSpPr/>
              <p:nvPr/>
            </p:nvSpPr>
            <p:spPr>
              <a:xfrm>
                <a:off x="3638880" y="5105520"/>
                <a:ext cx="72072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6200000">
                <a:off x="3620160" y="5658120"/>
                <a:ext cx="606600" cy="12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E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141560" y="5105520"/>
              <a:ext cx="1295280" cy="1501560"/>
              <a:chOff x="1141560" y="5105520"/>
              <a:chExt cx="1295280" cy="1501560"/>
            </a:xfrm>
          </p:grpSpPr>
          <p:sp>
            <p:nvSpPr>
              <p:cNvPr id="227" name=""/>
              <p:cNvSpPr/>
              <p:nvPr/>
            </p:nvSpPr>
            <p:spPr>
              <a:xfrm>
                <a:off x="1506600" y="5105520"/>
                <a:ext cx="72036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6200000">
                <a:off x="1485720" y="565596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5105520"/>
              <a:ext cx="1295280" cy="1504800"/>
              <a:chOff x="0" y="5105520"/>
              <a:chExt cx="1295280" cy="1504800"/>
            </a:xfrm>
          </p:grpSpPr>
          <p:sp>
            <p:nvSpPr>
              <p:cNvPr id="230" name=""/>
              <p:cNvSpPr/>
              <p:nvPr/>
            </p:nvSpPr>
            <p:spPr>
              <a:xfrm>
                <a:off x="361800" y="5105520"/>
                <a:ext cx="720360" cy="971280"/>
              </a:xfrm>
              <a:prstGeom prst="can">
                <a:avLst>
                  <a:gd name="adj" fmla="val 31537"/>
                </a:avLst>
              </a:prstGeom>
              <a:gradFill rotWithShape="0">
                <a:gsLst>
                  <a:gs pos="0">
                    <a:srgbClr val="454b61"/>
                  </a:gs>
                  <a:gs pos="50000">
                    <a:srgbClr val="00cc99">
                      <a:alpha val="59215"/>
                    </a:srgbClr>
                  </a:gs>
                  <a:gs pos="100000">
                    <a:srgbClr val="454b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200000">
                <a:off x="344160" y="5659200"/>
                <a:ext cx="6066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ntral B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68580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82880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9548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6252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029200" y="4495680"/>
              <a:ext cx="0" cy="60984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56360" y="3352680"/>
            <a:ext cx="3924000" cy="1155960"/>
            <a:chOff x="5256360" y="3352680"/>
            <a:chExt cx="3924000" cy="1155960"/>
          </a:xfrm>
        </p:grpSpPr>
        <p:sp>
          <p:nvSpPr>
            <p:cNvPr id="238" name=""/>
            <p:cNvSpPr/>
            <p:nvPr/>
          </p:nvSpPr>
          <p:spPr>
            <a:xfrm>
              <a:off x="7696080" y="3886200"/>
              <a:ext cx="121932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Key family</a:t>
              </a:r>
              <a:br>
                <a:rPr sz="1600"/>
              </a:b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meta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6360" y="3352680"/>
              <a:ext cx="39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arch, Retrieve, Trans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34120" y="3429000"/>
              <a:ext cx="37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3886200"/>
              <a:ext cx="1219320" cy="45720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Data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F9D6-2B28-4DDC-883D-FE15085FF6DF}" type="slidenum">
              <a:t>20</a:t>
            </a:fld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57400" y="304920"/>
            <a:ext cx="80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Web Services for statistical information exchange and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6960" y="2349360"/>
            <a:ext cx="600120" cy="687600"/>
          </a:xfrm>
          <a:prstGeom prst="can">
            <a:avLst>
              <a:gd name="adj" fmla="val 31537"/>
            </a:avLst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8400" y="4481640"/>
            <a:ext cx="601920" cy="701640"/>
          </a:xfrm>
          <a:prstGeom prst="can">
            <a:avLst>
              <a:gd name="adj" fmla="val 31537"/>
            </a:avLst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alphaModFix amt="78000"/>
          </a:blip>
          <a:stretch/>
        </p:blipFill>
        <p:spPr>
          <a:xfrm>
            <a:off x="4068720" y="422100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05320" y="2062080"/>
            <a:ext cx="393480" cy="1271520"/>
          </a:xfrm>
          <a:prstGeom prst="rect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ower"/>
          <p:cNvSpPr/>
          <p:nvPr/>
        </p:nvSpPr>
        <p:spPr>
          <a:xfrm>
            <a:off x="7740720" y="429408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640" y="1413000"/>
            <a:ext cx="2026440" cy="30708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/Data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43360" y="3098880"/>
            <a:ext cx="1627200" cy="766800"/>
          </a:xfrm>
          <a:prstGeom prst="rect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37080" y="2565360"/>
            <a:ext cx="2016000" cy="150804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65600" y="2637000"/>
            <a:ext cx="1798560" cy="133020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082840" y="3111120"/>
            <a:ext cx="397080" cy="30456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4505040" y="2200680"/>
            <a:ext cx="454680" cy="123516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05320" y="4149720"/>
            <a:ext cx="393480" cy="1271520"/>
          </a:xfrm>
          <a:prstGeom prst="rect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17320" y="1413000"/>
            <a:ext cx="2181600" cy="30708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/Data 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05040" y="1413000"/>
            <a:ext cx="1954800" cy="30708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/Data Lo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ower"/>
          <p:cNvSpPr/>
          <p:nvPr/>
        </p:nvSpPr>
        <p:spPr>
          <a:xfrm>
            <a:off x="7956720" y="451008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11760" y="465768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1760" y="37101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11760" y="27003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11760" y="175248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465768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37101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175248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270036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6200" y="3141720"/>
            <a:ext cx="842760" cy="757080"/>
          </a:xfrm>
          <a:custGeom>
            <a:avLst/>
            <a:gdLst>
              <a:gd name="textAreaLeft" fmla="*/ 192240 w 842760"/>
              <a:gd name="textAreaRight" fmla="*/ 650520 w 842760"/>
              <a:gd name="textAreaTop" fmla="*/ 172800 h 757080"/>
              <a:gd name="textAreaBottom" fmla="*/ 584280 h 75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32080" y="3773520"/>
            <a:ext cx="1965240" cy="12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01920" y="3521160"/>
            <a:ext cx="1895400" cy="44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1920" y="2952720"/>
            <a:ext cx="189540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1920" y="2068560"/>
            <a:ext cx="2104920" cy="11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788000" y="2068560"/>
            <a:ext cx="1893960" cy="120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857840" y="3016080"/>
            <a:ext cx="189396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27680" y="3584520"/>
            <a:ext cx="1754280" cy="37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3710160"/>
            <a:ext cx="1963800" cy="119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51800" y="4782960"/>
            <a:ext cx="42228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51800" y="3836880"/>
            <a:ext cx="42228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51800" y="2825640"/>
            <a:ext cx="42228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51800" y="1879560"/>
            <a:ext cx="42228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92920" y="491004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92920" y="396252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92920" y="2952720"/>
            <a:ext cx="420840" cy="50472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92920" y="2004840"/>
            <a:ext cx="420840" cy="505080"/>
          </a:xfrm>
          <a:prstGeom prst="star5">
            <a:avLst/>
          </a:prstGeom>
          <a:solidFill>
            <a:srgbClr val="00ff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ower"/>
          <p:cNvSpPr/>
          <p:nvPr/>
        </p:nvSpPr>
        <p:spPr>
          <a:xfrm>
            <a:off x="7746840" y="257796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ower"/>
          <p:cNvSpPr/>
          <p:nvPr/>
        </p:nvSpPr>
        <p:spPr>
          <a:xfrm>
            <a:off x="7962840" y="2793960"/>
            <a:ext cx="561960" cy="863640"/>
          </a:xfrm>
          <a:prstGeom prst="pie">
            <a:avLst/>
          </a:prstGeom>
          <a:solidFill>
            <a:srgbClr val="c0c0c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CB91-F48D-43F8-BAB8-F083B9CF51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8064360" cy="581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28EF-02F1-4C24-8305-CEC87E93656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28720" y="1125360"/>
            <a:ext cx="792000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72E1-0A67-4440-BC32-D40AF2EF5A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81080" y="138240"/>
            <a:ext cx="8781840" cy="65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8111-4D03-4BD1-9875-7959C243010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1080" y="138240"/>
            <a:ext cx="8781840" cy="65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65E0-4A33-4377-8684-65CD6BE72F0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81080" y="138240"/>
            <a:ext cx="8781840" cy="65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F7CD-696E-49D6-AE6E-A107825EB7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06000" y="3805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electing Data Category to Search</a:t>
            </a:r>
            <a:r>
              <a:rPr b="0" lang="de-CH" sz="2000" spc="-1" strike="noStrike">
                <a:solidFill>
                  <a:srgbClr val="3333cc"/>
                </a:solidFill>
                <a:latin typeface="Arial"/>
              </a:rPr>
              <a:t>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666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C430-E762-4C2A-B896-4B2E50385BB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59000" y="3805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sults of Registry Search – Comparison View (Demo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00000" y="12193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87FB-0FE6-40B2-8323-CECEB034BD3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2280" y="990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duced reporting burden – via common formats adopted by international organisations for data and metadata exchan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spcAft>
                <a:spcPts val="27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user-friendly access when publishing national data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d metadata on the web - via global standards for data formats, catalogs/registries and assoc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hanced opportunity for navigation, discovery and comparative data analysis – via global guidelines for metadata vocabularies and repositories linked to statistical information in common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600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n replicate these models and tools for statistical information systems at national level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54320" y="63324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ticipated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4E1B-7AEA-41A7-B67A-0B70F54B7A11}" type="slidenum">
              <a:t>29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407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change of statistical data is still complex, resource intensive, and expensiv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ous international organisations have individual approaches for their constituenc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ties about how to proceed with new technologies (XML, web services …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580920" y="609480"/>
            <a:ext cx="51958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5426-B75E-42CF-85CF-406AE3EFD131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5327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ansition from projects to SDMX deliverables, on a learn-by-doing basi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3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metadata standard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375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echnical standard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lot for Joint External Debt Hub (involving cost sharing by participating international organisations)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implement initial version 1.0 stand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implement re-usable and freely available tools and registries to provide the basis for capacity building, fostering the adoption of SDMX stand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91440">
              <a:lnSpc>
                <a:spcPct val="100000"/>
              </a:lnSpc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implement a pilot for creditor and debtor statistics based on these standards and too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9920" y="633240"/>
            <a:ext cx="4527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visaged 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4D21-6AA0-42BE-8C74-6D5B2E83C84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122720" y="6332400"/>
            <a:ext cx="814320" cy="366840"/>
          </a:xfrm>
          <a:prstGeom prst="leftRightArrow">
            <a:avLst>
              <a:gd name="adj1" fmla="val 50000"/>
              <a:gd name="adj2" fmla="val 441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304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209520"/>
            <a:ext cx="6446880" cy="2044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06800" y="189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D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2360" y="3943440"/>
            <a:ext cx="1746360" cy="2076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4410000"/>
            <a:ext cx="2057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ormance 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 Projects /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 / Capacity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and Intellectual 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s/Liai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-501480" y="485892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4720" y="24591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etadata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008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1026000" y="486180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adata Common 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356040" y="48114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ance of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8954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380160" y="47383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0964600">
            <a:off x="1488600" y="4635360"/>
            <a:ext cx="559080" cy="509760"/>
          </a:xfrm>
          <a:prstGeom prst="rightArrow">
            <a:avLst>
              <a:gd name="adj1" fmla="val 50000"/>
              <a:gd name="adj2" fmla="val 274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3048120"/>
            <a:ext cx="863640" cy="367164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07008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0720" y="30686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4876560" y="481068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5699160" y="48445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814320"/>
            <a:ext cx="1584360" cy="15130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5600" y="1117440"/>
            <a:ext cx="1257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ational Sponsoring Instit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5108040" y="479520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mats (EDI, 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60" y="1814400"/>
            <a:ext cx="2060280" cy="8589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Subject-Matter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8120" y="2729880"/>
            <a:ext cx="586800" cy="43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80000" y="2427120"/>
            <a:ext cx="1676160" cy="14432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43240"/>
              <a:gd name="textAreaBottom" fmla="*/ 1443600 h 144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3280" y="40608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www.sdmx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1010160" y="482724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etary and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96040" y="1547640"/>
            <a:ext cx="1801800" cy="104148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Implementation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92520" y="288756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708120" y="479304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ubject-Matter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3280" y="4653000"/>
            <a:ext cx="594000" cy="433440"/>
          </a:xfrm>
          <a:prstGeom prst="rightArrow">
            <a:avLst>
              <a:gd name="adj1" fmla="val 50000"/>
              <a:gd name="adj2" fmla="val 342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0800000">
            <a:off x="5219640" y="4646520"/>
            <a:ext cx="504720" cy="439920"/>
          </a:xfrm>
          <a:prstGeom prst="rightArrow">
            <a:avLst>
              <a:gd name="adj1" fmla="val 50000"/>
              <a:gd name="adj2" fmla="val 286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/>
          <p:nvPr/>
        </p:nvCxnSpPr>
        <p:spPr>
          <a:xfrm flipH="1" flipV="1" rot="5400000">
            <a:off x="2280960" y="4484880"/>
            <a:ext cx="554760" cy="3594600"/>
          </a:xfrm>
          <a:prstGeom prst="curvedConnector5">
            <a:avLst>
              <a:gd name="adj1" fmla="val -41233"/>
              <a:gd name="adj2" fmla="val 50000"/>
              <a:gd name="adj3" fmla="val -41233"/>
            </a:avLst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</p:cxnSp>
      <p:cxnSp>
        <p:nvCxnSpPr>
          <p:cNvPr id="339" name=""/>
          <p:cNvCxnSpPr/>
          <p:nvPr/>
        </p:nvCxnSpPr>
        <p:spPr>
          <a:xfrm flipH="1" flipV="1">
            <a:off x="4911480" y="6443280"/>
            <a:ext cx="31968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40" name=""/>
          <p:cNvSpPr/>
          <p:nvPr/>
        </p:nvSpPr>
        <p:spPr>
          <a:xfrm>
            <a:off x="4049640" y="6338880"/>
            <a:ext cx="10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4520" y="5443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1154200">
            <a:off x="1190520" y="475596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21580200">
            <a:off x="4932360" y="47242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21580200">
            <a:off x="3203640" y="47242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59380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8880" y="317196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67640" y="3290760"/>
            <a:ext cx="98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39120" y="328464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6160" y="317196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596240" y="477612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tatistical Concep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1440" y="307008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08720" y="307008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96360" y="3070080"/>
            <a:ext cx="86328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85080" y="306864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72360" y="3068640"/>
            <a:ext cx="863640" cy="36720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5950800" y="496944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int External Debt 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1803800">
            <a:off x="6587640" y="4723560"/>
            <a:ext cx="444600" cy="446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104600">
            <a:off x="6282720" y="479736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7411320" y="4897800"/>
            <a:ext cx="19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ECD.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7270560" y="492228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S Data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7068240" y="4939560"/>
            <a:ext cx="13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67640" y="2637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6980760" y="4981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W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rot="10800000">
            <a:off x="4642560" y="5976360"/>
            <a:ext cx="3482280" cy="837360"/>
          </a:xfrm>
          <a:prstGeom prst="curvedConnector2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7524720" y="328464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2275-A611-4BE8-9427-DE2906D3E6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 rot="2010600">
            <a:off x="1295280" y="5638320"/>
            <a:ext cx="1067040" cy="4572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14920" y="2658960"/>
            <a:ext cx="1746000" cy="2076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6160" y="3125880"/>
            <a:ext cx="2057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ormance 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 Projects /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 / Capacity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and Intellectual 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s/Liai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67040" y="119700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etadata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5960" y="1611360"/>
            <a:ext cx="86328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161136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1024200" y="357768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adata Common 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65240" y="161136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378360" y="34545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0964600">
            <a:off x="1487160" y="3351240"/>
            <a:ext cx="558720" cy="509400"/>
          </a:xfrm>
          <a:prstGeom prst="rightArrow">
            <a:avLst>
              <a:gd name="adj1" fmla="val 50000"/>
              <a:gd name="adj2" fmla="val 274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42080" y="17636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0760" y="1763640"/>
            <a:ext cx="86328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17636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4925880" y="3611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5896800" y="3671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5225760" y="3673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(EDI,X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40560" y="27320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www.sdmx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5953400">
            <a:off x="3682800" y="4393800"/>
            <a:ext cx="863640" cy="3657600"/>
          </a:xfrm>
          <a:prstGeom prst="cube">
            <a:avLst>
              <a:gd name="adj" fmla="val 6238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379800">
            <a:off x="3016800" y="62625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Debt Joint 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90720" y="1603440"/>
            <a:ext cx="863640" cy="3672000"/>
          </a:xfrm>
          <a:prstGeom prst="cube">
            <a:avLst>
              <a:gd name="adj" fmla="val 62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706320" y="350856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ubject-Matter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54400" y="3368520"/>
            <a:ext cx="593640" cy="433440"/>
          </a:xfrm>
          <a:prstGeom prst="rightArrow">
            <a:avLst>
              <a:gd name="adj1" fmla="val 50000"/>
              <a:gd name="adj2" fmla="val 342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0800000">
            <a:off x="5385960" y="3362040"/>
            <a:ext cx="451080" cy="439560"/>
          </a:xfrm>
          <a:prstGeom prst="rightArrow">
            <a:avLst>
              <a:gd name="adj1" fmla="val 50000"/>
              <a:gd name="adj2" fmla="val 256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 flipH="1" flipV="1">
            <a:off x="4909320" y="5158800"/>
            <a:ext cx="320040" cy="84600"/>
          </a:xfrm>
          <a:prstGeom prst="straightConnector1">
            <a:avLst/>
          </a:prstGeom>
          <a:ln w="0">
            <a:noFill/>
          </a:ln>
        </p:spPr>
      </p:cxnSp>
      <p:sp>
        <p:nvSpPr>
          <p:cNvPr id="390" name=""/>
          <p:cNvSpPr/>
          <p:nvPr/>
        </p:nvSpPr>
        <p:spPr>
          <a:xfrm>
            <a:off x="3583080" y="41590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154200">
            <a:off x="1189080" y="34714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1580200">
            <a:off x="5092560" y="3440160"/>
            <a:ext cx="109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21580200">
            <a:off x="3003480" y="345132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4520" y="130968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01120" y="2038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1594800" y="3492000"/>
            <a:ext cx="26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Statistical Concep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964400">
            <a:off x="1340640" y="57448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576400">
            <a:off x="1981080" y="5410080"/>
            <a:ext cx="1067040" cy="4572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639400">
            <a:off x="2514600" y="541008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506200">
            <a:off x="2026080" y="551628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653800">
            <a:off x="2483280" y="548604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7646400">
            <a:off x="5410080" y="533376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7646400">
            <a:off x="5029200" y="510516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7646400">
            <a:off x="5715000" y="556236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8293400">
            <a:off x="4999320" y="52092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use /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2296800">
            <a:off x="2971800" y="525780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2506800">
            <a:off x="3016800" y="540972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input /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8000" y="127080"/>
            <a:ext cx="4038480" cy="9684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Subject-Matter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 Statistical Commiss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-Agency Task Force on Finance Statistic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99360" y="1123200"/>
            <a:ext cx="587160" cy="43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5721480"/>
            <a:ext cx="2666880" cy="9543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ed Implementatio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-IMF-OECD-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institutions and other fora adopting SDMX standar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668200" y="6539400"/>
            <a:ext cx="7722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84720" y="404640"/>
            <a:ext cx="4800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3333cc"/>
                </a:solidFill>
                <a:latin typeface="Arial"/>
              </a:rPr>
              <a:t>SDMX Standards-setting (Version 1.0) - Joint External Debt Hub Project: Overview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5520" y="19051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8293400">
            <a:off x="5380560" y="54090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use /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8293400">
            <a:off x="5685120" y="563760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Arial"/>
              </a:rPr>
              <a:t>use /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41BA-0AE5-4C3F-900F-DCCDBD54559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5327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33cc"/>
                </a:solidFill>
                <a:latin typeface="Arial"/>
              </a:rPr>
              <a:t>More about SDMX to follow in Working Paper 7 :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Inter-agency cooperation for the dissemiantion and exchange of standard metadata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109440" indent="0" algn="ctr">
              <a:lnSpc>
                <a:spcPct val="100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ww.sdmx.or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39920" y="633240"/>
            <a:ext cx="4527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8AF2-3EAB-4C39-BBA4-EB1F3BA6FBFA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6680" y="1371600"/>
            <a:ext cx="4859280" cy="990720"/>
            <a:chOff x="1066680" y="1371600"/>
            <a:chExt cx="4859280" cy="990720"/>
          </a:xfrm>
        </p:grpSpPr>
        <p:sp>
          <p:nvSpPr>
            <p:cNvPr id="59" name=""/>
            <p:cNvSpPr/>
            <p:nvPr/>
          </p:nvSpPr>
          <p:spPr>
            <a:xfrm>
              <a:off x="1066680" y="1371600"/>
              <a:ext cx="3786480" cy="97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tional Organisation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onal Organisations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33800" y="1371600"/>
              <a:ext cx="992160" cy="990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141960" y="1461960"/>
            <a:ext cx="563760" cy="540000"/>
            <a:chOff x="6141960" y="1461960"/>
            <a:chExt cx="563760" cy="540000"/>
          </a:xfrm>
        </p:grpSpPr>
        <p:sp>
          <p:nvSpPr>
            <p:cNvPr id="62" name=""/>
            <p:cNvSpPr/>
            <p:nvPr/>
          </p:nvSpPr>
          <p:spPr>
            <a:xfrm>
              <a:off x="6464160" y="1461960"/>
              <a:ext cx="241560" cy="540000"/>
            </a:xfrm>
            <a:custGeom>
              <a:avLst/>
              <a:gdLst>
                <a:gd name="textAreaLeft" fmla="*/ 32400 w 241560"/>
                <a:gd name="textAreaRight" fmla="*/ 209160 w 241560"/>
                <a:gd name="textAreaTop" fmla="*/ 94320 h 540000"/>
                <a:gd name="textAreaBottom" fmla="*/ 39168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141960" y="1461960"/>
              <a:ext cx="241200" cy="540000"/>
            </a:xfrm>
            <a:custGeom>
              <a:avLst/>
              <a:gdLst>
                <a:gd name="textAreaLeft" fmla="*/ 32040 w 241200"/>
                <a:gd name="textAreaRight" fmla="*/ 209160 w 241200"/>
                <a:gd name="textAreaTop" fmla="*/ 94320 h 540000"/>
                <a:gd name="textAreaBottom" fmla="*/ 39168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66680" y="5638680"/>
            <a:ext cx="4859280" cy="990720"/>
            <a:chOff x="1066680" y="5638680"/>
            <a:chExt cx="4859280" cy="990720"/>
          </a:xfrm>
        </p:grpSpPr>
        <p:sp>
          <p:nvSpPr>
            <p:cNvPr id="65" name=""/>
            <p:cNvSpPr/>
            <p:nvPr/>
          </p:nvSpPr>
          <p:spPr>
            <a:xfrm>
              <a:off x="1066680" y="5638680"/>
              <a:ext cx="3786480" cy="97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ks, Corpora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vidual Households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33800" y="5638680"/>
              <a:ext cx="992160" cy="990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-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on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41960" y="5729040"/>
            <a:ext cx="563760" cy="540000"/>
            <a:chOff x="6141960" y="5729040"/>
            <a:chExt cx="563760" cy="540000"/>
          </a:xfrm>
        </p:grpSpPr>
        <p:sp>
          <p:nvSpPr>
            <p:cNvPr id="68" name=""/>
            <p:cNvSpPr/>
            <p:nvPr/>
          </p:nvSpPr>
          <p:spPr>
            <a:xfrm>
              <a:off x="6464160" y="5729400"/>
              <a:ext cx="241560" cy="539640"/>
            </a:xfrm>
            <a:custGeom>
              <a:avLst/>
              <a:gdLst>
                <a:gd name="textAreaLeft" fmla="*/ 32400 w 241560"/>
                <a:gd name="textAreaRight" fmla="*/ 209160 w 24156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41960" y="5728680"/>
              <a:ext cx="241200" cy="539640"/>
            </a:xfrm>
            <a:custGeom>
              <a:avLst/>
              <a:gdLst>
                <a:gd name="textAreaLeft" fmla="*/ 32040 w 241200"/>
                <a:gd name="textAreaRight" fmla="*/ 209160 w 24120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066680" y="3505320"/>
            <a:ext cx="4859280" cy="990360"/>
            <a:chOff x="1066680" y="3505320"/>
            <a:chExt cx="4859280" cy="990360"/>
          </a:xfrm>
        </p:grpSpPr>
        <p:sp>
          <p:nvSpPr>
            <p:cNvPr id="71" name=""/>
            <p:cNvSpPr/>
            <p:nvPr/>
          </p:nvSpPr>
          <p:spPr>
            <a:xfrm>
              <a:off x="1066680" y="3505320"/>
              <a:ext cx="3786480" cy="97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Statistical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ation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3800" y="3505320"/>
              <a:ext cx="992160" cy="990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141960" y="3595320"/>
            <a:ext cx="563760" cy="540000"/>
            <a:chOff x="6141960" y="3595320"/>
            <a:chExt cx="563760" cy="540000"/>
          </a:xfrm>
        </p:grpSpPr>
        <p:sp>
          <p:nvSpPr>
            <p:cNvPr id="74" name=""/>
            <p:cNvSpPr/>
            <p:nvPr/>
          </p:nvSpPr>
          <p:spPr>
            <a:xfrm>
              <a:off x="6464160" y="3595680"/>
              <a:ext cx="241560" cy="539640"/>
            </a:xfrm>
            <a:custGeom>
              <a:avLst/>
              <a:gdLst>
                <a:gd name="textAreaLeft" fmla="*/ 32400 w 241560"/>
                <a:gd name="textAreaRight" fmla="*/ 209160 w 24156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141960" y="3594960"/>
              <a:ext cx="241200" cy="539640"/>
            </a:xfrm>
            <a:custGeom>
              <a:avLst/>
              <a:gdLst>
                <a:gd name="textAreaLeft" fmla="*/ 32040 w 241200"/>
                <a:gd name="textAreaRight" fmla="*/ 209160 w 241200"/>
                <a:gd name="textAreaTop" fmla="*/ 94320 h 539640"/>
                <a:gd name="textAreaBottom" fmla="*/ 3913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6200000">
            <a:off x="-1903320" y="3652920"/>
            <a:ext cx="487692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99cc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0 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5973480" y="3652920"/>
            <a:ext cx="487692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99cc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, Search,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873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z.or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hub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633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x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41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y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48120" y="236196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980720" y="2361960"/>
            <a:ext cx="83844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200400" y="2361960"/>
            <a:ext cx="9144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48120" y="44956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80720" y="4495680"/>
            <a:ext cx="83844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00400" y="44956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25146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572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477120"/>
            <a:ext cx="838440" cy="15228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2133720"/>
            <a:ext cx="838440" cy="15228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267080"/>
            <a:ext cx="838440" cy="15264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7400" y="3805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de-CH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tistic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formatio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uilding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lock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26C6-9631-4ADD-8F2B-F08001A40596}" type="slidenum">
              <a:t>4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885680"/>
            <a:ext cx="8407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tituencies of international organisations have asked for common solution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national organisations are in a position to expand their coope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2999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T technology seems to offer some ways forward that we should not ignor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962160" y="609480"/>
            <a:ext cx="18428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pportunitie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0B58-73D3-4CE5-8017-0B348F615AE4}" type="slidenum">
              <a:t>5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5240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itiative of BIS, ECB, EUROSTAT, IMF, OECD, World Bank and U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“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.. to focus on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siness practic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in the field of statistical information th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ould allow more efficient processes for exchange and sharing of data 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tadata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within the current scope of our collective activities”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lobal workshop at IMF, reports to UN Statistical Commission, liaison with international standards community and private sector initiativ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ww.sdmx.or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7760" y="633240"/>
            <a:ext cx="466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is SDMX? (1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F63A-2FBC-46AF-A52C-E849AE599CDF}" type="slidenum">
              <a:t>6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233360"/>
            <a:ext cx="7343640" cy="55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3E76-F80B-4B9F-9BB2-5710D18150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1163520"/>
            <a:ext cx="7901280" cy="56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14F7-CB59-42C3-9831-6291999876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254240"/>
            <a:ext cx="8064360" cy="570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7EDD-7E03-47D2-883A-38CB60909D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3:38:43Z</dcterms:created>
  <dc:creator>cbmesmf</dc:creator>
  <dc:description/>
  <dc:language>en-US</dc:language>
  <cp:lastModifiedBy>UNECE</cp:lastModifiedBy>
  <cp:lastPrinted>2001-06-08T16:23:52Z</cp:lastPrinted>
  <dcterms:modified xsi:type="dcterms:W3CDTF">2004-02-09T11:36:06Z</dcterms:modified>
  <cp:revision>316</cp:revision>
  <dc:subject/>
  <dc:title>PowerPoint Presentation</dc:title>
</cp:coreProperties>
</file>