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16360" y="-360"/>
            <a:ext cx="29592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BA7DC06-F49A-4DFF-A5D5-BC60EC01A124}" type="datetime3">
              <a:rPr b="0" lang="en-GB" sz="10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56880" y="77004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4920" y="4704840"/>
            <a:ext cx="4983120" cy="4473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9392760"/>
            <a:ext cx="2960640" cy="538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16360" y="9410400"/>
            <a:ext cx="2959200" cy="539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698E8C4-43B6-4A89-9179-4712D41E4C88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57240" y="77004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4920" y="4704840"/>
            <a:ext cx="4983120" cy="447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meant to be a presentation of about 15 – 20 minutes, giving you a down-to-earth summary of the project within the context of SDM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2BF2-6147-4005-A7F3-CEA3F3FEF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797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7720" y="3984840"/>
            <a:ext cx="7797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55687-5D21-4AE9-8C63-931CB8DA1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0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3720" y="1676520"/>
            <a:ext cx="380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3984840"/>
            <a:ext cx="380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3720" y="3984840"/>
            <a:ext cx="380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92F4-ED52-4235-83C3-4D662BFFC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74360" y="1676520"/>
            <a:ext cx="25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1000" y="1676520"/>
            <a:ext cx="25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7720" y="3984840"/>
            <a:ext cx="25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74360" y="3984840"/>
            <a:ext cx="25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1000" y="3984840"/>
            <a:ext cx="25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FDCC-F095-4D0D-9AC5-99F4DD2168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797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3579-3F2A-4A78-9C7E-0359C24690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797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88FD-4283-47C0-9B93-EA1CA93CD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05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3720" y="1676520"/>
            <a:ext cx="3805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F6FD-CE3F-4E8A-8CD2-E18795589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CB8C-6C5C-454C-AC03-06F3F8C97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0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3A87-3ED1-4D76-8A26-D5506E5FE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0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3720" y="1676520"/>
            <a:ext cx="3805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7720" y="3984840"/>
            <a:ext cx="380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306F-9DD2-4ED0-AF9B-A136C8A1F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05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3720" y="1676520"/>
            <a:ext cx="380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3720" y="3984840"/>
            <a:ext cx="380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9E61-3E4D-4B2C-B868-443D23A73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0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3720" y="1676520"/>
            <a:ext cx="380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3984840"/>
            <a:ext cx="7797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129D-F2E3-44E9-AA10-FE1978649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7720" y="1676520"/>
            <a:ext cx="7797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3333cc"/>
              </a:buClr>
              <a:buSzPct val="5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751"/>
              </a:spcBef>
              <a:buClr>
                <a:srgbClr val="3333cc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751"/>
              </a:spcBef>
              <a:buClr>
                <a:srgbClr val="800000"/>
              </a:buClr>
              <a:buSzPct val="5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751"/>
              </a:spcBef>
              <a:buClr>
                <a:srgbClr val="800000"/>
              </a:buClr>
              <a:buSzPct val="5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848720" y="6400800"/>
            <a:ext cx="1066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1143000"/>
            <a:ext cx="7924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838080" y="533520"/>
            <a:ext cx="1305000" cy="390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050320" y="6489360"/>
            <a:ext cx="57312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DDE5-A060-4AE8-A09D-302AACB8A2F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5736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 A C K G R O U N D     B R I E F I N G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N D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 E X T     S T E P S</a:t>
            </a:r>
            <a:br>
              <a:rPr sz="2400"/>
            </a:br>
            <a:br>
              <a:rPr sz="2000"/>
            </a:br>
            <a:br>
              <a:rPr sz="1200"/>
            </a:b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METIS</a:t>
            </a:r>
            <a:br>
              <a:rPr sz="1400"/>
            </a:b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Geneva, February 2004</a:t>
            </a:r>
            <a:br>
              <a:rPr sz="1200"/>
            </a:b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6324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90600" y="620640"/>
            <a:ext cx="61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Statistical  Data  and  Metadata  Exchange  Initiativ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172360" y="6643800"/>
            <a:ext cx="97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2185560"/>
            <a:ext cx="9829800" cy="31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Aft>
                <a:spcPts val="2999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rojects (shared funding and resources) launched in June 2002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batch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ata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xchang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metadata </a:t>
            </a:r>
            <a:r>
              <a:rPr b="0" lang="de-CH" sz="2400" spc="-1" strike="noStrike">
                <a:solidFill>
                  <a:srgbClr val="3333cc"/>
                </a:solidFill>
                <a:latin typeface="Arial"/>
              </a:rPr>
              <a:t>common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vocabulary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metadata </a:t>
            </a:r>
            <a:r>
              <a:rPr b="0" lang="de-CH" sz="2400" spc="-1" strike="noStrike">
                <a:solidFill>
                  <a:srgbClr val="3333cc"/>
                </a:solidFill>
                <a:latin typeface="Arial"/>
              </a:rPr>
              <a:t>repositories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587"/>
              </a:spcBef>
              <a:spcAft>
                <a:spcPts val="1188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practical case study on emerging e-standards</a:t>
            </a:r>
            <a:r>
              <a:rPr b="0" lang="en-GB" sz="19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3333cc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Aft>
                <a:spcPts val="18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109680" y="633240"/>
            <a:ext cx="46623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hat is SDMX? (2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5B92-5866-44E4-A01D-BAC206311409}" type="slidenum">
              <a:t>10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120" y="1905120"/>
            <a:ext cx="7797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3600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Overall goal: reality check on emerging standards by building prototype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Aft>
                <a:spcPts val="3600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Closely coordinated work with other projects – exploring ways to validate practical impact of project deliverables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Aft>
                <a:spcPts val="3600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Builds on experimentation taking place in different SDMX institutions.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Aft>
                <a:spcPts val="2100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pport from other institutions and central banks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endParaRPr b="0" lang="en-US" sz="2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3652560" y="639720"/>
            <a:ext cx="35830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se Study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5067-95B2-434B-B8AF-E7FA07F6BF68}" type="slidenum">
              <a:t>11</a:t>
            </a:fld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se Study: general approach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>
              <a:lnSpc>
                <a:spcPct val="100000"/>
              </a:lnSpc>
              <a:spcBef>
                <a:spcPts val="1500"/>
              </a:spcBef>
              <a:spcAft>
                <a:spcPts val="9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Selected the BIS-IMF-OECD-World Bank hub on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external deb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 for the demo exampl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27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viewed available and emerging standard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3600"/>
              </a:spcBef>
              <a:spcAft>
                <a:spcPts val="9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stablished experimental XML standards based on      existing statistical exchange standards (i.e. GESMES/TS metadata “key family” concepts)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2999"/>
              </a:spcBef>
              <a:spcAft>
                <a:spcPts val="9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Built a metadata registry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opulated i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with links to where the data can be foun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29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Built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b services (r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gistration, search, transformation, comparison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6EBCF-2229-48C3-B8A9-F92752217B6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se Study: key finding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550"/>
              </a:spcBef>
              <a:spcAft>
                <a:spcPts val="825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Technology could be made to work better for statistical data exchange 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Common information model underlies all statistical data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Common standards cut across different patterns of data exchange:    bilateral, gateway, data sharing 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Potential of (new) web technology is significant   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11"/>
              </a:spcBef>
              <a:spcAft>
                <a:spcPts val="238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XML is widely supported by software vendors, making it easier to use                   off-the-shelf tools to develop applications</a:t>
            </a:r>
            <a:endParaRPr b="0" lang="en-US" sz="1900" spc="-1" strike="noStrike">
              <a:solidFill>
                <a:srgbClr val="3333cc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registry-based architecture for metadata can facilitate navigation                        (i.e. data google)</a:t>
            </a:r>
            <a:endParaRPr b="0" lang="en-US" sz="1900" spc="-1" strike="noStrike">
              <a:solidFill>
                <a:srgbClr val="3333cc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use of web services enables automated data exchange</a:t>
            </a:r>
            <a:endParaRPr b="0" lang="en-US" sz="1900" spc="-1" strike="noStrike">
              <a:solidFill>
                <a:srgbClr val="3333cc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Possible to build on existing infrastructures, technologies and standards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C655-CD36-40EB-A085-6B9AABB160F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248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 of information model:  metadata “key family”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89888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292320" y="1039680"/>
            <a:ext cx="1326600" cy="1627200"/>
            <a:chOff x="292320" y="1039680"/>
            <a:chExt cx="1326600" cy="1627200"/>
          </a:xfrm>
        </p:grpSpPr>
        <p:sp>
          <p:nvSpPr>
            <p:cNvPr id="111" name=""/>
            <p:cNvSpPr/>
            <p:nvPr/>
          </p:nvSpPr>
          <p:spPr>
            <a:xfrm>
              <a:off x="292320" y="1039680"/>
              <a:ext cx="132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Coun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4400" y="152388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682280" y="838080"/>
            <a:ext cx="2062080" cy="1747440"/>
            <a:chOff x="1682280" y="838080"/>
            <a:chExt cx="2062080" cy="1747440"/>
          </a:xfrm>
        </p:grpSpPr>
        <p:sp>
          <p:nvSpPr>
            <p:cNvPr id="114" name=""/>
            <p:cNvSpPr/>
            <p:nvPr/>
          </p:nvSpPr>
          <p:spPr>
            <a:xfrm>
              <a:off x="2018160" y="83808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Stock/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682280" y="1288080"/>
              <a:ext cx="804240" cy="1297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718720" y="1295280"/>
            <a:ext cx="2343600" cy="1304640"/>
            <a:chOff x="2718720" y="1295280"/>
            <a:chExt cx="2343600" cy="1304640"/>
          </a:xfrm>
        </p:grpSpPr>
        <p:sp>
          <p:nvSpPr>
            <p:cNvPr id="117" name=""/>
            <p:cNvSpPr/>
            <p:nvPr/>
          </p:nvSpPr>
          <p:spPr>
            <a:xfrm>
              <a:off x="2824200" y="1295280"/>
              <a:ext cx="22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Unit Multipl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86720" y="17524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U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181320" y="1978920"/>
              <a:ext cx="910440" cy="62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718720" y="1685160"/>
              <a:ext cx="582480" cy="896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54240" y="3757680"/>
            <a:ext cx="2025000" cy="1957320"/>
            <a:chOff x="1254240" y="3757680"/>
            <a:chExt cx="2025000" cy="1957320"/>
          </a:xfrm>
        </p:grpSpPr>
        <p:sp>
          <p:nvSpPr>
            <p:cNvPr id="122" name=""/>
            <p:cNvSpPr/>
            <p:nvPr/>
          </p:nvSpPr>
          <p:spPr>
            <a:xfrm>
              <a:off x="2332080" y="4495680"/>
              <a:ext cx="94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T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523520" y="4952880"/>
              <a:ext cx="83844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357560" y="4766040"/>
              <a:ext cx="865800" cy="304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1254240" y="4643640"/>
              <a:ext cx="1024920" cy="2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1440360" y="4060440"/>
              <a:ext cx="776520" cy="489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1611000" y="3757680"/>
              <a:ext cx="780840" cy="703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952520" y="2057400"/>
            <a:ext cx="3391200" cy="1219320"/>
            <a:chOff x="4952520" y="2057400"/>
            <a:chExt cx="3391200" cy="1219320"/>
          </a:xfrm>
        </p:grpSpPr>
        <p:sp>
          <p:nvSpPr>
            <p:cNvPr id="129" name=""/>
            <p:cNvSpPr/>
            <p:nvPr/>
          </p:nvSpPr>
          <p:spPr>
            <a:xfrm flipH="1">
              <a:off x="4952520" y="2514600"/>
              <a:ext cx="83844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48200" y="205740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Time/Frequen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0E90-D753-4500-8A2F-0C9ECAF2B548}" type="slidenum">
              <a:t>14</a:t>
            </a:fld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7400" y="380520"/>
            <a:ext cx="801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imple tool for creating a key family (Demo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69200" cy="54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C64DD-9DCF-4261-918F-91752836A25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preadsheet input to XML output (Demo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32000" y="1219320"/>
            <a:ext cx="691200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AEA6-9CA1-4D65-87F2-1B4FF7B8EA1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04960" y="2282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atterns of Data Exchange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1413000"/>
            <a:ext cx="5029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Arial"/>
              </a:rPr>
              <a:t>Bilatera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dividual provider-to-consumer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uld be batch or web disse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variety of format standards </a:t>
            </a:r>
            <a:r>
              <a:rPr b="0" lang="en-US" sz="21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257800" y="1152360"/>
            <a:ext cx="3519360" cy="189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86320" y="3160800"/>
            <a:ext cx="3071880" cy="1563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257800" y="304812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472428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895480"/>
            <a:ext cx="4876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Arial"/>
              </a:rPr>
              <a:t>Gatewa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any bilateral-to-central authority then on to others (bilateral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ill many bilateral form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ypical in data bank exerci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648320"/>
            <a:ext cx="5029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Arial"/>
              </a:rPr>
              <a:t>Data sha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atistical hubs through common standards and forma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ta/metadata useable without prior agre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issemination could replace repor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580000" y="4807080"/>
            <a:ext cx="2808360" cy="190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68C2-6F2B-4B50-B40E-EB2B5B309400}" type="slidenum">
              <a:t>17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5280" y="764640"/>
            <a:ext cx="8686800" cy="4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GESMES/TS Reporting &amp; Registry-Based Dissemination (1) </a:t>
            </a:r>
            <a:endParaRPr b="0" lang="en-US" sz="1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mainfrm"/>
          <p:cNvSpPr/>
          <p:nvPr/>
        </p:nvSpPr>
        <p:spPr>
          <a:xfrm>
            <a:off x="1990800" y="3124080"/>
            <a:ext cx="600120" cy="6764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2971800"/>
            <a:ext cx="76212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335268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205740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24680" y="2971800"/>
            <a:ext cx="76212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335268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mainfrm"/>
          <p:cNvSpPr/>
          <p:nvPr/>
        </p:nvSpPr>
        <p:spPr>
          <a:xfrm>
            <a:off x="6562800" y="3124080"/>
            <a:ext cx="600120" cy="6764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205740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2971800"/>
            <a:ext cx="3124440" cy="838080"/>
          </a:xfrm>
          <a:prstGeom prst="rightArrow">
            <a:avLst>
              <a:gd name="adj1" fmla="val 50000"/>
              <a:gd name="adj2" fmla="val 9320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5640" y="42274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38800" y="415116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12480" y="41590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32520" y="42051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ocument"/>
          <p:cNvSpPr/>
          <p:nvPr/>
        </p:nvSpPr>
        <p:spPr>
          <a:xfrm>
            <a:off x="4114800" y="2209680"/>
            <a:ext cx="457200" cy="6764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8680" y="1447920"/>
            <a:ext cx="1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MES/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0000" y="5065560"/>
            <a:ext cx="81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, the sender renders the data out of the database 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MES/TS EDIFACT, and sends it to a counter-party accor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ior agreement. When received by the counter-party, it goes throu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ateway and is passed into their internal syste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230B-3BAF-430B-845D-0F18C326123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5280" y="69228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GESMES/TS Reporting &amp; Registry-Based Dissemination (2)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mainfrm"/>
          <p:cNvSpPr/>
          <p:nvPr/>
        </p:nvSpPr>
        <p:spPr>
          <a:xfrm>
            <a:off x="1990800" y="2209680"/>
            <a:ext cx="600120" cy="6764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2971800"/>
            <a:ext cx="76212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709400">
            <a:off x="1295280" y="274284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2057400"/>
            <a:ext cx="0" cy="335268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24680" y="2971800"/>
            <a:ext cx="76212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36200">
            <a:off x="7315200" y="281952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mainfrm"/>
          <p:cNvSpPr/>
          <p:nvPr/>
        </p:nvSpPr>
        <p:spPr>
          <a:xfrm>
            <a:off x="6562800" y="2286000"/>
            <a:ext cx="600120" cy="6764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2057400"/>
            <a:ext cx="0" cy="342900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2209680"/>
            <a:ext cx="3124440" cy="838440"/>
          </a:xfrm>
          <a:prstGeom prst="rightArrow">
            <a:avLst>
              <a:gd name="adj1" fmla="val 50000"/>
              <a:gd name="adj2" fmla="val 9316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5640" y="42274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33440" y="3068640"/>
            <a:ext cx="18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&amp; SDMX-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3440" y="3048120"/>
            <a:ext cx="18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&amp; SDMX-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32520" y="42051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Document"/>
          <p:cNvSpPr/>
          <p:nvPr/>
        </p:nvSpPr>
        <p:spPr>
          <a:xfrm>
            <a:off x="4140360" y="1773360"/>
            <a:ext cx="457200" cy="676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44720" y="119700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ssion of GESMES/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SDMX-M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2755400">
            <a:off x="1295280" y="396180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mainfrm"/>
          <p:cNvSpPr/>
          <p:nvPr/>
        </p:nvSpPr>
        <p:spPr>
          <a:xfrm>
            <a:off x="1905120" y="4048200"/>
            <a:ext cx="600120" cy="6760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62840" y="483696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MX-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mainfrm"/>
          <p:cNvSpPr/>
          <p:nvPr/>
        </p:nvSpPr>
        <p:spPr>
          <a:xfrm>
            <a:off x="6638760" y="4048200"/>
            <a:ext cx="600120" cy="6760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9197600">
            <a:off x="7391520" y="4038120"/>
            <a:ext cx="533160" cy="228600"/>
          </a:xfrm>
          <a:prstGeom prst="leftRightArrow">
            <a:avLst>
              <a:gd name="adj1" fmla="val 50000"/>
              <a:gd name="adj2" fmla="val 464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4343400"/>
            <a:ext cx="914400" cy="182880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computr3"/>
          <p:cNvSpPr/>
          <p:nvPr/>
        </p:nvSpPr>
        <p:spPr>
          <a:xfrm>
            <a:off x="1752480" y="5867280"/>
            <a:ext cx="1057320" cy="76212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3040" y="60958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548640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4572000"/>
            <a:ext cx="1371600" cy="380880"/>
          </a:xfrm>
          <a:prstGeom prst="rightArrow">
            <a:avLst>
              <a:gd name="adj1" fmla="val 50000"/>
              <a:gd name="adj2" fmla="val 900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67040" y="511956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20226000">
            <a:off x="2743200" y="5638320"/>
            <a:ext cx="1219320" cy="152640"/>
          </a:xfrm>
          <a:prstGeom prst="leftRightArrow">
            <a:avLst>
              <a:gd name="adj1" fmla="val 50000"/>
              <a:gd name="adj2" fmla="val 1590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88800" y="480060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MX-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4343400"/>
            <a:ext cx="1295640" cy="152280"/>
          </a:xfrm>
          <a:prstGeom prst="rightArrow">
            <a:avLst>
              <a:gd name="adj1" fmla="val 50000"/>
              <a:gd name="adj2" fmla="val 2127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2560" y="39225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45200" y="567540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al of SDMX-M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42520" y="47973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20326800">
            <a:off x="3347640" y="5373720"/>
            <a:ext cx="3311640" cy="287280"/>
          </a:xfrm>
          <a:prstGeom prst="rightArrow">
            <a:avLst>
              <a:gd name="adj1" fmla="val 50000"/>
              <a:gd name="adj2" fmla="val 28818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Document"/>
          <p:cNvSpPr/>
          <p:nvPr/>
        </p:nvSpPr>
        <p:spPr>
          <a:xfrm>
            <a:off x="5148360" y="5013360"/>
            <a:ext cx="457200" cy="676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F298-44DA-4B16-803B-58CC85D2BBF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at is SDMX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ogres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047760" y="633240"/>
            <a:ext cx="27572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6034-BE41-4321-A4CE-FE8D1B284C8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ossible registry-based infrastructur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113360" y="1295280"/>
            <a:ext cx="1295280" cy="1763640"/>
            <a:chOff x="4113360" y="1295280"/>
            <a:chExt cx="1295280" cy="1763640"/>
          </a:xfrm>
        </p:grpSpPr>
        <p:sp>
          <p:nvSpPr>
            <p:cNvPr id="198" name=""/>
            <p:cNvSpPr/>
            <p:nvPr/>
          </p:nvSpPr>
          <p:spPr>
            <a:xfrm>
              <a:off x="4232160" y="1295280"/>
              <a:ext cx="1025640" cy="1295640"/>
            </a:xfrm>
            <a:prstGeom prst="can">
              <a:avLst>
                <a:gd name="adj" fmla="val 31537"/>
              </a:avLst>
            </a:prstGeom>
            <a:gradFill rotWithShape="0">
              <a:gsLst>
                <a:gs pos="0">
                  <a:srgbClr val="3b0000"/>
                </a:gs>
                <a:gs pos="50000">
                  <a:srgbClr val="800000"/>
                </a:gs>
                <a:gs pos="100000">
                  <a:srgbClr val="3b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64080" y="2214360"/>
              <a:ext cx="3934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i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 flipV="1">
            <a:off x="3924360" y="2565000"/>
            <a:ext cx="431640" cy="863640"/>
          </a:xfrm>
          <a:prstGeom prst="line">
            <a:avLst/>
          </a:prstGeom>
          <a:ln w="57240">
            <a:solidFill>
              <a:srgbClr val="96969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6360" y="3352680"/>
            <a:ext cx="5602320" cy="1143000"/>
            <a:chOff x="36360" y="3352680"/>
            <a:chExt cx="5602320" cy="1143000"/>
          </a:xfrm>
        </p:grpSpPr>
        <p:sp>
          <p:nvSpPr>
            <p:cNvPr id="202" name=""/>
            <p:cNvSpPr/>
            <p:nvPr/>
          </p:nvSpPr>
          <p:spPr>
            <a:xfrm>
              <a:off x="1866960" y="3886200"/>
              <a:ext cx="1447920" cy="45720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Classif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Sche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3080" y="3886200"/>
              <a:ext cx="1218960" cy="45720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Key fami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360" y="3429000"/>
              <a:ext cx="525636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72080" y="3886200"/>
              <a:ext cx="1218960" cy="45720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Data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4480" y="3352680"/>
              <a:ext cx="55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gistry Services - Regis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445080" y="4495680"/>
            <a:ext cx="1295280" cy="2111400"/>
            <a:chOff x="6445080" y="4495680"/>
            <a:chExt cx="1295280" cy="2111400"/>
          </a:xfrm>
        </p:grpSpPr>
        <p:grpSp>
          <p:nvGrpSpPr>
            <p:cNvPr id="208" name=""/>
            <p:cNvGrpSpPr/>
            <p:nvPr/>
          </p:nvGrpSpPr>
          <p:grpSpPr>
            <a:xfrm>
              <a:off x="6445080" y="5105520"/>
              <a:ext cx="1295280" cy="1501560"/>
              <a:chOff x="6445080" y="5105520"/>
              <a:chExt cx="1295280" cy="1501560"/>
            </a:xfrm>
          </p:grpSpPr>
          <p:sp>
            <p:nvSpPr>
              <p:cNvPr id="209" name=""/>
              <p:cNvSpPr/>
              <p:nvPr/>
            </p:nvSpPr>
            <p:spPr>
              <a:xfrm>
                <a:off x="6808680" y="5105520"/>
                <a:ext cx="720720" cy="971280"/>
              </a:xfrm>
              <a:prstGeom prst="can">
                <a:avLst>
                  <a:gd name="adj" fmla="val 31537"/>
                </a:avLst>
              </a:prstGeom>
              <a:gradFill rotWithShape="0">
                <a:gsLst>
                  <a:gs pos="0">
                    <a:srgbClr val="454b61"/>
                  </a:gs>
                  <a:gs pos="50000">
                    <a:srgbClr val="00cc99">
                      <a:alpha val="59215"/>
                    </a:srgbClr>
                  </a:gs>
                  <a:gs pos="100000">
                    <a:srgbClr val="454b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6789240" y="5655960"/>
                <a:ext cx="60660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atistics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s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V="1">
              <a:off x="7162920" y="4495680"/>
              <a:ext cx="0" cy="60984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2" name=""/>
          <p:cNvCxnSpPr>
            <a:stCxn id="213" idx="0"/>
            <a:endCxn id="198" idx="4"/>
          </p:cNvCxnSpPr>
          <p:nvPr/>
        </p:nvCxnSpPr>
        <p:spPr>
          <a:xfrm flipV="1" rot="16200000">
            <a:off x="5497920" y="1701720"/>
            <a:ext cx="1486440" cy="1967760"/>
          </a:xfrm>
          <a:prstGeom prst="bentConnector2">
            <a:avLst/>
          </a:prstGeom>
          <a:ln w="57240">
            <a:solidFill>
              <a:srgbClr val="969696"/>
            </a:solidFill>
            <a:prstDash val="sysDot"/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5638680" y="6477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6477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0" y="4495680"/>
            <a:ext cx="5638680" cy="2130480"/>
            <a:chOff x="0" y="4495680"/>
            <a:chExt cx="5638680" cy="2130480"/>
          </a:xfrm>
        </p:grpSpPr>
        <p:grpSp>
          <p:nvGrpSpPr>
            <p:cNvPr id="217" name=""/>
            <p:cNvGrpSpPr/>
            <p:nvPr/>
          </p:nvGrpSpPr>
          <p:grpSpPr>
            <a:xfrm>
              <a:off x="2209680" y="5124600"/>
              <a:ext cx="1295640" cy="1501560"/>
              <a:chOff x="2209680" y="5124600"/>
              <a:chExt cx="1295640" cy="1501560"/>
            </a:xfrm>
          </p:grpSpPr>
          <p:sp>
            <p:nvSpPr>
              <p:cNvPr id="218" name=""/>
              <p:cNvSpPr/>
              <p:nvPr/>
            </p:nvSpPr>
            <p:spPr>
              <a:xfrm>
                <a:off x="2575080" y="5124600"/>
                <a:ext cx="720720" cy="971280"/>
              </a:xfrm>
              <a:prstGeom prst="can">
                <a:avLst>
                  <a:gd name="adj" fmla="val 31537"/>
                </a:avLst>
              </a:prstGeom>
              <a:gradFill rotWithShape="0">
                <a:gsLst>
                  <a:gs pos="0">
                    <a:srgbClr val="454b61"/>
                  </a:gs>
                  <a:gs pos="50000">
                    <a:srgbClr val="00cc99">
                      <a:alpha val="59215"/>
                    </a:srgbClr>
                  </a:gs>
                  <a:gs pos="100000">
                    <a:srgbClr val="454b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6200000">
                <a:off x="2554200" y="5675040"/>
                <a:ext cx="606600" cy="12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M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i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343400" y="5122800"/>
              <a:ext cx="1295280" cy="1503000"/>
              <a:chOff x="4343400" y="5122800"/>
              <a:chExt cx="1295280" cy="1503000"/>
            </a:xfrm>
          </p:grpSpPr>
          <p:sp>
            <p:nvSpPr>
              <p:cNvPr id="221" name=""/>
              <p:cNvSpPr/>
              <p:nvPr/>
            </p:nvSpPr>
            <p:spPr>
              <a:xfrm>
                <a:off x="4707000" y="5122800"/>
                <a:ext cx="720720" cy="971280"/>
              </a:xfrm>
              <a:prstGeom prst="can">
                <a:avLst>
                  <a:gd name="adj" fmla="val 31537"/>
                </a:avLst>
              </a:prstGeom>
              <a:gradFill rotWithShape="0">
                <a:gsLst>
                  <a:gs pos="0">
                    <a:srgbClr val="454b61"/>
                  </a:gs>
                  <a:gs pos="50000">
                    <a:srgbClr val="00cc99">
                      <a:alpha val="59215"/>
                    </a:srgbClr>
                  </a:gs>
                  <a:gs pos="100000">
                    <a:srgbClr val="454b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6200000">
                <a:off x="4687560" y="5674680"/>
                <a:ext cx="60660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ld Ba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i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3276720" y="5105520"/>
              <a:ext cx="1293840" cy="1503000"/>
              <a:chOff x="3276720" y="5105520"/>
              <a:chExt cx="1293840" cy="1503000"/>
            </a:xfrm>
          </p:grpSpPr>
          <p:sp>
            <p:nvSpPr>
              <p:cNvPr id="224" name=""/>
              <p:cNvSpPr/>
              <p:nvPr/>
            </p:nvSpPr>
            <p:spPr>
              <a:xfrm>
                <a:off x="3638880" y="5105520"/>
                <a:ext cx="720720" cy="971280"/>
              </a:xfrm>
              <a:prstGeom prst="can">
                <a:avLst>
                  <a:gd name="adj" fmla="val 31537"/>
                </a:avLst>
              </a:prstGeom>
              <a:gradFill rotWithShape="0">
                <a:gsLst>
                  <a:gs pos="0">
                    <a:srgbClr val="454b61"/>
                  </a:gs>
                  <a:gs pos="50000">
                    <a:srgbClr val="00cc99">
                      <a:alpha val="59215"/>
                    </a:srgbClr>
                  </a:gs>
                  <a:gs pos="100000">
                    <a:srgbClr val="454b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6200000">
                <a:off x="3620160" y="5658120"/>
                <a:ext cx="606600" cy="12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EC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i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1141560" y="5105520"/>
              <a:ext cx="1295280" cy="1501560"/>
              <a:chOff x="1141560" y="5105520"/>
              <a:chExt cx="1295280" cy="1501560"/>
            </a:xfrm>
          </p:grpSpPr>
          <p:sp>
            <p:nvSpPr>
              <p:cNvPr id="227" name=""/>
              <p:cNvSpPr/>
              <p:nvPr/>
            </p:nvSpPr>
            <p:spPr>
              <a:xfrm>
                <a:off x="1506600" y="5105520"/>
                <a:ext cx="720360" cy="971280"/>
              </a:xfrm>
              <a:prstGeom prst="can">
                <a:avLst>
                  <a:gd name="adj" fmla="val 31537"/>
                </a:avLst>
              </a:prstGeom>
              <a:gradFill rotWithShape="0">
                <a:gsLst>
                  <a:gs pos="0">
                    <a:srgbClr val="454b61"/>
                  </a:gs>
                  <a:gs pos="50000">
                    <a:srgbClr val="00cc99">
                      <a:alpha val="59215"/>
                    </a:srgbClr>
                  </a:gs>
                  <a:gs pos="100000">
                    <a:srgbClr val="454b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6200000">
                <a:off x="1485720" y="5655960"/>
                <a:ext cx="60660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i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0" y="5105520"/>
              <a:ext cx="1295280" cy="1504800"/>
              <a:chOff x="0" y="5105520"/>
              <a:chExt cx="1295280" cy="1504800"/>
            </a:xfrm>
          </p:grpSpPr>
          <p:sp>
            <p:nvSpPr>
              <p:cNvPr id="230" name=""/>
              <p:cNvSpPr/>
              <p:nvPr/>
            </p:nvSpPr>
            <p:spPr>
              <a:xfrm>
                <a:off x="361800" y="5105520"/>
                <a:ext cx="720360" cy="971280"/>
              </a:xfrm>
              <a:prstGeom prst="can">
                <a:avLst>
                  <a:gd name="adj" fmla="val 31537"/>
                </a:avLst>
              </a:prstGeom>
              <a:gradFill rotWithShape="0">
                <a:gsLst>
                  <a:gs pos="0">
                    <a:srgbClr val="454b61"/>
                  </a:gs>
                  <a:gs pos="50000">
                    <a:srgbClr val="00cc99">
                      <a:alpha val="59215"/>
                    </a:srgbClr>
                  </a:gs>
                  <a:gs pos="100000">
                    <a:srgbClr val="454b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6200000">
                <a:off x="344160" y="5659200"/>
                <a:ext cx="60660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entral Ba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i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V="1">
              <a:off x="685800" y="4495680"/>
              <a:ext cx="0" cy="60984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1828800" y="4495680"/>
              <a:ext cx="0" cy="60984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895480" y="4495680"/>
              <a:ext cx="0" cy="60984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962520" y="4495680"/>
              <a:ext cx="0" cy="60984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029200" y="4495680"/>
              <a:ext cx="0" cy="60984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256360" y="3352680"/>
            <a:ext cx="3924000" cy="1155960"/>
            <a:chOff x="5256360" y="3352680"/>
            <a:chExt cx="3924000" cy="1155960"/>
          </a:xfrm>
        </p:grpSpPr>
        <p:sp>
          <p:nvSpPr>
            <p:cNvPr id="238" name=""/>
            <p:cNvSpPr/>
            <p:nvPr/>
          </p:nvSpPr>
          <p:spPr>
            <a:xfrm>
              <a:off x="7696080" y="3886200"/>
              <a:ext cx="1219320" cy="45720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Key family</a:t>
              </a:r>
              <a:br>
                <a:rPr sz="1600"/>
              </a:b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meta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6360" y="3352680"/>
              <a:ext cx="39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arch, Retrieve, Transfo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34120" y="3429000"/>
              <a:ext cx="3779640" cy="10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2200" y="3886200"/>
              <a:ext cx="1219320" cy="45720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Data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B42D6-69D0-438C-9705-08E7098BB981}" type="slidenum">
              <a:t>20</a:t>
            </a:fld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057400" y="304920"/>
            <a:ext cx="80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Web Services for statistical information exchange and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6960" y="2349360"/>
            <a:ext cx="600120" cy="687600"/>
          </a:xfrm>
          <a:prstGeom prst="can">
            <a:avLst>
              <a:gd name="adj" fmla="val 31537"/>
            </a:avLst>
          </a:prstGeom>
          <a:solidFill>
            <a:srgbClr val="c0c0c0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8400" y="4481640"/>
            <a:ext cx="601920" cy="701640"/>
          </a:xfrm>
          <a:prstGeom prst="can">
            <a:avLst>
              <a:gd name="adj" fmla="val 31537"/>
            </a:avLst>
          </a:prstGeom>
          <a:solidFill>
            <a:srgbClr val="c0c0c0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>
            <a:alphaModFix amt="78000"/>
          </a:blip>
          <a:stretch/>
        </p:blipFill>
        <p:spPr>
          <a:xfrm>
            <a:off x="4068720" y="422100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705320" y="2062080"/>
            <a:ext cx="393480" cy="1271520"/>
          </a:xfrm>
          <a:prstGeom prst="rect">
            <a:avLst/>
          </a:prstGeom>
          <a:solidFill>
            <a:srgbClr val="c0c0c0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Web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ower"/>
          <p:cNvSpPr/>
          <p:nvPr/>
        </p:nvSpPr>
        <p:spPr>
          <a:xfrm>
            <a:off x="7740720" y="4294080"/>
            <a:ext cx="561960" cy="863640"/>
          </a:xfrm>
          <a:prstGeom prst="pie">
            <a:avLst/>
          </a:prstGeom>
          <a:solidFill>
            <a:srgbClr val="c0c0c0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7640" y="1413000"/>
            <a:ext cx="2026440" cy="307080"/>
          </a:xfrm>
          <a:prstGeom prst="rect">
            <a:avLst/>
          </a:prstGeom>
          <a:solidFill>
            <a:srgbClr val="c0c0c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rvice/Data 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43360" y="3098880"/>
            <a:ext cx="1627200" cy="766800"/>
          </a:xfrm>
          <a:prstGeom prst="rect">
            <a:avLst/>
          </a:prstGeom>
          <a:solidFill>
            <a:srgbClr val="c0c0c0">
              <a:alpha val="78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37080" y="2565360"/>
            <a:ext cx="2016000" cy="1508040"/>
          </a:xfrm>
          <a:prstGeom prst="rect">
            <a:avLst/>
          </a:prstGeom>
          <a:solidFill>
            <a:srgbClr val="c0c0c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65600" y="2637000"/>
            <a:ext cx="1798560" cy="1330200"/>
          </a:xfrm>
          <a:prstGeom prst="rect">
            <a:avLst/>
          </a:prstGeom>
          <a:solidFill>
            <a:srgbClr val="c0c0c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5082840" y="3111120"/>
            <a:ext cx="397080" cy="304560"/>
          </a:xfrm>
          <a:prstGeom prst="rect">
            <a:avLst/>
          </a:prstGeom>
          <a:solidFill>
            <a:srgbClr val="c0c0c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4505040" y="2200680"/>
            <a:ext cx="454680" cy="1235160"/>
          </a:xfrm>
          <a:prstGeom prst="rect">
            <a:avLst/>
          </a:prstGeom>
          <a:solidFill>
            <a:srgbClr val="c0c0c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05320" y="4149720"/>
            <a:ext cx="393480" cy="1271520"/>
          </a:xfrm>
          <a:prstGeom prst="rect">
            <a:avLst/>
          </a:prstGeom>
          <a:solidFill>
            <a:srgbClr val="c0c0c0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Web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17320" y="1413000"/>
            <a:ext cx="2181600" cy="307080"/>
          </a:xfrm>
          <a:prstGeom prst="rect">
            <a:avLst/>
          </a:prstGeom>
          <a:solidFill>
            <a:srgbClr val="c0c0c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rvice/Data Consu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05040" y="1413000"/>
            <a:ext cx="1954800" cy="307080"/>
          </a:xfrm>
          <a:prstGeom prst="rect">
            <a:avLst/>
          </a:prstGeom>
          <a:solidFill>
            <a:srgbClr val="c0c0c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rvice/Data Lo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ower"/>
          <p:cNvSpPr/>
          <p:nvPr/>
        </p:nvSpPr>
        <p:spPr>
          <a:xfrm>
            <a:off x="7956720" y="4510080"/>
            <a:ext cx="561960" cy="863640"/>
          </a:xfrm>
          <a:prstGeom prst="pie">
            <a:avLst/>
          </a:prstGeom>
          <a:solidFill>
            <a:srgbClr val="c0c0c0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11760" y="4657680"/>
            <a:ext cx="420840" cy="50472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11760" y="3710160"/>
            <a:ext cx="420840" cy="50472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11760" y="2700360"/>
            <a:ext cx="420840" cy="50472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11760" y="1752480"/>
            <a:ext cx="420840" cy="50508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57400" y="4657680"/>
            <a:ext cx="420840" cy="50472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57400" y="3710160"/>
            <a:ext cx="420840" cy="50472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1752480"/>
            <a:ext cx="420840" cy="50508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2700360"/>
            <a:ext cx="420840" cy="50472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56200" y="3141720"/>
            <a:ext cx="842760" cy="757080"/>
          </a:xfrm>
          <a:custGeom>
            <a:avLst/>
            <a:gdLst>
              <a:gd name="textAreaLeft" fmla="*/ 192240 w 842760"/>
              <a:gd name="textAreaRight" fmla="*/ 650520 w 842760"/>
              <a:gd name="textAreaTop" fmla="*/ 172800 h 757080"/>
              <a:gd name="textAreaBottom" fmla="*/ 584280 h 75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332080" y="3773520"/>
            <a:ext cx="1965240" cy="120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401920" y="3521160"/>
            <a:ext cx="1895400" cy="44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01920" y="2952720"/>
            <a:ext cx="1895400" cy="37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01920" y="2068560"/>
            <a:ext cx="2104920" cy="11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788000" y="2068560"/>
            <a:ext cx="1893960" cy="120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857840" y="3016080"/>
            <a:ext cx="1893960" cy="37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27680" y="3584520"/>
            <a:ext cx="1754280" cy="37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3710160"/>
            <a:ext cx="1963800" cy="119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51800" y="4782960"/>
            <a:ext cx="422280" cy="50508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51800" y="3836880"/>
            <a:ext cx="422280" cy="50508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51800" y="2825640"/>
            <a:ext cx="422280" cy="50508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51800" y="1879560"/>
            <a:ext cx="422280" cy="50472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92920" y="4910040"/>
            <a:ext cx="420840" cy="50508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92920" y="3962520"/>
            <a:ext cx="420840" cy="50472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92920" y="2952720"/>
            <a:ext cx="420840" cy="50472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92920" y="2004840"/>
            <a:ext cx="420840" cy="50508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ower"/>
          <p:cNvSpPr/>
          <p:nvPr/>
        </p:nvSpPr>
        <p:spPr>
          <a:xfrm>
            <a:off x="7746840" y="2577960"/>
            <a:ext cx="561960" cy="863640"/>
          </a:xfrm>
          <a:prstGeom prst="pie">
            <a:avLst/>
          </a:prstGeom>
          <a:solidFill>
            <a:srgbClr val="c0c0c0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ower"/>
          <p:cNvSpPr/>
          <p:nvPr/>
        </p:nvSpPr>
        <p:spPr>
          <a:xfrm>
            <a:off x="7962840" y="2793960"/>
            <a:ext cx="561960" cy="863640"/>
          </a:xfrm>
          <a:prstGeom prst="pie">
            <a:avLst/>
          </a:prstGeom>
          <a:solidFill>
            <a:srgbClr val="c0c0c0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36BB2-B286-4566-8E4A-0E11C4FE0DA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8064360" cy="581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C616-11FF-46E6-8BF6-5268D1ACE04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828720" y="1125360"/>
            <a:ext cx="7920000" cy="570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8019B-089D-41FC-A72A-D25B4CCEC21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797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81080" y="138240"/>
            <a:ext cx="8781840" cy="658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57F8-CBA0-44C0-B1AE-4AE746CD44D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797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81080" y="138240"/>
            <a:ext cx="8781840" cy="658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B065-51B0-4B5E-B00E-C39195C4B65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797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81080" y="138240"/>
            <a:ext cx="8781840" cy="658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3AA19-5211-41CA-BA8A-E1C918032A6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06000" y="380520"/>
            <a:ext cx="801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Selecting Data Category to Search</a:t>
            </a:r>
            <a:r>
              <a:rPr b="0" lang="de-CH" sz="2000" spc="-1" strike="noStrike">
                <a:solidFill>
                  <a:srgbClr val="3333cc"/>
                </a:solidFill>
                <a:latin typeface="Arial"/>
              </a:rPr>
              <a:t> (Demo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066680" y="1257480"/>
            <a:ext cx="746784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F9E05-F8E0-4A22-94B8-DC04AD679AF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590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sults of Registry Search – Comparison View (Demo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900000" y="12193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E8CE-22AF-4435-87FA-B6B7A6D0EBD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52280" y="99072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duced reporting burden – via common formats adopted by international organisations for data and metadata exchang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spcAft>
                <a:spcPts val="27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ore user-friendly access when publishing national data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d metadata on the web - via global standards for data formats, catalogs/registries and associ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nhanced opportunity for navigation, discovery and comparative data analysis – via global guidelines for metadata vocabularies and repositories linked to statistical information in common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600"/>
              </a:spcBef>
              <a:spcAft>
                <a:spcPts val="300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an replicate these models and tools for statistical information systems at national level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54320" y="63324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ticipated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784A-0B4A-44AD-B81C-55F648C59281}" type="slidenum">
              <a:t>29</a:t>
            </a:fld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407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2999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change of statistical data is still complex, resource intensive, and expensiv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2999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ous international organisations have individual approaches for their constituenci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2999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certainties about how to proceed with new technologies (XML, web services …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3580920" y="609480"/>
            <a:ext cx="51958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0BA6-1C60-4163-890F-7948C937F41B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5327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00000"/>
              </a:lnSpc>
              <a:spcAft>
                <a:spcPts val="1500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ransition from projects to SDMX deliverables, on a learn-by-doing basi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237600" indent="-91440">
              <a:lnSpc>
                <a:spcPct val="100000"/>
              </a:lnSpc>
              <a:spcAft>
                <a:spcPts val="1375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metadata standards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lvl="1" marL="237600" indent="-91440">
              <a:lnSpc>
                <a:spcPct val="100000"/>
              </a:lnSpc>
              <a:spcAft>
                <a:spcPts val="1375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technical standards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Aft>
                <a:spcPts val="1500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ilot for Joint External Debt Hub (involving cost sharing by participating international organisations)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237600" indent="-91440">
              <a:lnSpc>
                <a:spcPct val="100000"/>
              </a:lnSpc>
              <a:spcAft>
                <a:spcPts val="1500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 implement initial version 1.0 standard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237600" indent="-91440">
              <a:lnSpc>
                <a:spcPct val="100000"/>
              </a:lnSpc>
              <a:spcAft>
                <a:spcPts val="1500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 implement re-usable and freely available tools and registries to provide the basis for capacity building, fostering the adoption of SDMX standard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237600" indent="-91440">
              <a:lnSpc>
                <a:spcPct val="100000"/>
              </a:lnSpc>
              <a:spcAft>
                <a:spcPts val="1500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 implement a pilot for creditor and debtor statistics based on these standards and tool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39920" y="633240"/>
            <a:ext cx="4527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nvisaged next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9FD7C-817D-4351-90E6-814746E22EE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122720" y="6332400"/>
            <a:ext cx="814320" cy="366840"/>
          </a:xfrm>
          <a:prstGeom prst="leftRightArrow">
            <a:avLst>
              <a:gd name="adj1" fmla="val 50000"/>
              <a:gd name="adj2" fmla="val 441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3040" y="289548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76360" y="209520"/>
            <a:ext cx="6446880" cy="20448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06800" y="18900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DM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8360" y="289548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62360" y="3943440"/>
            <a:ext cx="1746360" cy="20764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57600" y="4410000"/>
            <a:ext cx="20574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si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formance 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 Projects / Activ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ining / Capacity Bui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and Intellectual Proper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cts/Liais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-501480" y="485892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ional Ac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4720" y="2459160"/>
            <a:ext cx="23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SD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Metadata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057400" y="289548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40080" y="289548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1026000" y="4861800"/>
            <a:ext cx="31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tadata Common  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2120" y="289548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-356040" y="48114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lance of Pa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289548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380160" y="47383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Deb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20964600">
            <a:off x="1488600" y="4635360"/>
            <a:ext cx="559080" cy="509760"/>
          </a:xfrm>
          <a:prstGeom prst="rightArrow">
            <a:avLst>
              <a:gd name="adj1" fmla="val 50000"/>
              <a:gd name="adj2" fmla="val 274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24360" y="3048120"/>
            <a:ext cx="863640" cy="3671640"/>
          </a:xfrm>
          <a:prstGeom prst="cube">
            <a:avLst>
              <a:gd name="adj" fmla="val 62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2000" y="307008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00720" y="306864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4876560" y="4810680"/>
            <a:ext cx="19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formatio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5699160" y="484452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51280" y="814320"/>
            <a:ext cx="1584360" cy="15130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35600" y="1117440"/>
            <a:ext cx="12571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national Sponsoring Instit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5108040" y="4795200"/>
            <a:ext cx="20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mats (EDI, X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560" y="1814400"/>
            <a:ext cx="2060280" cy="85896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gned Subject-Matter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institutions and other fora adopting SDMX standar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8120" y="2729880"/>
            <a:ext cx="586800" cy="437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80000" y="2427120"/>
            <a:ext cx="1676160" cy="144324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443240"/>
              <a:gd name="textAreaBottom" fmla="*/ 1443600 h 1443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3280" y="4060800"/>
            <a:ext cx="14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www.sdmx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-1010160" y="482724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etary and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96040" y="1547640"/>
            <a:ext cx="1801800" cy="104148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gned Implementation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institutions and other fora adopting SDMX standar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92520" y="288756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708120" y="4793040"/>
            <a:ext cx="301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e Subject-Matter Dom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73280" y="4653000"/>
            <a:ext cx="594000" cy="433440"/>
          </a:xfrm>
          <a:prstGeom prst="rightArrow">
            <a:avLst>
              <a:gd name="adj1" fmla="val 50000"/>
              <a:gd name="adj2" fmla="val 342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0800000">
            <a:off x="5219640" y="4646520"/>
            <a:ext cx="504720" cy="439920"/>
          </a:xfrm>
          <a:prstGeom prst="rightArrow">
            <a:avLst>
              <a:gd name="adj1" fmla="val 50000"/>
              <a:gd name="adj2" fmla="val 286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/>
          <p:nvPr/>
        </p:nvCxnSpPr>
        <p:spPr>
          <a:xfrm flipH="1" flipV="1" rot="5400000">
            <a:off x="2280960" y="4484880"/>
            <a:ext cx="554760" cy="3594600"/>
          </a:xfrm>
          <a:prstGeom prst="curvedConnector5">
            <a:avLst>
              <a:gd name="adj1" fmla="val -41233"/>
              <a:gd name="adj2" fmla="val 50000"/>
              <a:gd name="adj3" fmla="val -41233"/>
            </a:avLst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</p:cxnSp>
      <p:cxnSp>
        <p:nvCxnSpPr>
          <p:cNvPr id="339" name=""/>
          <p:cNvCxnSpPr/>
          <p:nvPr/>
        </p:nvCxnSpPr>
        <p:spPr>
          <a:xfrm flipH="1" flipV="1">
            <a:off x="4911480" y="6443280"/>
            <a:ext cx="319680" cy="84960"/>
          </a:xfrm>
          <a:prstGeom prst="straightConnector1">
            <a:avLst/>
          </a:prstGeom>
          <a:ln w="0">
            <a:noFill/>
          </a:ln>
        </p:spPr>
      </p:cxnSp>
      <p:sp>
        <p:nvSpPr>
          <p:cNvPr id="340" name=""/>
          <p:cNvSpPr/>
          <p:nvPr/>
        </p:nvSpPr>
        <p:spPr>
          <a:xfrm>
            <a:off x="4049640" y="6338880"/>
            <a:ext cx="100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84520" y="544356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21154200">
            <a:off x="1190520" y="475596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21580200">
            <a:off x="4932360" y="472428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21580200">
            <a:off x="3203640" y="472428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35640" y="2593800"/>
            <a:ext cx="23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SD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Technical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8880" y="3171960"/>
            <a:ext cx="95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67640" y="3290760"/>
            <a:ext cx="98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39120" y="328464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26160" y="317196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16200000">
            <a:off x="1596240" y="4776120"/>
            <a:ext cx="26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e Statistical Concept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21440" y="3070080"/>
            <a:ext cx="863640" cy="3672000"/>
          </a:xfrm>
          <a:prstGeom prst="cube">
            <a:avLst>
              <a:gd name="adj" fmla="val 6238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08720" y="3070080"/>
            <a:ext cx="863640" cy="3672000"/>
          </a:xfrm>
          <a:prstGeom prst="cube">
            <a:avLst>
              <a:gd name="adj" fmla="val 6238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96360" y="3070080"/>
            <a:ext cx="863280" cy="3672000"/>
          </a:xfrm>
          <a:prstGeom prst="cube">
            <a:avLst>
              <a:gd name="adj" fmla="val 6238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85080" y="3068640"/>
            <a:ext cx="863640" cy="3672000"/>
          </a:xfrm>
          <a:prstGeom prst="cube">
            <a:avLst>
              <a:gd name="adj" fmla="val 6238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172360" y="3068640"/>
            <a:ext cx="863640" cy="3672000"/>
          </a:xfrm>
          <a:prstGeom prst="cube">
            <a:avLst>
              <a:gd name="adj" fmla="val 6238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5950800" y="4969440"/>
            <a:ext cx="247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oint External Debt H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11803800">
            <a:off x="6587640" y="4723560"/>
            <a:ext cx="444600" cy="446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1104600">
            <a:off x="6282720" y="479736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7411320" y="4897800"/>
            <a:ext cx="19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ECD.St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7270560" y="492228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IS Data 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16200000">
            <a:off x="7068240" y="4939560"/>
            <a:ext cx="139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67640" y="2637000"/>
            <a:ext cx="36036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6980760" y="49816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W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rot="10800000">
            <a:off x="4642560" y="5976360"/>
            <a:ext cx="3482280" cy="837360"/>
          </a:xfrm>
          <a:prstGeom prst="curvedConnector2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7524720" y="3284640"/>
            <a:ext cx="95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DF37-C318-404F-8820-FA2229F04AA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 rot="2010600">
            <a:off x="1295280" y="5638320"/>
            <a:ext cx="1067040" cy="4572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14920" y="2658960"/>
            <a:ext cx="1746000" cy="20764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56160" y="3125880"/>
            <a:ext cx="20574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si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formance 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 Projects / Activ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ining / Capacity Bui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and Intellectual Proper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cts/Liais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67040" y="1197000"/>
            <a:ext cx="23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SD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Metadata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5960" y="1611360"/>
            <a:ext cx="863280" cy="3672000"/>
          </a:xfrm>
          <a:prstGeom prst="cube">
            <a:avLst>
              <a:gd name="adj" fmla="val 62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38280" y="161136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1024200" y="3577680"/>
            <a:ext cx="31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tadata Common  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065240" y="161136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378360" y="34545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Deb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20964600">
            <a:off x="1487160" y="3351240"/>
            <a:ext cx="558720" cy="509400"/>
          </a:xfrm>
          <a:prstGeom prst="rightArrow">
            <a:avLst>
              <a:gd name="adj1" fmla="val 50000"/>
              <a:gd name="adj2" fmla="val 2742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42080" y="176364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70760" y="1763640"/>
            <a:ext cx="863280" cy="3672000"/>
          </a:xfrm>
          <a:prstGeom prst="cube">
            <a:avLst>
              <a:gd name="adj" fmla="val 62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176364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4925880" y="3611160"/>
            <a:ext cx="21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16200000">
            <a:off x="5896800" y="367164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16200000">
            <a:off x="5225760" y="367308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s (EDI,X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40560" y="2732040"/>
            <a:ext cx="14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www.sdmx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5953400">
            <a:off x="3682800" y="4393800"/>
            <a:ext cx="863640" cy="3657600"/>
          </a:xfrm>
          <a:prstGeom prst="cube">
            <a:avLst>
              <a:gd name="adj" fmla="val 6238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21379800">
            <a:off x="3016800" y="626256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Debt Joint 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90720" y="160344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16200000">
            <a:off x="706320" y="3508560"/>
            <a:ext cx="301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e Subject-Matter Dom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54400" y="3368520"/>
            <a:ext cx="593640" cy="433440"/>
          </a:xfrm>
          <a:prstGeom prst="rightArrow">
            <a:avLst>
              <a:gd name="adj1" fmla="val 50000"/>
              <a:gd name="adj2" fmla="val 342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10800000">
            <a:off x="5385960" y="3362040"/>
            <a:ext cx="451080" cy="439560"/>
          </a:xfrm>
          <a:prstGeom prst="rightArrow">
            <a:avLst>
              <a:gd name="adj1" fmla="val 50000"/>
              <a:gd name="adj2" fmla="val 2565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 flipH="1" flipV="1">
            <a:off x="4909320" y="5158800"/>
            <a:ext cx="320040" cy="84600"/>
          </a:xfrm>
          <a:prstGeom prst="straightConnector1">
            <a:avLst/>
          </a:prstGeom>
          <a:ln w="0">
            <a:noFill/>
          </a:ln>
        </p:spPr>
      </p:cxnSp>
      <p:sp>
        <p:nvSpPr>
          <p:cNvPr id="390" name=""/>
          <p:cNvSpPr/>
          <p:nvPr/>
        </p:nvSpPr>
        <p:spPr>
          <a:xfrm>
            <a:off x="3583080" y="41590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21154200">
            <a:off x="1189080" y="347148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21580200">
            <a:off x="5092560" y="3440160"/>
            <a:ext cx="109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21580200">
            <a:off x="3003480" y="345132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54520" y="1309680"/>
            <a:ext cx="23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SD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Technical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01120" y="2038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200000">
            <a:off x="1594800" y="3492000"/>
            <a:ext cx="26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e Statistical Concept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1964400">
            <a:off x="1340640" y="574488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input /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2576400">
            <a:off x="1981080" y="5410080"/>
            <a:ext cx="1067040" cy="4572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2639400">
            <a:off x="2514600" y="5410080"/>
            <a:ext cx="1066680" cy="457200"/>
          </a:xfrm>
          <a:prstGeom prst="leftRightArrow">
            <a:avLst>
              <a:gd name="adj1" fmla="val 50000"/>
              <a:gd name="adj2" fmla="val 464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2506200">
            <a:off x="2026080" y="551628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input /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2653800">
            <a:off x="2483280" y="548604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input /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7646400">
            <a:off x="5410080" y="5333760"/>
            <a:ext cx="1066680" cy="457200"/>
          </a:xfrm>
          <a:prstGeom prst="leftRightArrow">
            <a:avLst>
              <a:gd name="adj1" fmla="val 50000"/>
              <a:gd name="adj2" fmla="val 464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7646400">
            <a:off x="5029200" y="5105160"/>
            <a:ext cx="1066680" cy="457200"/>
          </a:xfrm>
          <a:prstGeom prst="leftRightArrow">
            <a:avLst>
              <a:gd name="adj1" fmla="val 50000"/>
              <a:gd name="adj2" fmla="val 464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7646400">
            <a:off x="5715000" y="5562360"/>
            <a:ext cx="1066680" cy="457200"/>
          </a:xfrm>
          <a:prstGeom prst="leftRightArrow">
            <a:avLst>
              <a:gd name="adj1" fmla="val 50000"/>
              <a:gd name="adj2" fmla="val 464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18293400">
            <a:off x="4999320" y="520920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use /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2296800">
            <a:off x="2971800" y="5257800"/>
            <a:ext cx="1066680" cy="457200"/>
          </a:xfrm>
          <a:prstGeom prst="leftRightArrow">
            <a:avLst>
              <a:gd name="adj1" fmla="val 50000"/>
              <a:gd name="adj2" fmla="val 464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2506800">
            <a:off x="3016800" y="540972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input /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8000" y="127080"/>
            <a:ext cx="4038480" cy="96840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gned Subject-Matter Acti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 Statistical Commiss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-Agency Task Force on Finance Statistic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institutions and other fora adopting SDMX standar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99360" y="1123200"/>
            <a:ext cx="587160" cy="43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00800" y="5721480"/>
            <a:ext cx="2666880" cy="9543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gned Implementatio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-IMF-OECD-World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institutions and other fora adopting SDMX standar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5668200" y="6539400"/>
            <a:ext cx="77220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84720" y="404640"/>
            <a:ext cx="4800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3333cc"/>
                </a:solidFill>
                <a:latin typeface="Arial"/>
              </a:rPr>
              <a:t>SDMX Standards-setting (Version 1.0) - Joint External Debt Hub Project: Overview</a:t>
            </a:r>
            <a:r>
              <a:rPr b="1" lang="de-CH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35520" y="19051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8293400">
            <a:off x="5380560" y="540900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use /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8293400">
            <a:off x="5685120" y="563760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use /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468D-8EBE-436E-9098-6C80B766192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5327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0" algn="ctr">
              <a:lnSpc>
                <a:spcPct val="100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109440" indent="0" algn="ctr">
              <a:lnSpc>
                <a:spcPct val="100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33cc"/>
                </a:solidFill>
                <a:latin typeface="Arial"/>
              </a:rPr>
              <a:t>More about SDMX to follow in Working Paper 7 :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109440" indent="0" algn="ctr">
              <a:lnSpc>
                <a:spcPct val="100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109440" indent="0" algn="ctr">
              <a:lnSpc>
                <a:spcPct val="100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Inter-agency cooperation for the dissemiantion and exchange of standard metadata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109440" indent="0" algn="ctr">
              <a:lnSpc>
                <a:spcPct val="100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109440" indent="0" algn="ctr">
              <a:lnSpc>
                <a:spcPct val="100000"/>
              </a:lnSpc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ww.sdmx.or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139920" y="633240"/>
            <a:ext cx="4527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318F3-069E-45A2-AC94-FF2B4FC2F611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6680" y="1371600"/>
            <a:ext cx="4859280" cy="990720"/>
            <a:chOff x="1066680" y="1371600"/>
            <a:chExt cx="4859280" cy="990720"/>
          </a:xfrm>
        </p:grpSpPr>
        <p:sp>
          <p:nvSpPr>
            <p:cNvPr id="59" name=""/>
            <p:cNvSpPr/>
            <p:nvPr/>
          </p:nvSpPr>
          <p:spPr>
            <a:xfrm>
              <a:off x="1066680" y="1371600"/>
              <a:ext cx="3786480" cy="977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ational Organisations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ional Organisations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933800" y="1371600"/>
              <a:ext cx="992160" cy="990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ist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141960" y="1461960"/>
            <a:ext cx="563760" cy="540000"/>
            <a:chOff x="6141960" y="1461960"/>
            <a:chExt cx="563760" cy="540000"/>
          </a:xfrm>
        </p:grpSpPr>
        <p:sp>
          <p:nvSpPr>
            <p:cNvPr id="62" name=""/>
            <p:cNvSpPr/>
            <p:nvPr/>
          </p:nvSpPr>
          <p:spPr>
            <a:xfrm>
              <a:off x="6464160" y="1461960"/>
              <a:ext cx="241560" cy="540000"/>
            </a:xfrm>
            <a:custGeom>
              <a:avLst/>
              <a:gdLst>
                <a:gd name="textAreaLeft" fmla="*/ 32400 w 241560"/>
                <a:gd name="textAreaRight" fmla="*/ 209160 w 241560"/>
                <a:gd name="textAreaTop" fmla="*/ 94320 h 540000"/>
                <a:gd name="textAreaBottom" fmla="*/ 39168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6141960" y="1461960"/>
              <a:ext cx="241200" cy="540000"/>
            </a:xfrm>
            <a:custGeom>
              <a:avLst/>
              <a:gdLst>
                <a:gd name="textAreaLeft" fmla="*/ 32040 w 241200"/>
                <a:gd name="textAreaRight" fmla="*/ 209160 w 241200"/>
                <a:gd name="textAreaTop" fmla="*/ 94320 h 540000"/>
                <a:gd name="textAreaBottom" fmla="*/ 39168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066680" y="5638680"/>
            <a:ext cx="4859280" cy="990720"/>
            <a:chOff x="1066680" y="5638680"/>
            <a:chExt cx="4859280" cy="990720"/>
          </a:xfrm>
        </p:grpSpPr>
        <p:sp>
          <p:nvSpPr>
            <p:cNvPr id="65" name=""/>
            <p:cNvSpPr/>
            <p:nvPr/>
          </p:nvSpPr>
          <p:spPr>
            <a:xfrm>
              <a:off x="1066680" y="5638680"/>
              <a:ext cx="3786480" cy="978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nks, Corporat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vidual Households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33800" y="5638680"/>
              <a:ext cx="992160" cy="990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-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on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141960" y="5729040"/>
            <a:ext cx="563760" cy="540000"/>
            <a:chOff x="6141960" y="5729040"/>
            <a:chExt cx="563760" cy="540000"/>
          </a:xfrm>
        </p:grpSpPr>
        <p:sp>
          <p:nvSpPr>
            <p:cNvPr id="68" name=""/>
            <p:cNvSpPr/>
            <p:nvPr/>
          </p:nvSpPr>
          <p:spPr>
            <a:xfrm>
              <a:off x="6464160" y="5729400"/>
              <a:ext cx="241560" cy="539640"/>
            </a:xfrm>
            <a:custGeom>
              <a:avLst/>
              <a:gdLst>
                <a:gd name="textAreaLeft" fmla="*/ 32400 w 241560"/>
                <a:gd name="textAreaRight" fmla="*/ 209160 w 241560"/>
                <a:gd name="textAreaTop" fmla="*/ 94320 h 539640"/>
                <a:gd name="textAreaBottom" fmla="*/ 39132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41960" y="5728680"/>
              <a:ext cx="241200" cy="539640"/>
            </a:xfrm>
            <a:custGeom>
              <a:avLst/>
              <a:gdLst>
                <a:gd name="textAreaLeft" fmla="*/ 32040 w 241200"/>
                <a:gd name="textAreaRight" fmla="*/ 209160 w 241200"/>
                <a:gd name="textAreaTop" fmla="*/ 94320 h 539640"/>
                <a:gd name="textAreaBottom" fmla="*/ 39132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066680" y="3505320"/>
            <a:ext cx="4859280" cy="990360"/>
            <a:chOff x="1066680" y="3505320"/>
            <a:chExt cx="4859280" cy="990360"/>
          </a:xfrm>
        </p:grpSpPr>
        <p:sp>
          <p:nvSpPr>
            <p:cNvPr id="71" name=""/>
            <p:cNvSpPr/>
            <p:nvPr/>
          </p:nvSpPr>
          <p:spPr>
            <a:xfrm>
              <a:off x="1066680" y="3505320"/>
              <a:ext cx="3786480" cy="977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Statistical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sation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33800" y="3505320"/>
              <a:ext cx="992160" cy="990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ist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141960" y="3595320"/>
            <a:ext cx="563760" cy="540000"/>
            <a:chOff x="6141960" y="3595320"/>
            <a:chExt cx="563760" cy="540000"/>
          </a:xfrm>
        </p:grpSpPr>
        <p:sp>
          <p:nvSpPr>
            <p:cNvPr id="74" name=""/>
            <p:cNvSpPr/>
            <p:nvPr/>
          </p:nvSpPr>
          <p:spPr>
            <a:xfrm>
              <a:off x="6464160" y="3595680"/>
              <a:ext cx="241560" cy="539640"/>
            </a:xfrm>
            <a:custGeom>
              <a:avLst/>
              <a:gdLst>
                <a:gd name="textAreaLeft" fmla="*/ 32400 w 241560"/>
                <a:gd name="textAreaRight" fmla="*/ 209160 w 241560"/>
                <a:gd name="textAreaTop" fmla="*/ 94320 h 539640"/>
                <a:gd name="textAreaBottom" fmla="*/ 39132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141960" y="3594960"/>
              <a:ext cx="241200" cy="539640"/>
            </a:xfrm>
            <a:custGeom>
              <a:avLst/>
              <a:gdLst>
                <a:gd name="textAreaLeft" fmla="*/ 32040 w 241200"/>
                <a:gd name="textAreaRight" fmla="*/ 209160 w 241200"/>
                <a:gd name="textAreaTop" fmla="*/ 94320 h 539640"/>
                <a:gd name="textAreaBottom" fmla="*/ 39132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rot="16200000">
            <a:off x="-1903320" y="3652920"/>
            <a:ext cx="4876920" cy="459720"/>
          </a:xfrm>
          <a:prstGeom prst="rect">
            <a:avLst/>
          </a:prstGeom>
          <a:solidFill>
            <a:srgbClr val="ccffcc"/>
          </a:solidFill>
          <a:ln w="12600">
            <a:solidFill>
              <a:srgbClr val="99cc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0 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5973480" y="3652920"/>
            <a:ext cx="4876920" cy="459720"/>
          </a:xfrm>
          <a:prstGeom prst="rect">
            <a:avLst/>
          </a:prstGeom>
          <a:solidFill>
            <a:srgbClr val="ccffcc"/>
          </a:solidFill>
          <a:ln w="12600">
            <a:solidFill>
              <a:srgbClr val="99cc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, Search, Nav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1873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z.or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hub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633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x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4129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y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48120" y="2361960"/>
            <a:ext cx="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1980720" y="2361960"/>
            <a:ext cx="83844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200400" y="2361960"/>
            <a:ext cx="91440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048120" y="44956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1980720" y="4495680"/>
            <a:ext cx="83844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200400" y="4495680"/>
            <a:ext cx="9144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91520" y="251460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4572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6477120"/>
            <a:ext cx="838440" cy="152280"/>
          </a:xfrm>
          <a:custGeom>
            <a:avLst/>
            <a:gdLst>
              <a:gd name="textAreaLeft" fmla="*/ 131040 w 838440"/>
              <a:gd name="textAreaRight" fmla="*/ 733680 w 8384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2133720"/>
            <a:ext cx="838440" cy="152280"/>
          </a:xfrm>
          <a:custGeom>
            <a:avLst/>
            <a:gdLst>
              <a:gd name="textAreaLeft" fmla="*/ 131040 w 838440"/>
              <a:gd name="textAreaRight" fmla="*/ 733680 w 8384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4267080"/>
            <a:ext cx="838440" cy="152640"/>
          </a:xfrm>
          <a:custGeom>
            <a:avLst/>
            <a:gdLst>
              <a:gd name="textAreaLeft" fmla="*/ 131040 w 838440"/>
              <a:gd name="textAreaRight" fmla="*/ 733680 w 83844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7400" y="380520"/>
            <a:ext cx="801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de-CH" sz="20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atistical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nformation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uilding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lock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3D0E-9BF7-4543-9BD8-356377ABE2E9}" type="slidenum">
              <a:t>4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885680"/>
            <a:ext cx="8407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stituencies of international organisations have asked for common solution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2999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national organisations are in a position to expand their cooper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2999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T technology seems to offer some ways forward that we should not ignor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962160" y="609480"/>
            <a:ext cx="18428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pportunities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7607-FE32-46AA-828C-6671AD5A2D32}" type="slidenum">
              <a:t>5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1652400"/>
            <a:ext cx="840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Initiative of BIS, ECB, EUROSTAT, IMF, OECD, World Bank and U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“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... to focus on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usiness practices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in the field of statistical information tha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would allow more efficient processes for exchange and sharing of data 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metadata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within the current scope of our collective activities”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Global workshop at IMF, reports to UN Statistical Commission, liaison with international standards community and private sector initiativ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www.sdmx.or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3047760" y="633240"/>
            <a:ext cx="46623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hat is SDMX? (1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3B3B1-A77C-4710-8375-549F1A2BBDF8}" type="slidenum">
              <a:t>6</a:t>
            </a:fld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233360"/>
            <a:ext cx="7343640" cy="550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BF8B-7EA2-4AC5-A2E7-E4BE6AA3865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26920" y="1163520"/>
            <a:ext cx="7901280" cy="569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536B-E12D-45BD-AF6C-D4D7A40BDFB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4360" y="1254240"/>
            <a:ext cx="8064360" cy="570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3126-28C2-4761-BFAF-ACE3D338AF4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3T13:38:43Z</dcterms:created>
  <dc:creator>cbmesmf</dc:creator>
  <dc:description/>
  <dc:language>en-US</dc:language>
  <cp:lastModifiedBy>UNECE</cp:lastModifiedBy>
  <cp:lastPrinted>2001-06-08T16:23:52Z</cp:lastPrinted>
  <dcterms:modified xsi:type="dcterms:W3CDTF">2004-02-09T11:36:06Z</dcterms:modified>
  <cp:revision>316</cp:revision>
  <dc:subject/>
  <dc:title>PowerPoint Presentation</dc:title>
</cp:coreProperties>
</file>